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D0E-6BE7-4D3B-891B-A5F5CF39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80E-33C6-45D5-80B7-73815A4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54A-EF38-47CC-AB12-1F797730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23F-3F07-4410-8540-C5557B70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B65-F21E-46B4-A2E9-8605076F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DCC-49AC-4708-8E08-C867D81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62A-8E85-47FC-955C-CDCCEEB4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C9E-77DB-4469-9948-5987F98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2DE-BDDA-4987-ABF4-B1DD2DAE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A50-2287-4130-B28B-9E8ADF95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652-E144-49AD-9B12-4CC6697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062-1735-49FD-A81B-E3BBF8B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4817-8609-4783-884F-CF79BCBCA0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baidu.com/i?ct=503316480&amp;z=0&amp;tn=baiduimagedetail&amp;word=%BA%EC%C8%FD&#1206;%B2%DD&amp;in=28&amp;cl=0&amp;cm=0&amp;sc=0&amp;lm=-1&amp;pn=27&amp;r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的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ǔ   tǎn  bù  diǎn  shì   lì   jiāo  zhòu  guī     l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  坦  部  典  示  例  娇   昼      规   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2666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2666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2666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2666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962520"/>
            <a:ext cx="1143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奇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487760"/>
            <a:ext cx="129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典型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173560"/>
            <a:ext cx="121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见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5935680"/>
            <a:ext cx="121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艳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3962520"/>
            <a:ext cx="106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花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495680"/>
            <a:ext cx="137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5181480"/>
            <a:ext cx="106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943600"/>
            <a:ext cx="129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962520"/>
            <a:ext cx="914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睡眠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495680"/>
            <a:ext cx="106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拢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5181480"/>
            <a:ext cx="121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趣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867280"/>
            <a:ext cx="99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962520"/>
            <a:ext cx="762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叶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4495680"/>
            <a:ext cx="914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81480"/>
            <a:ext cx="137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姿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5867280"/>
            <a:ext cx="762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114800"/>
            <a:ext cx="68580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4267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蒲公英在入睡时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所有的花瓣都向上竖起来闭合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看上去好像一个黄色的鸡毛帚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500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胡萝卜的花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则垂下来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像正在打瞌睡的小老头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48160" y="358128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248520" y="3581280"/>
            <a:ext cx="2895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晚香玉的花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不但在晚上盛开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而且格外芳香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以此引诱夜间活动的蛾子来替它传授花粉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500720" cy="551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500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植物也有睡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不信由你，植物像人一样也有睡眠，只是在时间和方式上有所不同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让我们来看看植物的叶子是怎样睡眠的。暮春，在田野里花生的叶子，到傍晚的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候，它会轻轻地向上关闭，并垂了下来，这现象表明，夜幕降临，花生的叶子正在打瞌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但植物的叶子要睡眠，花儿也要睡眠。例如蒲公英和胡萝卜的花，它们的睡觉姿态各 不相同：蒲公英的所有花瓣都向上竖起闭合，看上去像一片黄色的鸡毛；胡萝卜的花像打瞌睡的老翁，垂下头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过，植物的睡眠不一定都在晚上，也有在白天进行的。例如夜来香花，它要在夜晚等候飞蛾类昆虫来替它传授花粉，因此晚上盛开，而白天则闭拢睡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植物睡眠是为了减少水份蒸发和热的散失，还可以拒绝害虫的捣乱。故此，植物作息睡眠，是一种自我保护行为，对生长有着重大的意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中写了哪些植物需要睡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它们是怎样睡眠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33520"/>
            <a:ext cx="419112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52280"/>
            <a:ext cx="32767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990720"/>
            <a:ext cx="4003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我会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合欢树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099280" y="2392200"/>
            <a:ext cx="4590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85360" y="2209680"/>
            <a:ext cx="458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537040" y="22860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合欢树、红三叶草等，通过叶子在夜间的闭合，可以减少热量的散失和水分的蒸发，尤其是合欢树，叶子不仅仅在夜晚关闭睡眠，当遭遇大风大雨时，也会逐渐合拢，以防柔嫩的叶片受到暴风雨的摧残。这种保护性的反应是对环境的一种适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02920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934320" y="563868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含羞草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048120"/>
            <a:ext cx="3505320" cy="3124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715000" y="304920"/>
            <a:ext cx="2895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红三叶草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190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百屈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248520" y="152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花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4419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64832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5105520"/>
            <a:ext cx="1067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羊角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旭日东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夕阳西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7:06:45Z</dcterms:created>
  <dc:creator>番茄花园</dc:creator>
  <dc:description/>
  <dc:language>en-US</dc:language>
  <cp:lastModifiedBy>番茄花园</cp:lastModifiedBy>
  <dcterms:modified xsi:type="dcterms:W3CDTF">2006-10-30T13:25:08Z</dcterms:modified>
  <cp:revision>9</cp:revision>
  <dc:subject/>
  <dc:title>幻灯片 1</dc:title>
</cp:coreProperties>
</file>