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7FF0-CDF7-41A7-B0B9-3AF58232657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DC087-7CFE-4D87-B330-E392DE1BB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585AC-06CA-4DF2-AEA1-A21DEA09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F3EEE-24F3-4DA0-9229-AB3D84D2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78410-3913-481F-B046-CB1D6F0FC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7710-6D28-4180-A81F-E305B86A3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B4C2-57B5-4BDB-8B3A-EDD32928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BD1C-8EF4-40C1-B164-C132D7BA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98E6-3350-4399-9B27-326DD5E8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AA8C-5BAC-4D85-A3F7-CFAB4891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2B68-F86F-4FD5-A42D-47BE70B7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69C2-9AF5-4F8A-861A-87CA7044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04402-D202-47F6-9623-FDCD2427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CA99-642D-4C4C-B5FE-7886750A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0A90-4C6C-4AC3-B86C-59AB1D97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D016-7F6A-4CA1-B635-E866C204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187C-E3E9-4F64-B0AD-38CF27C8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ACBC-5FC4-410D-A84F-A7033C25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35E71-A97F-4679-9306-D8195E9D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A7EE6-CE68-4C0F-8E25-6172AA44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12083-AB69-476E-8BA1-6C899B8A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7B2A0-421F-4AB1-9EE3-2469C4AB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1DCB1-3AFE-4032-A016-9FD89E36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DD89B-7EEF-47B0-841C-2D76D0B3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40887-778E-4250-A037-F2BB733B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13F4-1F5F-4385-BEF7-086E6F66129C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E850-15A1-461F-9754-C76C1858B84A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20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0" y="0"/>
          <a:ext cx="9144000" cy="6886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47640" y="5373720"/>
            <a:ext cx="61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Garamond"/>
              </a:rPr>
              <a:t>QQ:25003928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40464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e5ff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e5e5ff"/>
                </a:solidFill>
                <a:latin typeface="Arial"/>
              </a:rPr>
              <a:t>古老的故宫变得年轻了。一束束灯光照着她，长长的城墙和美丽的角楼倒映在河面上，银光闪闪，十分动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e5ff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e5e5ff"/>
                </a:solidFill>
                <a:latin typeface="Arial"/>
              </a:rPr>
              <a:t>夜晚的北京多么明亮，多么辉煌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500280"/>
            <a:ext cx="66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来到故宫你看到了什么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465300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你能仿照第六自然段用不同的词语赞美北京吗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96000" y="2708280"/>
            <a:ext cx="792000" cy="0"/>
          </a:xfrm>
          <a:prstGeom prst="line">
            <a:avLst/>
          </a:prstGeom>
          <a:ln cap="rnd" w="572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03280" y="148428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51280" y="148428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16360" y="2133720"/>
            <a:ext cx="79200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59280" y="2133720"/>
            <a:ext cx="86508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11640" y="1484280"/>
            <a:ext cx="4932360" cy="720720"/>
          </a:xfrm>
          <a:prstGeom prst="wedgeEllipseCallout">
            <a:avLst>
              <a:gd name="adj1" fmla="val -1175"/>
              <a:gd name="adj2" fmla="val 57930"/>
            </a:avLst>
          </a:prstGeom>
          <a:solidFill>
            <a:srgbClr val="0099cc"/>
          </a:solidFill>
          <a:ln cap="rnd" w="5724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Garamond"/>
              </a:rPr>
              <a:t>辉煌：光彩耀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94200" y="1413000"/>
            <a:ext cx="4573800" cy="720720"/>
          </a:xfrm>
          <a:prstGeom prst="wedgeEllipseCallout">
            <a:avLst>
              <a:gd name="adj1" fmla="val -12962"/>
              <a:gd name="adj2" fmla="val 700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364000" y="0"/>
            <a:ext cx="37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Garamond"/>
                <a:ea typeface="隶书"/>
              </a:rPr>
              <a:t>黎明景色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-245520" y="260280"/>
            <a:ext cx="2009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Verdana"/>
              </a:rPr>
              <a:t>国庆夜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604360" y="6524640"/>
            <a:ext cx="539640" cy="333360"/>
          </a:xfrm>
          <a:custGeom>
            <a:avLst/>
            <a:gdLst>
              <a:gd name="textAreaLeft" fmla="*/ 21600 w 539640"/>
              <a:gd name="textAreaRight" fmla="*/ 518040 w 539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4951" h="21600">
                <a:moveTo>
                  <a:pt x="0" y="0"/>
                </a:moveTo>
                <a:lnTo>
                  <a:pt x="34951" y="0"/>
                </a:lnTo>
                <a:lnTo>
                  <a:pt x="34951" y="21600"/>
                </a:lnTo>
                <a:lnTo>
                  <a:pt x="0" y="21600"/>
                </a:lnTo>
                <a:close/>
              </a:path>
              <a:path fill="lightenLess" w="34951" h="21600">
                <a:moveTo>
                  <a:pt x="0" y="0"/>
                </a:moveTo>
                <a:lnTo>
                  <a:pt x="34951" y="0"/>
                </a:lnTo>
                <a:lnTo>
                  <a:pt x="33551" y="1400"/>
                </a:lnTo>
                <a:lnTo>
                  <a:pt x="1400" y="1400"/>
                </a:lnTo>
                <a:close/>
              </a:path>
              <a:path fill="darken" w="34951" h="21600">
                <a:moveTo>
                  <a:pt x="34951" y="0"/>
                </a:moveTo>
                <a:lnTo>
                  <a:pt x="34951" y="21600"/>
                </a:lnTo>
                <a:lnTo>
                  <a:pt x="33551" y="20200"/>
                </a:lnTo>
                <a:lnTo>
                  <a:pt x="33551" y="1400"/>
                </a:lnTo>
                <a:close/>
              </a:path>
              <a:path fill="darkenLess" w="34951" h="21600">
                <a:moveTo>
                  <a:pt x="349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51" y="20200"/>
                </a:lnTo>
                <a:close/>
              </a:path>
              <a:path fill="lighten" w="349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51" h="21600">
                <a:moveTo>
                  <a:pt x="10469" y="7493"/>
                </a:moveTo>
                <a:lnTo>
                  <a:pt x="13977" y="7493"/>
                </a:lnTo>
                <a:lnTo>
                  <a:pt x="13977" y="12828"/>
                </a:lnTo>
                <a:cubicBezTo>
                  <a:pt x="13977" y="13751"/>
                  <a:pt x="14778" y="14482"/>
                  <a:pt x="15813" y="14482"/>
                </a:cubicBezTo>
                <a:lnTo>
                  <a:pt x="17476" y="14482"/>
                </a:lnTo>
                <a:cubicBezTo>
                  <a:pt x="18511" y="14482"/>
                  <a:pt x="19312" y="13751"/>
                  <a:pt x="19312" y="12828"/>
                </a:cubicBezTo>
                <a:lnTo>
                  <a:pt x="19312" y="7493"/>
                </a:lnTo>
                <a:lnTo>
                  <a:pt x="17476" y="7493"/>
                </a:lnTo>
                <a:lnTo>
                  <a:pt x="20983" y="3985"/>
                </a:lnTo>
                <a:lnTo>
                  <a:pt x="24656" y="7493"/>
                </a:lnTo>
                <a:lnTo>
                  <a:pt x="22820" y="7493"/>
                </a:lnTo>
                <a:lnTo>
                  <a:pt x="22820" y="12828"/>
                </a:lnTo>
                <a:cubicBezTo>
                  <a:pt x="22820" y="15596"/>
                  <a:pt x="20244" y="18155"/>
                  <a:pt x="17476" y="18155"/>
                </a:cubicBezTo>
                <a:lnTo>
                  <a:pt x="15813" y="18155"/>
                </a:lnTo>
                <a:cubicBezTo>
                  <a:pt x="13046" y="18155"/>
                  <a:pt x="10469" y="15596"/>
                  <a:pt x="10469" y="12828"/>
                </a:cubicBez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6093000"/>
            <a:ext cx="611280" cy="76500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765000"/>
              <a:gd name="textAreaBottom" fmla="*/ 725400 h 765000"/>
            </a:gdLst>
            <a:ahLst/>
            <a:rect l="textAreaLeft" t="textAreaTop" r="textAreaRight" b="textAreaBottom"/>
            <a:pathLst>
              <a:path w="21600" h="27029">
                <a:moveTo>
                  <a:pt x="0" y="0"/>
                </a:moveTo>
                <a:lnTo>
                  <a:pt x="21600" y="0"/>
                </a:lnTo>
                <a:lnTo>
                  <a:pt x="21600" y="27029"/>
                </a:lnTo>
                <a:lnTo>
                  <a:pt x="0" y="27029"/>
                </a:lnTo>
                <a:close/>
              </a:path>
              <a:path fill="lightenLess" w="21600" h="270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29">
                <a:moveTo>
                  <a:pt x="21600" y="0"/>
                </a:moveTo>
                <a:lnTo>
                  <a:pt x="21600" y="27029"/>
                </a:lnTo>
                <a:lnTo>
                  <a:pt x="20200" y="25629"/>
                </a:lnTo>
                <a:lnTo>
                  <a:pt x="20200" y="1400"/>
                </a:lnTo>
                <a:close/>
              </a:path>
              <a:path fill="darkenLess" w="21600" h="27029">
                <a:moveTo>
                  <a:pt x="21600" y="27029"/>
                </a:moveTo>
                <a:lnTo>
                  <a:pt x="0" y="27029"/>
                </a:lnTo>
                <a:lnTo>
                  <a:pt x="1400" y="25629"/>
                </a:lnTo>
                <a:lnTo>
                  <a:pt x="20200" y="25629"/>
                </a:lnTo>
                <a:close/>
              </a:path>
              <a:path fill="lighten" w="21600" h="27029">
                <a:moveTo>
                  <a:pt x="0" y="270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29"/>
                </a:lnTo>
                <a:close/>
              </a:path>
              <a:path fill="darken" w="21600" h="27029">
                <a:moveTo>
                  <a:pt x="3794" y="10015"/>
                </a:moveTo>
                <a:lnTo>
                  <a:pt x="4707" y="10015"/>
                </a:lnTo>
                <a:lnTo>
                  <a:pt x="5090" y="10381"/>
                </a:lnTo>
                <a:lnTo>
                  <a:pt x="14299" y="10381"/>
                </a:lnTo>
                <a:lnTo>
                  <a:pt x="14856" y="10938"/>
                </a:lnTo>
                <a:lnTo>
                  <a:pt x="14856" y="11486"/>
                </a:lnTo>
                <a:lnTo>
                  <a:pt x="16701" y="11486"/>
                </a:lnTo>
                <a:lnTo>
                  <a:pt x="17067" y="10938"/>
                </a:lnTo>
                <a:lnTo>
                  <a:pt x="17806" y="10938"/>
                </a:lnTo>
                <a:lnTo>
                  <a:pt x="17806" y="16091"/>
                </a:lnTo>
                <a:lnTo>
                  <a:pt x="17067" y="16091"/>
                </a:lnTo>
                <a:lnTo>
                  <a:pt x="16701" y="15542"/>
                </a:lnTo>
                <a:lnTo>
                  <a:pt x="14856" y="15542"/>
                </a:lnTo>
                <a:lnTo>
                  <a:pt x="14856" y="16822"/>
                </a:lnTo>
                <a:lnTo>
                  <a:pt x="5273" y="16822"/>
                </a:lnTo>
                <a:lnTo>
                  <a:pt x="5273" y="12592"/>
                </a:lnTo>
                <a:lnTo>
                  <a:pt x="5090" y="12592"/>
                </a:lnTo>
                <a:lnTo>
                  <a:pt x="4707" y="12957"/>
                </a:lnTo>
                <a:lnTo>
                  <a:pt x="3794" y="12957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684360" y="476280"/>
            <a:ext cx="3809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填空练习：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2492280"/>
            <a:ext cx="8569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700280"/>
            <a:ext cx="9144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5e5ff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e5e5ff"/>
                </a:solidFill>
                <a:latin typeface="Arial"/>
              </a:rPr>
              <a:t>（            ）的王府井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5e5ff"/>
                </a:solidFill>
                <a:latin typeface="Arial"/>
              </a:rPr>
              <a:t>（             ）的橱窗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5e5ff"/>
                </a:solidFill>
                <a:latin typeface="Arial"/>
              </a:rPr>
              <a:t>（             ）的广告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5e5ff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e5e5ff"/>
                </a:solidFill>
                <a:latin typeface="Arial"/>
              </a:rPr>
              <a:t>（            ）的霓虹灯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24000" y="5445000"/>
            <a:ext cx="32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五光十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95640" y="4221000"/>
            <a:ext cx="27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绚丽多彩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68360" y="2924280"/>
            <a:ext cx="30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明    亮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68360" y="1700280"/>
            <a:ext cx="42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焕然一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previousslide"/>
          </p:cNvPr>
          <p:cNvSpPr/>
          <p:nvPr/>
        </p:nvSpPr>
        <p:spPr>
          <a:xfrm>
            <a:off x="860436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7493"/>
                </a:moveTo>
                <a:lnTo>
                  <a:pt x="10901" y="7493"/>
                </a:lnTo>
                <a:lnTo>
                  <a:pt x="10901" y="12828"/>
                </a:lnTo>
                <a:cubicBezTo>
                  <a:pt x="10901" y="13751"/>
                  <a:pt x="11702" y="14482"/>
                  <a:pt x="12738" y="14482"/>
                </a:cubicBezTo>
                <a:lnTo>
                  <a:pt x="14400" y="14482"/>
                </a:lnTo>
                <a:cubicBezTo>
                  <a:pt x="15436" y="14482"/>
                  <a:pt x="16236" y="13751"/>
                  <a:pt x="16236" y="12828"/>
                </a:cubicBezTo>
                <a:lnTo>
                  <a:pt x="16236" y="7493"/>
                </a:lnTo>
                <a:lnTo>
                  <a:pt x="14400" y="7493"/>
                </a:lnTo>
                <a:lnTo>
                  <a:pt x="17908" y="3985"/>
                </a:lnTo>
                <a:lnTo>
                  <a:pt x="21581" y="7493"/>
                </a:lnTo>
                <a:lnTo>
                  <a:pt x="19744" y="7493"/>
                </a:lnTo>
                <a:lnTo>
                  <a:pt x="19744" y="12828"/>
                </a:lnTo>
                <a:cubicBezTo>
                  <a:pt x="19744" y="15596"/>
                  <a:pt x="17168" y="18155"/>
                  <a:pt x="14400" y="18155"/>
                </a:cubicBezTo>
                <a:lnTo>
                  <a:pt x="12738" y="18155"/>
                </a:lnTo>
                <a:cubicBezTo>
                  <a:pt x="9970" y="18155"/>
                  <a:pt x="7394" y="15596"/>
                  <a:pt x="7394" y="12828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4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4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79280" y="476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e5ff"/>
                </a:solidFill>
                <a:latin typeface="Arial"/>
              </a:rPr>
              <a:t>例：夜晚的北京多么明亮，多么辉煌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989000"/>
            <a:ext cx="9901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国庆的北京，多么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多么 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四月的公园，多么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多么 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六一节的校园，多么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，多么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00"/>
                </a:solidFill>
                <a:uFillTx/>
                <a:latin typeface="Arial"/>
              </a:rPr>
              <a:t>           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，多么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，多么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3851280" y="6237360"/>
            <a:ext cx="468360" cy="62064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620640"/>
              <a:gd name="textAreaBottom" fmla="*/ 590400 h 620640"/>
            </a:gdLst>
            <a:ahLst/>
            <a:rect l="textAreaLeft" t="textAreaTop" r="textAreaRight" b="textAreaBottom"/>
            <a:pathLst>
              <a:path w="21600" h="28618">
                <a:moveTo>
                  <a:pt x="0" y="0"/>
                </a:moveTo>
                <a:lnTo>
                  <a:pt x="21600" y="0"/>
                </a:lnTo>
                <a:lnTo>
                  <a:pt x="21600" y="28618"/>
                </a:lnTo>
                <a:lnTo>
                  <a:pt x="0" y="28618"/>
                </a:lnTo>
                <a:close/>
              </a:path>
              <a:path fill="lightenLess" w="21600" h="28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618">
                <a:moveTo>
                  <a:pt x="21600" y="0"/>
                </a:moveTo>
                <a:lnTo>
                  <a:pt x="21600" y="28618"/>
                </a:lnTo>
                <a:lnTo>
                  <a:pt x="20200" y="27218"/>
                </a:lnTo>
                <a:lnTo>
                  <a:pt x="20200" y="1400"/>
                </a:lnTo>
                <a:close/>
              </a:path>
              <a:path fill="darkenLess" w="21600" h="28618">
                <a:moveTo>
                  <a:pt x="21600" y="28618"/>
                </a:moveTo>
                <a:lnTo>
                  <a:pt x="0" y="28618"/>
                </a:lnTo>
                <a:lnTo>
                  <a:pt x="1400" y="27218"/>
                </a:lnTo>
                <a:lnTo>
                  <a:pt x="20200" y="27218"/>
                </a:lnTo>
                <a:close/>
              </a:path>
              <a:path fill="lighten" w="21600" h="28618">
                <a:moveTo>
                  <a:pt x="0" y="28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218"/>
                </a:lnTo>
                <a:close/>
              </a:path>
              <a:path fill="darken" w="21600" h="28618">
                <a:moveTo>
                  <a:pt x="3794" y="11001"/>
                </a:moveTo>
                <a:lnTo>
                  <a:pt x="7301" y="11001"/>
                </a:lnTo>
                <a:lnTo>
                  <a:pt x="7301" y="16337"/>
                </a:lnTo>
                <a:cubicBezTo>
                  <a:pt x="7301" y="17259"/>
                  <a:pt x="8102" y="17990"/>
                  <a:pt x="9138" y="17990"/>
                </a:cubicBezTo>
                <a:lnTo>
                  <a:pt x="10800" y="17990"/>
                </a:lnTo>
                <a:cubicBezTo>
                  <a:pt x="11836" y="17990"/>
                  <a:pt x="12636" y="17259"/>
                  <a:pt x="12636" y="16337"/>
                </a:cubicBezTo>
                <a:lnTo>
                  <a:pt x="12636" y="11001"/>
                </a:lnTo>
                <a:lnTo>
                  <a:pt x="10800" y="11001"/>
                </a:lnTo>
                <a:lnTo>
                  <a:pt x="14308" y="7494"/>
                </a:lnTo>
                <a:lnTo>
                  <a:pt x="17981" y="11001"/>
                </a:lnTo>
                <a:lnTo>
                  <a:pt x="16144" y="11001"/>
                </a:lnTo>
                <a:lnTo>
                  <a:pt x="16144" y="16337"/>
                </a:lnTo>
                <a:cubicBezTo>
                  <a:pt x="16144" y="19104"/>
                  <a:pt x="13568" y="21663"/>
                  <a:pt x="10800" y="21663"/>
                </a:cubicBezTo>
                <a:lnTo>
                  <a:pt x="9138" y="21663"/>
                </a:lnTo>
                <a:cubicBezTo>
                  <a:pt x="6370" y="21663"/>
                  <a:pt x="3794" y="19104"/>
                  <a:pt x="3794" y="16337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>
            <a:hlinkClick r:id="" action="ppaction://hlinkshowjump?jump=previousslide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7493"/>
                </a:moveTo>
                <a:lnTo>
                  <a:pt x="9305" y="7493"/>
                </a:lnTo>
                <a:lnTo>
                  <a:pt x="9305" y="12828"/>
                </a:lnTo>
                <a:cubicBezTo>
                  <a:pt x="9305" y="13751"/>
                  <a:pt x="10106" y="14482"/>
                  <a:pt x="11141" y="14482"/>
                </a:cubicBezTo>
                <a:lnTo>
                  <a:pt x="12804" y="14482"/>
                </a:lnTo>
                <a:cubicBezTo>
                  <a:pt x="13840" y="14482"/>
                  <a:pt x="14640" y="13751"/>
                  <a:pt x="14640" y="12828"/>
                </a:cubicBezTo>
                <a:lnTo>
                  <a:pt x="14640" y="7493"/>
                </a:lnTo>
                <a:lnTo>
                  <a:pt x="12804" y="7493"/>
                </a:lnTo>
                <a:lnTo>
                  <a:pt x="16311" y="3985"/>
                </a:lnTo>
                <a:lnTo>
                  <a:pt x="19984" y="7493"/>
                </a:lnTo>
                <a:lnTo>
                  <a:pt x="18148" y="7493"/>
                </a:lnTo>
                <a:lnTo>
                  <a:pt x="18148" y="12828"/>
                </a:lnTo>
                <a:cubicBezTo>
                  <a:pt x="18148" y="15596"/>
                  <a:pt x="15572" y="18155"/>
                  <a:pt x="12804" y="18155"/>
                </a:cubicBezTo>
                <a:lnTo>
                  <a:pt x="11141" y="18155"/>
                </a:lnTo>
                <a:cubicBezTo>
                  <a:pt x="8374" y="18155"/>
                  <a:pt x="5797" y="15596"/>
                  <a:pt x="5797" y="12828"/>
                </a:cubicBez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7493"/>
                </a:moveTo>
                <a:lnTo>
                  <a:pt x="9000" y="7493"/>
                </a:lnTo>
                <a:lnTo>
                  <a:pt x="9000" y="12828"/>
                </a:lnTo>
                <a:cubicBezTo>
                  <a:pt x="9000" y="13751"/>
                  <a:pt x="9801" y="14482"/>
                  <a:pt x="10837" y="14482"/>
                </a:cubicBezTo>
                <a:lnTo>
                  <a:pt x="12499" y="14482"/>
                </a:lnTo>
                <a:cubicBezTo>
                  <a:pt x="13535" y="14482"/>
                  <a:pt x="14336" y="13751"/>
                  <a:pt x="14336" y="12828"/>
                </a:cubicBezTo>
                <a:lnTo>
                  <a:pt x="14336" y="7493"/>
                </a:lnTo>
                <a:lnTo>
                  <a:pt x="12499" y="7493"/>
                </a:lnTo>
                <a:lnTo>
                  <a:pt x="16007" y="3985"/>
                </a:lnTo>
                <a:lnTo>
                  <a:pt x="19680" y="7493"/>
                </a:lnTo>
                <a:lnTo>
                  <a:pt x="17843" y="7493"/>
                </a:lnTo>
                <a:lnTo>
                  <a:pt x="17843" y="12828"/>
                </a:lnTo>
                <a:cubicBezTo>
                  <a:pt x="17843" y="15596"/>
                  <a:pt x="15267" y="18155"/>
                  <a:pt x="12499" y="18155"/>
                </a:cubicBezTo>
                <a:lnTo>
                  <a:pt x="10837" y="18155"/>
                </a:lnTo>
                <a:cubicBezTo>
                  <a:pt x="8069" y="18155"/>
                  <a:pt x="5493" y="15596"/>
                  <a:pt x="5493" y="12828"/>
                </a:cubicBez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>
            <a:hlinkClick r:id="" action="ppaction://hlinkshowjump?jump=previousslide"/>
          </p:cNvPr>
          <p:cNvSpPr/>
          <p:nvPr/>
        </p:nvSpPr>
        <p:spPr>
          <a:xfrm>
            <a:off x="8820000" y="6381720"/>
            <a:ext cx="324000" cy="47628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476280"/>
              <a:gd name="textAreaBottom" fmla="*/ 455400 h 476280"/>
            </a:gdLst>
            <a:ahLst/>
            <a:rect l="textAreaLeft" t="textAreaTop" r="textAreaRight" b="textAreaBottom"/>
            <a:pathLst>
              <a:path w="21600" h="31741">
                <a:moveTo>
                  <a:pt x="0" y="0"/>
                </a:moveTo>
                <a:lnTo>
                  <a:pt x="21600" y="0"/>
                </a:lnTo>
                <a:lnTo>
                  <a:pt x="21600" y="31741"/>
                </a:lnTo>
                <a:lnTo>
                  <a:pt x="0" y="31741"/>
                </a:lnTo>
                <a:close/>
              </a:path>
              <a:path fill="lightenLess" w="21600" h="317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741">
                <a:moveTo>
                  <a:pt x="21600" y="0"/>
                </a:moveTo>
                <a:lnTo>
                  <a:pt x="21600" y="31741"/>
                </a:lnTo>
                <a:lnTo>
                  <a:pt x="20200" y="30341"/>
                </a:lnTo>
                <a:lnTo>
                  <a:pt x="20200" y="1400"/>
                </a:lnTo>
                <a:close/>
              </a:path>
              <a:path fill="darkenLess" w="21600" h="31741">
                <a:moveTo>
                  <a:pt x="21600" y="31741"/>
                </a:moveTo>
                <a:lnTo>
                  <a:pt x="0" y="31741"/>
                </a:lnTo>
                <a:lnTo>
                  <a:pt x="1400" y="30341"/>
                </a:lnTo>
                <a:lnTo>
                  <a:pt x="20200" y="30341"/>
                </a:lnTo>
                <a:close/>
              </a:path>
              <a:path fill="lighten" w="21600" h="31741">
                <a:moveTo>
                  <a:pt x="0" y="317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0341"/>
                </a:lnTo>
                <a:close/>
              </a:path>
              <a:path fill="darken" w="21600" h="31741">
                <a:moveTo>
                  <a:pt x="3794" y="12563"/>
                </a:moveTo>
                <a:lnTo>
                  <a:pt x="7301" y="12563"/>
                </a:lnTo>
                <a:lnTo>
                  <a:pt x="7301" y="17898"/>
                </a:lnTo>
                <a:cubicBezTo>
                  <a:pt x="7301" y="18821"/>
                  <a:pt x="8102" y="19552"/>
                  <a:pt x="9138" y="19552"/>
                </a:cubicBezTo>
                <a:lnTo>
                  <a:pt x="10800" y="19552"/>
                </a:lnTo>
                <a:cubicBezTo>
                  <a:pt x="11836" y="19552"/>
                  <a:pt x="12636" y="18821"/>
                  <a:pt x="12636" y="17898"/>
                </a:cubicBezTo>
                <a:lnTo>
                  <a:pt x="12636" y="12563"/>
                </a:lnTo>
                <a:lnTo>
                  <a:pt x="10800" y="12563"/>
                </a:lnTo>
                <a:lnTo>
                  <a:pt x="14308" y="9055"/>
                </a:lnTo>
                <a:lnTo>
                  <a:pt x="17981" y="12563"/>
                </a:lnTo>
                <a:lnTo>
                  <a:pt x="16144" y="12563"/>
                </a:lnTo>
                <a:lnTo>
                  <a:pt x="16144" y="17898"/>
                </a:lnTo>
                <a:cubicBezTo>
                  <a:pt x="16144" y="20666"/>
                  <a:pt x="13568" y="23225"/>
                  <a:pt x="10800" y="23225"/>
                </a:cubicBezTo>
                <a:lnTo>
                  <a:pt x="9138" y="23225"/>
                </a:lnTo>
                <a:cubicBezTo>
                  <a:pt x="6370" y="23225"/>
                  <a:pt x="3794" y="20666"/>
                  <a:pt x="3794" y="1789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>
            <a:hlinkClick r:id="" action="ppaction://hlinkshowjump?jump=previousslide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7493"/>
                </a:moveTo>
                <a:lnTo>
                  <a:pt x="9953" y="7493"/>
                </a:lnTo>
                <a:lnTo>
                  <a:pt x="9953" y="12828"/>
                </a:lnTo>
                <a:cubicBezTo>
                  <a:pt x="9953" y="13751"/>
                  <a:pt x="10754" y="14482"/>
                  <a:pt x="11790" y="14482"/>
                </a:cubicBezTo>
                <a:lnTo>
                  <a:pt x="13452" y="14482"/>
                </a:lnTo>
                <a:cubicBezTo>
                  <a:pt x="14488" y="14482"/>
                  <a:pt x="15289" y="13751"/>
                  <a:pt x="15289" y="12828"/>
                </a:cubicBezTo>
                <a:lnTo>
                  <a:pt x="15289" y="7493"/>
                </a:lnTo>
                <a:lnTo>
                  <a:pt x="13452" y="7493"/>
                </a:lnTo>
                <a:lnTo>
                  <a:pt x="16960" y="3985"/>
                </a:lnTo>
                <a:lnTo>
                  <a:pt x="20633" y="7493"/>
                </a:lnTo>
                <a:lnTo>
                  <a:pt x="18796" y="7493"/>
                </a:lnTo>
                <a:lnTo>
                  <a:pt x="18796" y="12828"/>
                </a:lnTo>
                <a:cubicBezTo>
                  <a:pt x="18796" y="15596"/>
                  <a:pt x="16220" y="18155"/>
                  <a:pt x="13452" y="18155"/>
                </a:cubicBezTo>
                <a:lnTo>
                  <a:pt x="11790" y="18155"/>
                </a:lnTo>
                <a:cubicBezTo>
                  <a:pt x="9022" y="18155"/>
                  <a:pt x="6446" y="15596"/>
                  <a:pt x="6446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7493"/>
                </a:moveTo>
                <a:lnTo>
                  <a:pt x="8737" y="7493"/>
                </a:lnTo>
                <a:lnTo>
                  <a:pt x="8737" y="12828"/>
                </a:lnTo>
                <a:cubicBezTo>
                  <a:pt x="8737" y="13751"/>
                  <a:pt x="9538" y="14482"/>
                  <a:pt x="10573" y="14482"/>
                </a:cubicBezTo>
                <a:lnTo>
                  <a:pt x="12236" y="14482"/>
                </a:lnTo>
                <a:cubicBezTo>
                  <a:pt x="13271" y="14482"/>
                  <a:pt x="14072" y="13751"/>
                  <a:pt x="14072" y="12828"/>
                </a:cubicBezTo>
                <a:lnTo>
                  <a:pt x="14072" y="7493"/>
                </a:lnTo>
                <a:lnTo>
                  <a:pt x="12236" y="7493"/>
                </a:lnTo>
                <a:lnTo>
                  <a:pt x="15743" y="3985"/>
                </a:lnTo>
                <a:lnTo>
                  <a:pt x="19416" y="7493"/>
                </a:lnTo>
                <a:lnTo>
                  <a:pt x="17580" y="7493"/>
                </a:lnTo>
                <a:lnTo>
                  <a:pt x="17580" y="12828"/>
                </a:lnTo>
                <a:cubicBezTo>
                  <a:pt x="17580" y="15596"/>
                  <a:pt x="15003" y="18155"/>
                  <a:pt x="12236" y="18155"/>
                </a:cubicBezTo>
                <a:lnTo>
                  <a:pt x="10573" y="18155"/>
                </a:lnTo>
                <a:cubicBezTo>
                  <a:pt x="7805" y="18155"/>
                  <a:pt x="5229" y="15596"/>
                  <a:pt x="5229" y="12828"/>
                </a:cubicBezTo>
                <a:close/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3794" y="7658"/>
                </a:moveTo>
                <a:lnTo>
                  <a:pt x="7301" y="7658"/>
                </a:lnTo>
                <a:lnTo>
                  <a:pt x="7301" y="12993"/>
                </a:lnTo>
                <a:cubicBezTo>
                  <a:pt x="7301" y="13916"/>
                  <a:pt x="8102" y="14647"/>
                  <a:pt x="9138" y="14647"/>
                </a:cubicBezTo>
                <a:lnTo>
                  <a:pt x="10800" y="14647"/>
                </a:lnTo>
                <a:cubicBezTo>
                  <a:pt x="11836" y="14647"/>
                  <a:pt x="12636" y="13916"/>
                  <a:pt x="12636" y="12993"/>
                </a:cubicBezTo>
                <a:lnTo>
                  <a:pt x="12636" y="7658"/>
                </a:lnTo>
                <a:lnTo>
                  <a:pt x="10800" y="7658"/>
                </a:lnTo>
                <a:lnTo>
                  <a:pt x="14308" y="4150"/>
                </a:lnTo>
                <a:lnTo>
                  <a:pt x="17981" y="7658"/>
                </a:lnTo>
                <a:lnTo>
                  <a:pt x="16144" y="7658"/>
                </a:lnTo>
                <a:lnTo>
                  <a:pt x="16144" y="12993"/>
                </a:lnTo>
                <a:cubicBezTo>
                  <a:pt x="16144" y="15761"/>
                  <a:pt x="13568" y="18320"/>
                  <a:pt x="10800" y="18320"/>
                </a:cubicBezTo>
                <a:lnTo>
                  <a:pt x="9138" y="18320"/>
                </a:lnTo>
                <a:cubicBezTo>
                  <a:pt x="6370" y="18320"/>
                  <a:pt x="3794" y="15761"/>
                  <a:pt x="3794" y="12993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907920"/>
            <a:ext cx="914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5e5ff"/>
                </a:solidFill>
                <a:latin typeface="Arial"/>
              </a:rPr>
              <a:t>教学目标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5e5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e5e5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e5e5ff"/>
                </a:solidFill>
                <a:latin typeface="Arial"/>
              </a:rPr>
              <a:t>、学习课文，感受首都北京夜晚的美景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5e5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e5e5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e5e5ff"/>
                </a:solidFill>
                <a:latin typeface="Arial"/>
              </a:rPr>
              <a:t>、激发学生对首都北京的热爱之情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573360"/>
            <a:ext cx="914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5e5ff"/>
                </a:solidFill>
                <a:latin typeface="Arial"/>
              </a:rPr>
              <a:t>教学重、难点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5e5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e5e5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e5e5ff"/>
                </a:solidFill>
                <a:latin typeface="Arial"/>
              </a:rPr>
              <a:t>、有感情的朗读课文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5e5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e5e5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e5e5ff"/>
                </a:solidFill>
                <a:latin typeface="Arial"/>
              </a:rPr>
              <a:t>、难点在于词语和句子的理解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95" name="">
            <a:hlinkClick r:id="" action="ppaction://hlinkshowjump?jump=previousslide"/>
          </p:cNvPr>
          <p:cNvSpPr/>
          <p:nvPr/>
        </p:nvSpPr>
        <p:spPr>
          <a:xfrm>
            <a:off x="8388360" y="6453360"/>
            <a:ext cx="755640" cy="404640"/>
          </a:xfrm>
          <a:custGeom>
            <a:avLst/>
            <a:gdLst>
              <a:gd name="textAreaLeft" fmla="*/ 25920 w 755640"/>
              <a:gd name="textAreaRight" fmla="*/ 729720 w 755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0320" h="21600">
                <a:moveTo>
                  <a:pt x="0" y="0"/>
                </a:moveTo>
                <a:lnTo>
                  <a:pt x="40320" y="0"/>
                </a:lnTo>
                <a:lnTo>
                  <a:pt x="40320" y="21600"/>
                </a:lnTo>
                <a:lnTo>
                  <a:pt x="0" y="21600"/>
                </a:lnTo>
                <a:close/>
              </a:path>
              <a:path fill="lightenLess" w="40320" h="21600">
                <a:moveTo>
                  <a:pt x="0" y="0"/>
                </a:moveTo>
                <a:lnTo>
                  <a:pt x="40320" y="0"/>
                </a:lnTo>
                <a:lnTo>
                  <a:pt x="38920" y="1400"/>
                </a:lnTo>
                <a:lnTo>
                  <a:pt x="1400" y="1400"/>
                </a:lnTo>
                <a:close/>
              </a:path>
              <a:path fill="darken" w="40320" h="21600">
                <a:moveTo>
                  <a:pt x="40320" y="0"/>
                </a:moveTo>
                <a:lnTo>
                  <a:pt x="40320" y="21600"/>
                </a:lnTo>
                <a:lnTo>
                  <a:pt x="38920" y="20200"/>
                </a:lnTo>
                <a:lnTo>
                  <a:pt x="38920" y="1400"/>
                </a:lnTo>
                <a:close/>
              </a:path>
              <a:path fill="darkenLess" w="40320" h="21600">
                <a:moveTo>
                  <a:pt x="40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920" y="20200"/>
                </a:lnTo>
                <a:close/>
              </a:path>
              <a:path fill="lighten" w="40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320" h="21600">
                <a:moveTo>
                  <a:pt x="13154" y="7493"/>
                </a:moveTo>
                <a:lnTo>
                  <a:pt x="16661" y="7493"/>
                </a:lnTo>
                <a:lnTo>
                  <a:pt x="16661" y="12828"/>
                </a:lnTo>
                <a:cubicBezTo>
                  <a:pt x="16661" y="13751"/>
                  <a:pt x="17462" y="14482"/>
                  <a:pt x="18498" y="14482"/>
                </a:cubicBezTo>
                <a:lnTo>
                  <a:pt x="20160" y="14482"/>
                </a:lnTo>
                <a:cubicBezTo>
                  <a:pt x="21196" y="14482"/>
                  <a:pt x="21996" y="13751"/>
                  <a:pt x="21996" y="12828"/>
                </a:cubicBezTo>
                <a:lnTo>
                  <a:pt x="21996" y="7493"/>
                </a:lnTo>
                <a:lnTo>
                  <a:pt x="20160" y="7493"/>
                </a:lnTo>
                <a:lnTo>
                  <a:pt x="23668" y="3985"/>
                </a:lnTo>
                <a:lnTo>
                  <a:pt x="27341" y="7493"/>
                </a:lnTo>
                <a:lnTo>
                  <a:pt x="25504" y="7493"/>
                </a:lnTo>
                <a:lnTo>
                  <a:pt x="25504" y="12828"/>
                </a:lnTo>
                <a:cubicBezTo>
                  <a:pt x="25504" y="15596"/>
                  <a:pt x="22928" y="18155"/>
                  <a:pt x="20160" y="18155"/>
                </a:cubicBezTo>
                <a:lnTo>
                  <a:pt x="18498" y="18155"/>
                </a:lnTo>
                <a:cubicBezTo>
                  <a:pt x="15730" y="18155"/>
                  <a:pt x="13154" y="15596"/>
                  <a:pt x="13154" y="12828"/>
                </a:cubicBez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>
            <a:hlinkClick r:id="" action="ppaction://hlinkshowjump?jump=previousslide"/>
          </p:cNvPr>
          <p:cNvSpPr/>
          <p:nvPr/>
        </p:nvSpPr>
        <p:spPr>
          <a:xfrm>
            <a:off x="860436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7493"/>
                </a:moveTo>
                <a:lnTo>
                  <a:pt x="10901" y="7493"/>
                </a:lnTo>
                <a:lnTo>
                  <a:pt x="10901" y="12828"/>
                </a:lnTo>
                <a:cubicBezTo>
                  <a:pt x="10901" y="13751"/>
                  <a:pt x="11702" y="14482"/>
                  <a:pt x="12738" y="14482"/>
                </a:cubicBezTo>
                <a:lnTo>
                  <a:pt x="14400" y="14482"/>
                </a:lnTo>
                <a:cubicBezTo>
                  <a:pt x="15436" y="14482"/>
                  <a:pt x="16236" y="13751"/>
                  <a:pt x="16236" y="12828"/>
                </a:cubicBezTo>
                <a:lnTo>
                  <a:pt x="16236" y="7493"/>
                </a:lnTo>
                <a:lnTo>
                  <a:pt x="14400" y="7493"/>
                </a:lnTo>
                <a:lnTo>
                  <a:pt x="17908" y="3985"/>
                </a:lnTo>
                <a:lnTo>
                  <a:pt x="21581" y="7493"/>
                </a:lnTo>
                <a:lnTo>
                  <a:pt x="19744" y="7493"/>
                </a:lnTo>
                <a:lnTo>
                  <a:pt x="19744" y="12828"/>
                </a:lnTo>
                <a:cubicBezTo>
                  <a:pt x="19744" y="15596"/>
                  <a:pt x="17168" y="18155"/>
                  <a:pt x="14400" y="18155"/>
                </a:cubicBezTo>
                <a:lnTo>
                  <a:pt x="12738" y="18155"/>
                </a:lnTo>
                <a:cubicBezTo>
                  <a:pt x="9970" y="18155"/>
                  <a:pt x="7394" y="15596"/>
                  <a:pt x="7394" y="12828"/>
                </a:cubicBez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>
            <a:hlinkClick r:id="" action="ppaction://hlinkshowjump?jump=previousslide"/>
          </p:cNvPr>
          <p:cNvSpPr/>
          <p:nvPr/>
        </p:nvSpPr>
        <p:spPr>
          <a:xfrm>
            <a:off x="8748720" y="6381720"/>
            <a:ext cx="395280" cy="476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76280"/>
              <a:gd name="textAreaBottom" fmla="*/ 450720 h 476280"/>
            </a:gdLst>
            <a:ahLst/>
            <a:rect l="textAreaLeft" t="textAreaTop" r="textAreaRight" b="textAreaBottom"/>
            <a:pathLst>
              <a:path w="21600" h="26022">
                <a:moveTo>
                  <a:pt x="0" y="0"/>
                </a:moveTo>
                <a:lnTo>
                  <a:pt x="21600" y="0"/>
                </a:lnTo>
                <a:lnTo>
                  <a:pt x="21600" y="26022"/>
                </a:lnTo>
                <a:lnTo>
                  <a:pt x="0" y="26022"/>
                </a:lnTo>
                <a:close/>
              </a:path>
              <a:path fill="lightenLess" w="21600" h="260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2">
                <a:moveTo>
                  <a:pt x="21600" y="0"/>
                </a:moveTo>
                <a:lnTo>
                  <a:pt x="21600" y="26022"/>
                </a:lnTo>
                <a:lnTo>
                  <a:pt x="20200" y="24622"/>
                </a:lnTo>
                <a:lnTo>
                  <a:pt x="20200" y="1400"/>
                </a:lnTo>
                <a:close/>
              </a:path>
              <a:path fill="darkenLess" w="21600" h="26022">
                <a:moveTo>
                  <a:pt x="21600" y="26022"/>
                </a:moveTo>
                <a:lnTo>
                  <a:pt x="0" y="26022"/>
                </a:lnTo>
                <a:lnTo>
                  <a:pt x="1400" y="24622"/>
                </a:lnTo>
                <a:lnTo>
                  <a:pt x="20200" y="24622"/>
                </a:lnTo>
                <a:close/>
              </a:path>
              <a:path fill="lighten" w="21600" h="26022">
                <a:moveTo>
                  <a:pt x="0" y="260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2"/>
                </a:lnTo>
                <a:close/>
              </a:path>
              <a:path fill="darken" w="21600" h="26022">
                <a:moveTo>
                  <a:pt x="3794" y="9704"/>
                </a:moveTo>
                <a:lnTo>
                  <a:pt x="7301" y="9704"/>
                </a:lnTo>
                <a:lnTo>
                  <a:pt x="7301" y="15039"/>
                </a:lnTo>
                <a:cubicBezTo>
                  <a:pt x="7301" y="15962"/>
                  <a:pt x="8102" y="16693"/>
                  <a:pt x="9138" y="16693"/>
                </a:cubicBezTo>
                <a:lnTo>
                  <a:pt x="10800" y="16693"/>
                </a:lnTo>
                <a:cubicBezTo>
                  <a:pt x="11836" y="16693"/>
                  <a:pt x="12636" y="15962"/>
                  <a:pt x="12636" y="15039"/>
                </a:cubicBezTo>
                <a:lnTo>
                  <a:pt x="12636" y="9704"/>
                </a:lnTo>
                <a:lnTo>
                  <a:pt x="10800" y="9704"/>
                </a:lnTo>
                <a:lnTo>
                  <a:pt x="14308" y="6196"/>
                </a:lnTo>
                <a:lnTo>
                  <a:pt x="17981" y="9704"/>
                </a:lnTo>
                <a:lnTo>
                  <a:pt x="16144" y="9704"/>
                </a:lnTo>
                <a:lnTo>
                  <a:pt x="16144" y="15039"/>
                </a:lnTo>
                <a:cubicBezTo>
                  <a:pt x="16144" y="17807"/>
                  <a:pt x="13568" y="20366"/>
                  <a:pt x="10800" y="20366"/>
                </a:cubicBezTo>
                <a:lnTo>
                  <a:pt x="9138" y="20366"/>
                </a:lnTo>
                <a:cubicBezTo>
                  <a:pt x="6370" y="20366"/>
                  <a:pt x="3794" y="17807"/>
                  <a:pt x="3794" y="15039"/>
                </a:cubicBez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">
            <a:hlinkClick r:id="" action="ppaction://hlinkshowjump?jump=previousslide"/>
          </p:cNvPr>
          <p:cNvSpPr/>
          <p:nvPr/>
        </p:nvSpPr>
        <p:spPr>
          <a:xfrm>
            <a:off x="8748720" y="6237360"/>
            <a:ext cx="395280" cy="620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620640"/>
              <a:gd name="textAreaBottom" fmla="*/ 595080 h 620640"/>
            </a:gdLst>
            <a:ahLst/>
            <a:rect l="textAreaLeft" t="textAreaTop" r="textAreaRight" b="textAreaBottom"/>
            <a:pathLst>
              <a:path w="21600" h="33904">
                <a:moveTo>
                  <a:pt x="0" y="0"/>
                </a:moveTo>
                <a:lnTo>
                  <a:pt x="21600" y="0"/>
                </a:lnTo>
                <a:lnTo>
                  <a:pt x="21600" y="33904"/>
                </a:lnTo>
                <a:lnTo>
                  <a:pt x="0" y="33904"/>
                </a:lnTo>
                <a:close/>
              </a:path>
              <a:path fill="lightenLess" w="21600" h="339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04">
                <a:moveTo>
                  <a:pt x="21600" y="0"/>
                </a:moveTo>
                <a:lnTo>
                  <a:pt x="21600" y="33904"/>
                </a:lnTo>
                <a:lnTo>
                  <a:pt x="20200" y="32504"/>
                </a:lnTo>
                <a:lnTo>
                  <a:pt x="20200" y="1400"/>
                </a:lnTo>
                <a:close/>
              </a:path>
              <a:path fill="darkenLess" w="21600" h="33904">
                <a:moveTo>
                  <a:pt x="21600" y="33904"/>
                </a:moveTo>
                <a:lnTo>
                  <a:pt x="0" y="33904"/>
                </a:lnTo>
                <a:lnTo>
                  <a:pt x="1400" y="32504"/>
                </a:lnTo>
                <a:lnTo>
                  <a:pt x="20200" y="32504"/>
                </a:lnTo>
                <a:close/>
              </a:path>
              <a:path fill="lighten" w="21600" h="33904">
                <a:moveTo>
                  <a:pt x="0" y="33904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04"/>
                </a:lnTo>
                <a:close/>
              </a:path>
              <a:path fill="darken" w="21600" h="33904">
                <a:moveTo>
                  <a:pt x="3794" y="13644"/>
                </a:moveTo>
                <a:lnTo>
                  <a:pt x="7301" y="13644"/>
                </a:lnTo>
                <a:lnTo>
                  <a:pt x="7301" y="18980"/>
                </a:lnTo>
                <a:cubicBezTo>
                  <a:pt x="7301" y="19902"/>
                  <a:pt x="8102" y="20633"/>
                  <a:pt x="9138" y="20633"/>
                </a:cubicBezTo>
                <a:lnTo>
                  <a:pt x="10800" y="20633"/>
                </a:lnTo>
                <a:cubicBezTo>
                  <a:pt x="11836" y="20633"/>
                  <a:pt x="12636" y="19902"/>
                  <a:pt x="12636" y="18980"/>
                </a:cubicBezTo>
                <a:lnTo>
                  <a:pt x="12636" y="13644"/>
                </a:lnTo>
                <a:lnTo>
                  <a:pt x="10800" y="13644"/>
                </a:lnTo>
                <a:lnTo>
                  <a:pt x="14308" y="10137"/>
                </a:lnTo>
                <a:lnTo>
                  <a:pt x="17981" y="13644"/>
                </a:lnTo>
                <a:lnTo>
                  <a:pt x="16144" y="13644"/>
                </a:lnTo>
                <a:lnTo>
                  <a:pt x="16144" y="18980"/>
                </a:lnTo>
                <a:cubicBezTo>
                  <a:pt x="16144" y="21748"/>
                  <a:pt x="13568" y="24306"/>
                  <a:pt x="10800" y="24306"/>
                </a:cubicBezTo>
                <a:lnTo>
                  <a:pt x="9138" y="24306"/>
                </a:lnTo>
                <a:cubicBezTo>
                  <a:pt x="6370" y="24306"/>
                  <a:pt x="3794" y="21748"/>
                  <a:pt x="3794" y="1898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6852" y="7493"/>
                </a:moveTo>
                <a:lnTo>
                  <a:pt x="10360" y="7493"/>
                </a:lnTo>
                <a:lnTo>
                  <a:pt x="10360" y="12828"/>
                </a:lnTo>
                <a:cubicBezTo>
                  <a:pt x="10360" y="13751"/>
                  <a:pt x="11161" y="14482"/>
                  <a:pt x="12197" y="14482"/>
                </a:cubicBezTo>
                <a:lnTo>
                  <a:pt x="13859" y="14482"/>
                </a:lnTo>
                <a:cubicBezTo>
                  <a:pt x="14895" y="14482"/>
                  <a:pt x="15695" y="13751"/>
                  <a:pt x="15695" y="12828"/>
                </a:cubicBezTo>
                <a:lnTo>
                  <a:pt x="15695" y="7493"/>
                </a:lnTo>
                <a:lnTo>
                  <a:pt x="13859" y="7493"/>
                </a:lnTo>
                <a:lnTo>
                  <a:pt x="17367" y="3985"/>
                </a:lnTo>
                <a:lnTo>
                  <a:pt x="21039" y="7493"/>
                </a:lnTo>
                <a:lnTo>
                  <a:pt x="19203" y="7493"/>
                </a:lnTo>
                <a:lnTo>
                  <a:pt x="19203" y="12828"/>
                </a:lnTo>
                <a:cubicBezTo>
                  <a:pt x="19203" y="15596"/>
                  <a:pt x="16627" y="18155"/>
                  <a:pt x="13859" y="18155"/>
                </a:cubicBezTo>
                <a:lnTo>
                  <a:pt x="12197" y="18155"/>
                </a:lnTo>
                <a:cubicBezTo>
                  <a:pt x="9429" y="18155"/>
                  <a:pt x="6852" y="15596"/>
                  <a:pt x="6852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>
            <a:hlinkClick r:id="" action="ppaction://hlinkshowjump?jump=previousslide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3794" y="8765"/>
                </a:moveTo>
                <a:lnTo>
                  <a:pt x="7301" y="8765"/>
                </a:lnTo>
                <a:lnTo>
                  <a:pt x="7301" y="14100"/>
                </a:lnTo>
                <a:cubicBezTo>
                  <a:pt x="7301" y="15022"/>
                  <a:pt x="8102" y="15754"/>
                  <a:pt x="9138" y="15754"/>
                </a:cubicBezTo>
                <a:lnTo>
                  <a:pt x="10800" y="15754"/>
                </a:lnTo>
                <a:cubicBezTo>
                  <a:pt x="11836" y="15754"/>
                  <a:pt x="12636" y="15022"/>
                  <a:pt x="12636" y="14100"/>
                </a:cubicBezTo>
                <a:lnTo>
                  <a:pt x="12636" y="8765"/>
                </a:lnTo>
                <a:lnTo>
                  <a:pt x="10800" y="8765"/>
                </a:lnTo>
                <a:lnTo>
                  <a:pt x="14308" y="5257"/>
                </a:lnTo>
                <a:lnTo>
                  <a:pt x="17981" y="8765"/>
                </a:lnTo>
                <a:lnTo>
                  <a:pt x="16144" y="8765"/>
                </a:lnTo>
                <a:lnTo>
                  <a:pt x="16144" y="14100"/>
                </a:lnTo>
                <a:cubicBezTo>
                  <a:pt x="16144" y="16868"/>
                  <a:pt x="13568" y="19427"/>
                  <a:pt x="10800" y="19427"/>
                </a:cubicBezTo>
                <a:lnTo>
                  <a:pt x="9138" y="19427"/>
                </a:lnTo>
                <a:cubicBezTo>
                  <a:pt x="6370" y="19427"/>
                  <a:pt x="3794" y="16868"/>
                  <a:pt x="3794" y="14100"/>
                </a:cubicBezTo>
                <a:close/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>
            <a:hlinkClick r:id="" action="ppaction://hlinkshowjump?jump=previousslide"/>
          </p:cNvPr>
          <p:cNvSpPr/>
          <p:nvPr/>
        </p:nvSpPr>
        <p:spPr>
          <a:xfrm>
            <a:off x="8675640" y="6237360"/>
            <a:ext cx="468360" cy="62064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620640"/>
              <a:gd name="textAreaBottom" fmla="*/ 590400 h 620640"/>
            </a:gdLst>
            <a:ahLst/>
            <a:rect l="textAreaLeft" t="textAreaTop" r="textAreaRight" b="textAreaBottom"/>
            <a:pathLst>
              <a:path w="21600" h="28618">
                <a:moveTo>
                  <a:pt x="0" y="0"/>
                </a:moveTo>
                <a:lnTo>
                  <a:pt x="21600" y="0"/>
                </a:lnTo>
                <a:lnTo>
                  <a:pt x="21600" y="28618"/>
                </a:lnTo>
                <a:lnTo>
                  <a:pt x="0" y="28618"/>
                </a:lnTo>
                <a:close/>
              </a:path>
              <a:path fill="lightenLess" w="21600" h="28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618">
                <a:moveTo>
                  <a:pt x="21600" y="0"/>
                </a:moveTo>
                <a:lnTo>
                  <a:pt x="21600" y="28618"/>
                </a:lnTo>
                <a:lnTo>
                  <a:pt x="20200" y="27218"/>
                </a:lnTo>
                <a:lnTo>
                  <a:pt x="20200" y="1400"/>
                </a:lnTo>
                <a:close/>
              </a:path>
              <a:path fill="darkenLess" w="21600" h="28618">
                <a:moveTo>
                  <a:pt x="21600" y="28618"/>
                </a:moveTo>
                <a:lnTo>
                  <a:pt x="0" y="28618"/>
                </a:lnTo>
                <a:lnTo>
                  <a:pt x="1400" y="27218"/>
                </a:lnTo>
                <a:lnTo>
                  <a:pt x="20200" y="27218"/>
                </a:lnTo>
                <a:close/>
              </a:path>
              <a:path fill="lighten" w="21600" h="28618">
                <a:moveTo>
                  <a:pt x="0" y="28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218"/>
                </a:lnTo>
                <a:close/>
              </a:path>
              <a:path fill="darken" w="21600" h="28618">
                <a:moveTo>
                  <a:pt x="3794" y="11001"/>
                </a:moveTo>
                <a:lnTo>
                  <a:pt x="7301" y="11001"/>
                </a:lnTo>
                <a:lnTo>
                  <a:pt x="7301" y="16337"/>
                </a:lnTo>
                <a:cubicBezTo>
                  <a:pt x="7301" y="17259"/>
                  <a:pt x="8102" y="17990"/>
                  <a:pt x="9138" y="17990"/>
                </a:cubicBezTo>
                <a:lnTo>
                  <a:pt x="10800" y="17990"/>
                </a:lnTo>
                <a:cubicBezTo>
                  <a:pt x="11836" y="17990"/>
                  <a:pt x="12636" y="17259"/>
                  <a:pt x="12636" y="16337"/>
                </a:cubicBezTo>
                <a:lnTo>
                  <a:pt x="12636" y="11001"/>
                </a:lnTo>
                <a:lnTo>
                  <a:pt x="10800" y="11001"/>
                </a:lnTo>
                <a:lnTo>
                  <a:pt x="14308" y="7494"/>
                </a:lnTo>
                <a:lnTo>
                  <a:pt x="17981" y="11001"/>
                </a:lnTo>
                <a:lnTo>
                  <a:pt x="16144" y="11001"/>
                </a:lnTo>
                <a:lnTo>
                  <a:pt x="16144" y="16337"/>
                </a:lnTo>
                <a:cubicBezTo>
                  <a:pt x="16144" y="19104"/>
                  <a:pt x="13568" y="21663"/>
                  <a:pt x="10800" y="21663"/>
                </a:cubicBezTo>
                <a:lnTo>
                  <a:pt x="9138" y="21663"/>
                </a:lnTo>
                <a:cubicBezTo>
                  <a:pt x="6370" y="21663"/>
                  <a:pt x="3794" y="19104"/>
                  <a:pt x="3794" y="16337"/>
                </a:cubicBez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-198720" y="0"/>
            <a:ext cx="152100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Verdana"/>
              </a:rPr>
              <a:t>王府井步行街夜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>
            <a:hlinkClick r:id="" action="ppaction://hlinkshowjump?jump=previousslide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7687"/>
                </a:moveTo>
                <a:lnTo>
                  <a:pt x="7301" y="7687"/>
                </a:lnTo>
                <a:lnTo>
                  <a:pt x="7301" y="13022"/>
                </a:lnTo>
                <a:cubicBezTo>
                  <a:pt x="7301" y="13945"/>
                  <a:pt x="8102" y="14676"/>
                  <a:pt x="9138" y="14676"/>
                </a:cubicBezTo>
                <a:lnTo>
                  <a:pt x="10800" y="14676"/>
                </a:lnTo>
                <a:cubicBezTo>
                  <a:pt x="11836" y="14676"/>
                  <a:pt x="12636" y="13945"/>
                  <a:pt x="12636" y="13022"/>
                </a:cubicBezTo>
                <a:lnTo>
                  <a:pt x="12636" y="7687"/>
                </a:lnTo>
                <a:lnTo>
                  <a:pt x="10800" y="7687"/>
                </a:lnTo>
                <a:lnTo>
                  <a:pt x="14308" y="4179"/>
                </a:lnTo>
                <a:lnTo>
                  <a:pt x="17981" y="7687"/>
                </a:lnTo>
                <a:lnTo>
                  <a:pt x="16144" y="7687"/>
                </a:lnTo>
                <a:lnTo>
                  <a:pt x="16144" y="13022"/>
                </a:lnTo>
                <a:cubicBezTo>
                  <a:pt x="16144" y="15790"/>
                  <a:pt x="13568" y="18349"/>
                  <a:pt x="10800" y="18349"/>
                </a:cubicBezTo>
                <a:lnTo>
                  <a:pt x="9138" y="18349"/>
                </a:lnTo>
                <a:cubicBezTo>
                  <a:pt x="6370" y="18349"/>
                  <a:pt x="3794" y="15790"/>
                  <a:pt x="3794" y="13022"/>
                </a:cubicBez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365040"/>
            <a:ext cx="893916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</a:rPr>
              <a:t>幕      临      街     闪  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</a:rPr>
              <a:t>夺      勾     喷      府  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</a:rPr>
              <a:t>紫      禁      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0"/>
            <a:ext cx="43560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读准这些字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" name=""/>
          <p:cNvSpPr/>
          <p:nvPr/>
        </p:nvSpPr>
        <p:spPr>
          <a:xfrm>
            <a:off x="541440" y="134136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m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87640" y="134136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lí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35640" y="134136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jiē</a:t>
            </a: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20000" y="12682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shǎn</a:t>
            </a: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328464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duó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71640" y="328464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gō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3284640"/>
            <a:ext cx="14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pè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51640" y="328464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fǔ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508464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zǐ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67280" y="5013360"/>
            <a:ext cx="10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jì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501336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sh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71640" y="620640"/>
            <a:ext cx="770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0"/>
            <a:ext cx="79218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你们认识这些词语吗？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276640"/>
            <a:ext cx="9144000" cy="39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1" lang="zh-CN" sz="5000" spc="-1" strike="noStrike">
                <a:solidFill>
                  <a:srgbClr val="800000"/>
                </a:solidFill>
                <a:latin typeface="Verdana"/>
              </a:rPr>
              <a:t>街道   勾画    喷泉    王府井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800000"/>
                </a:solidFill>
                <a:latin typeface="Verdana"/>
              </a:rPr>
              <a:t>夜幕降临  五光十色   银光闪闪  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800000"/>
                </a:solidFill>
                <a:latin typeface="Verdana"/>
              </a:rPr>
              <a:t>川流不息  华灯高照   光彩夺目</a:t>
            </a:r>
            <a:r>
              <a:rPr b="0" lang="zh-CN" sz="44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651640" y="0"/>
            <a:ext cx="34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5e5ff"/>
                </a:solidFill>
                <a:latin typeface="Arial"/>
              </a:rPr>
              <a:t>长安街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7493"/>
                </a:moveTo>
                <a:lnTo>
                  <a:pt x="8737" y="7493"/>
                </a:lnTo>
                <a:lnTo>
                  <a:pt x="8737" y="12828"/>
                </a:lnTo>
                <a:cubicBezTo>
                  <a:pt x="8737" y="13751"/>
                  <a:pt x="9538" y="14482"/>
                  <a:pt x="10573" y="14482"/>
                </a:cubicBezTo>
                <a:lnTo>
                  <a:pt x="12236" y="14482"/>
                </a:lnTo>
                <a:cubicBezTo>
                  <a:pt x="13271" y="14482"/>
                  <a:pt x="14072" y="13751"/>
                  <a:pt x="14072" y="12828"/>
                </a:cubicBezTo>
                <a:lnTo>
                  <a:pt x="14072" y="7493"/>
                </a:lnTo>
                <a:lnTo>
                  <a:pt x="12236" y="7493"/>
                </a:lnTo>
                <a:lnTo>
                  <a:pt x="15743" y="3985"/>
                </a:lnTo>
                <a:lnTo>
                  <a:pt x="19416" y="7493"/>
                </a:lnTo>
                <a:lnTo>
                  <a:pt x="17580" y="7493"/>
                </a:lnTo>
                <a:lnTo>
                  <a:pt x="17580" y="12828"/>
                </a:lnTo>
                <a:cubicBezTo>
                  <a:pt x="17580" y="15596"/>
                  <a:pt x="15003" y="18155"/>
                  <a:pt x="12236" y="18155"/>
                </a:cubicBezTo>
                <a:lnTo>
                  <a:pt x="10573" y="18155"/>
                </a:lnTo>
                <a:cubicBezTo>
                  <a:pt x="7805" y="18155"/>
                  <a:pt x="5229" y="15596"/>
                  <a:pt x="5229" y="12828"/>
                </a:cubicBezTo>
                <a:close/>
              </a:path>
            </a:pathLst>
          </a:custGeom>
          <a:solidFill>
            <a:srgbClr val="e5e5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8604360" y="6597720"/>
            <a:ext cx="539640" cy="260280"/>
          </a:xfrm>
          <a:custGeom>
            <a:avLst/>
            <a:gdLst>
              <a:gd name="textAreaLeft" fmla="*/ 16560 w 539640"/>
              <a:gd name="textAreaRight" fmla="*/ 523080 w 539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44751" h="21600">
                <a:moveTo>
                  <a:pt x="0" y="0"/>
                </a:moveTo>
                <a:lnTo>
                  <a:pt x="44751" y="0"/>
                </a:lnTo>
                <a:lnTo>
                  <a:pt x="44751" y="21600"/>
                </a:lnTo>
                <a:lnTo>
                  <a:pt x="0" y="21600"/>
                </a:lnTo>
                <a:close/>
              </a:path>
              <a:path fill="lightenLess" w="44751" h="21600">
                <a:moveTo>
                  <a:pt x="0" y="0"/>
                </a:moveTo>
                <a:lnTo>
                  <a:pt x="44751" y="0"/>
                </a:lnTo>
                <a:lnTo>
                  <a:pt x="43351" y="1400"/>
                </a:lnTo>
                <a:lnTo>
                  <a:pt x="1400" y="1400"/>
                </a:lnTo>
                <a:close/>
              </a:path>
              <a:path fill="darken" w="44751" h="21600">
                <a:moveTo>
                  <a:pt x="44751" y="0"/>
                </a:moveTo>
                <a:lnTo>
                  <a:pt x="44751" y="21600"/>
                </a:lnTo>
                <a:lnTo>
                  <a:pt x="43351" y="20200"/>
                </a:lnTo>
                <a:lnTo>
                  <a:pt x="43351" y="1400"/>
                </a:lnTo>
                <a:close/>
              </a:path>
              <a:path fill="darkenLess" w="44751" h="21600">
                <a:moveTo>
                  <a:pt x="44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51" y="20200"/>
                </a:lnTo>
                <a:close/>
              </a:path>
              <a:path fill="lighten" w="44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751" h="21600">
                <a:moveTo>
                  <a:pt x="15369" y="7493"/>
                </a:moveTo>
                <a:lnTo>
                  <a:pt x="18877" y="7493"/>
                </a:lnTo>
                <a:lnTo>
                  <a:pt x="18877" y="12828"/>
                </a:lnTo>
                <a:cubicBezTo>
                  <a:pt x="18877" y="13751"/>
                  <a:pt x="19678" y="14482"/>
                  <a:pt x="20713" y="14482"/>
                </a:cubicBezTo>
                <a:lnTo>
                  <a:pt x="22376" y="14482"/>
                </a:lnTo>
                <a:cubicBezTo>
                  <a:pt x="23411" y="14482"/>
                  <a:pt x="24212" y="13751"/>
                  <a:pt x="24212" y="12828"/>
                </a:cubicBezTo>
                <a:lnTo>
                  <a:pt x="24212" y="7493"/>
                </a:lnTo>
                <a:lnTo>
                  <a:pt x="22376" y="7493"/>
                </a:lnTo>
                <a:lnTo>
                  <a:pt x="25883" y="3985"/>
                </a:lnTo>
                <a:lnTo>
                  <a:pt x="29556" y="7493"/>
                </a:lnTo>
                <a:lnTo>
                  <a:pt x="27720" y="7493"/>
                </a:lnTo>
                <a:lnTo>
                  <a:pt x="27720" y="12828"/>
                </a:lnTo>
                <a:cubicBezTo>
                  <a:pt x="27720" y="15596"/>
                  <a:pt x="25143" y="18155"/>
                  <a:pt x="22376" y="18155"/>
                </a:cubicBezTo>
                <a:lnTo>
                  <a:pt x="20713" y="18155"/>
                </a:lnTo>
                <a:cubicBezTo>
                  <a:pt x="17946" y="18155"/>
                  <a:pt x="15369" y="15596"/>
                  <a:pt x="15369" y="12828"/>
                </a:cubicBez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5e5ff"/>
                </a:solidFill>
                <a:latin typeface="Garamond"/>
              </a:rPr>
              <a:t>阅读要求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：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79520" y="1628280"/>
            <a:ext cx="82072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Garamond"/>
              </a:rPr>
              <a:t>1 </a:t>
            </a:r>
            <a:r>
              <a:rPr b="1" lang="zh-CN" sz="4400" spc="-1" strike="noStrike">
                <a:solidFill>
                  <a:srgbClr val="ffffff"/>
                </a:solidFill>
                <a:latin typeface="Garamond"/>
              </a:rPr>
              <a:t>读准字音，读通句子。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Garamond"/>
              </a:rPr>
              <a:t>2 </a:t>
            </a:r>
            <a:r>
              <a:rPr b="1" lang="zh-CN" sz="4400" spc="-1" strike="noStrike">
                <a:solidFill>
                  <a:srgbClr val="ffffff"/>
                </a:solidFill>
                <a:latin typeface="Garamond"/>
              </a:rPr>
              <a:t>把自然段标出来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427640" y="3284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210465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5e5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e5e5ff"/>
                </a:solidFill>
                <a:latin typeface="Arial"/>
              </a:rPr>
              <a:t>每当夜幕降临的时候，北京就亮起来了。整个北京城变成了灯的海洋，光的世界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5e5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e5e5ff"/>
                </a:solidFill>
                <a:latin typeface="Arial"/>
              </a:rPr>
              <a:t>长安街华灯高照，川流不息的汽车，灯光闪烁，像银河从天而降。天安门城楼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金碧辉煌，光彩夺目</a:t>
            </a:r>
            <a:r>
              <a:rPr b="1" lang="zh-CN" sz="3200" spc="-1" strike="noStrike">
                <a:solidFill>
                  <a:srgbClr val="e5e5ff"/>
                </a:solidFill>
                <a:latin typeface="Arial"/>
              </a:rPr>
              <a:t>。广场四周，彩灯勾画出一幢幢高大建筑物的雄伟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轮廓</a:t>
            </a:r>
            <a:r>
              <a:rPr b="1" lang="zh-CN" sz="3200" spc="-1" strike="noStrike">
                <a:solidFill>
                  <a:srgbClr val="e5e5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32000" y="404640"/>
            <a:ext cx="3240000" cy="2089440"/>
          </a:xfrm>
          <a:prstGeom prst="wedgeRoundRectCallout">
            <a:avLst>
              <a:gd name="adj1" fmla="val -27657"/>
              <a:gd name="adj2" fmla="val -52736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夜幕：指夜间，景物像罩上了一幅大幕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260280"/>
            <a:ext cx="3527280" cy="647640"/>
          </a:xfrm>
          <a:prstGeom prst="wedgeRectCallout">
            <a:avLst>
              <a:gd name="adj1" fmla="val -47703"/>
              <a:gd name="adj2" fmla="val 5686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降临：到来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357336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夜幕下北京是什么样子的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1125360"/>
            <a:ext cx="388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472428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第二段写了北京的那些地方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32000" y="2781360"/>
            <a:ext cx="1512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1773360"/>
            <a:ext cx="129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00720" y="2276640"/>
            <a:ext cx="180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549360"/>
            <a:ext cx="649080" cy="0"/>
          </a:xfrm>
          <a:prstGeom prst="line">
            <a:avLst/>
          </a:prstGeom>
          <a:ln cap="rnd" w="572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549360"/>
            <a:ext cx="649440" cy="0"/>
          </a:xfrm>
          <a:prstGeom prst="line">
            <a:avLst/>
          </a:prstGeom>
          <a:ln cap="rnd" w="572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60280"/>
            <a:ext cx="9144000" cy="14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e5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e5e5ff"/>
                </a:solidFill>
                <a:latin typeface="Arial"/>
              </a:rPr>
              <a:t>环形路上一座座立交桥犹如道道彩 虹。街道上，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照明灯</a:t>
            </a:r>
            <a:r>
              <a:rPr b="0" lang="zh-CN" sz="3200" spc="-1" strike="noStrike">
                <a:solidFill>
                  <a:srgbClr val="e5e5ff"/>
                </a:solidFill>
                <a:latin typeface="Arial"/>
              </a:rPr>
              <a:t>、草坪灯、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喷泉灯</a:t>
            </a:r>
            <a:r>
              <a:rPr b="0" lang="zh-CN" sz="3200" spc="-1" strike="noStrike">
                <a:solidFill>
                  <a:srgbClr val="e5e5ff"/>
                </a:solidFill>
                <a:latin typeface="Arial"/>
              </a:rPr>
              <a:t>、礼花灯，装点着美丽的北京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e5ff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e5e5ff"/>
                </a:solidFill>
                <a:latin typeface="Arial"/>
              </a:rPr>
              <a:t>焕然一新的王府井，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西单商业</a:t>
            </a:r>
            <a:r>
              <a:rPr b="0" lang="zh-CN" sz="3200" spc="-1" strike="noStrike">
                <a:solidFill>
                  <a:srgbClr val="e5e5ff"/>
                </a:solidFill>
                <a:latin typeface="Arial"/>
              </a:rPr>
              <a:t>街上，明亮的橱窗，绚丽多彩的广告，五光十色的霓虹灯，把繁华的大街装扮成了比白天更美的“不夜城”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378936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、在环形路上看到了什么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484360" y="836640"/>
            <a:ext cx="4751640" cy="14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71640" y="1341360"/>
            <a:ext cx="604836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9640" y="465300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、在商业街上看到了什么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451640" y="2492280"/>
            <a:ext cx="14414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2997360"/>
            <a:ext cx="70578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551664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、练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7:12:41Z</dcterms:created>
  <dc:creator>Legend User</dc:creator>
  <dc:description/>
  <dc:language>en-US</dc:language>
  <cp:lastModifiedBy>lenovo</cp:lastModifiedBy>
  <dcterms:modified xsi:type="dcterms:W3CDTF">2008-03-19T10:48:31Z</dcterms:modified>
  <cp:revision>38</cp:revision>
  <dc:subject/>
  <dc:title>幻灯片 1</dc:title>
</cp:coreProperties>
</file>