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gif" ContentType="image/gif"/>
  <Override PartName="/ppt/media/image9.gif" ContentType="image/gif"/>
  <Override PartName="/ppt/media/image8.jpeg" ContentType="image/jpeg"/>
  <Override PartName="/ppt/media/image7.jpeg" ContentType="image/jpeg"/>
  <Override PartName="/ppt/media/image15.gif" ContentType="image/gif"/>
  <Override PartName="/ppt/media/image19.gif" ContentType="image/gif"/>
  <Override PartName="/ppt/media/image1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4.gif" ContentType="image/gif"/>
  <Override PartName="/ppt/media/image3.gif" ContentType="image/gif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1.gif" ContentType="image/gif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C5F-9C67-4C5A-9FB7-A36AD763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5EB-6AAC-4CC5-BE4E-4B044259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020-3160-4429-AA9B-B9B76D1F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D327-7E6E-4883-A04B-ED922E34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94F-ABA3-428B-9D05-43D4E759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8FB-EC84-436B-8DFB-E7201E33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3E9-4BA4-44F7-A532-E72BE837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2F6-43E4-4E73-9ADE-25036638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1B4-7886-4204-B84A-D5C941BB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8ED-C141-4CEE-AA5B-BB2654F9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F42-90B6-47E9-854F-F539DD4C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2073-5C57-4876-90EB-434D855E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90E4-2178-4558-9C8A-9FFD9B5203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9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dd"/>
            </a:gs>
            <a:gs pos="50000">
              <a:srgbClr val="ffffd1"/>
            </a:gs>
            <a:gs pos="100000">
              <a:srgbClr val="ddff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62320" y="-76320"/>
            <a:ext cx="3581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课件制作说明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4152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课件名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3333ff"/>
                </a:solidFill>
                <a:latin typeface="宋体"/>
              </a:rPr>
              <a:t>义务教育课程标准实验教科书二年级下册</a:t>
            </a:r>
            <a:r>
              <a:rPr b="0" lang="zh-CN" sz="2000" spc="-1" strike="noStrike">
                <a:solidFill>
                  <a:srgbClr val="3333ff"/>
                </a:solidFill>
                <a:latin typeface="宋体"/>
              </a:rPr>
              <a:t>22</a:t>
            </a:r>
            <a:r>
              <a:rPr b="0" lang="zh-CN" sz="2000" spc="-1" strike="noStrike">
                <a:solidFill>
                  <a:srgbClr val="3333ff"/>
                </a:solidFill>
                <a:latin typeface="宋体"/>
              </a:rPr>
              <a:t>课</a:t>
            </a:r>
            <a:r>
              <a:rPr b="0" lang="en-US" sz="2000" spc="-1" strike="noStrike">
                <a:solidFill>
                  <a:srgbClr val="3333ff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3333ff"/>
                </a:solidFill>
                <a:latin typeface="宋体"/>
              </a:rPr>
              <a:t>我为你骄傲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教材说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3333ff"/>
                </a:solidFill>
                <a:latin typeface="Times New Roman"/>
              </a:rPr>
              <a:t>《我为你骄傲》是一篇非常令人感动的课文，讲的是“我”一不小心砸破了老奶奶家的玻璃，尽管当时没敢承认，但内疚的心理和责任感伴随了“我”三个星期，当“我”用自己攒了三个星期的送报纸的钱赔给老奶奶并附上道歉信时，慈祥又善于教育后辈的老奶奶回赠了“我”一袋饼干并在一张便条上写着：“我为你骄傲”。本课目标除认字、写字外，还要求正确、流利、有感情地朗读课文，领悟故事中的道理和感情，学会承担责任，学会宽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课件制作说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3333ff"/>
                </a:solidFill>
                <a:latin typeface="Times New Roman"/>
              </a:rPr>
              <a:t>本课件使用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owerpoint</a:t>
            </a:r>
            <a:r>
              <a:rPr b="0" lang="zh-CN" sz="2000" spc="-1" strike="noStrike">
                <a:solidFill>
                  <a:srgbClr val="3333ff"/>
                </a:solidFill>
                <a:latin typeface="Times New Roman"/>
              </a:rPr>
              <a:t>制作，主要用于导入新课、学习检查生字、辅助朗读感悟课文、拓展练习等。通过幻灯片的展示，借助形象直观的画面、鼓励性的语言提示，提高学生的学习兴趣。首先，用补充课题的方式导入新课，借机认识课题中的生字；接下来利用课文插图引起学生兴趣，听课文录音，初步感知内容；词语的展示、开火车认读、看谁写得好等形式帮助学生在自主合作的基础上巩固生字，并相机指导写字；重点问题的提示，引导学生精读感悟，体会课文中的真情；重点语句的朗读指导、分角色朗读练习，让学生进一步在读中体验真情，与文中人物产生情感的共鸣；课件最后的拓展延伸练习，既培养了学生勇于承担责任的意识，又发展了学生的思维，培养了学生的想象力和语言表达能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RX_015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75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66680" y="76320"/>
            <a:ext cx="4172040" cy="15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看谁读得好！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0705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我们听到玻璃破碎的声音，就像兔子一样飞快地逃走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RX_007" descr=""/>
          <p:cNvPicPr/>
          <p:nvPr/>
        </p:nvPicPr>
        <p:blipFill>
          <a:blip r:embed="rId1"/>
          <a:stretch/>
        </p:blipFill>
        <p:spPr>
          <a:xfrm>
            <a:off x="8001000" y="0"/>
            <a:ext cx="1065240" cy="2133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207324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石头像子弹一样射出去，又像流星一样从天而降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X_007" descr=""/>
          <p:cNvPicPr/>
          <p:nvPr/>
        </p:nvPicPr>
        <p:blipFill>
          <a:blip r:embed="rId2"/>
          <a:stretch/>
        </p:blipFill>
        <p:spPr>
          <a:xfrm>
            <a:off x="6705720" y="4114800"/>
            <a:ext cx="1171440" cy="2590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76320"/>
            <a:ext cx="6019920" cy="2133360"/>
          </a:xfrm>
          <a:prstGeom prst="cloudCallout">
            <a:avLst>
              <a:gd name="adj1" fmla="val -19064"/>
              <a:gd name="adj2" fmla="val 146949"/>
            </a:avLst>
          </a:prstGeom>
          <a:solidFill>
            <a:srgbClr val="ccffff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1828800"/>
            <a:ext cx="6477120" cy="2209680"/>
          </a:xfrm>
          <a:prstGeom prst="cloudCallout">
            <a:avLst>
              <a:gd name="adj1" fmla="val 6546"/>
              <a:gd name="adj2" fmla="val 101365"/>
            </a:avLst>
          </a:prstGeom>
          <a:solidFill>
            <a:srgbClr val="ccff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RX_014" descr=""/>
          <p:cNvPicPr/>
          <p:nvPr/>
        </p:nvPicPr>
        <p:blipFill>
          <a:blip r:embed="rId3"/>
          <a:stretch/>
        </p:blipFill>
        <p:spPr>
          <a:xfrm>
            <a:off x="380880" y="3581280"/>
            <a:ext cx="1254240" cy="2667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80880" y="190440"/>
            <a:ext cx="502920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这个故事太感人了！</a:t>
            </a:r>
            <a:endParaRPr b="1" lang="en-US" sz="24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28840" y="2209680"/>
            <a:ext cx="5610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们来分角色朗读课文吧！</a:t>
            </a:r>
            <a:endParaRPr b="1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58680"/>
            <a:ext cx="37339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扩展练习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125" name=""/>
          <p:cNvSpPr/>
          <p:nvPr/>
        </p:nvSpPr>
        <p:spPr>
          <a:xfrm>
            <a:off x="136440" y="1994040"/>
            <a:ext cx="9007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3333ff"/>
                </a:solidFill>
                <a:latin typeface="隶书"/>
                <a:ea typeface="隶书"/>
              </a:rPr>
              <a:t>、你觉得“我”还可以采取什么样的方法来弥补这次过失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1" lang="zh-CN" sz="4800" spc="-1" strike="noStrike">
                <a:solidFill>
                  <a:srgbClr val="ff00ff"/>
                </a:solidFill>
                <a:latin typeface="隶书"/>
                <a:ea typeface="隶书"/>
              </a:rPr>
              <a:t>、在生活中，你遇到过这样的事吗？做了错事，应当怎么办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隶书"/>
                <a:ea typeface="隶书"/>
              </a:rPr>
              <a:t>3</a:t>
            </a:r>
            <a:r>
              <a:rPr b="1" lang="zh-CN" sz="4800" spc="-1" strike="noStrike">
                <a:solidFill>
                  <a:srgbClr val="009900"/>
                </a:solidFill>
                <a:latin typeface="隶书"/>
                <a:ea typeface="隶书"/>
              </a:rPr>
              <a:t>、当“我”看到便条时心里会怎么想？请你大胆想象，续讲故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WW_015" descr="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X_014" descr=""/>
          <p:cNvPicPr/>
          <p:nvPr/>
        </p:nvPicPr>
        <p:blipFill>
          <a:blip r:embed="rId1"/>
          <a:stretch/>
        </p:blipFill>
        <p:spPr>
          <a:xfrm>
            <a:off x="38160" y="0"/>
            <a:ext cx="1260360" cy="2362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295280" y="276120"/>
            <a:ext cx="419112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看谁写得好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43000" y="2590920"/>
            <a:ext cx="1600200" cy="1600200"/>
            <a:chOff x="1143000" y="2590920"/>
            <a:chExt cx="1600200" cy="1600200"/>
          </a:xfrm>
        </p:grpSpPr>
        <p:sp>
          <p:nvSpPr>
            <p:cNvPr id="130" name=""/>
            <p:cNvSpPr/>
            <p:nvPr/>
          </p:nvSpPr>
          <p:spPr>
            <a:xfrm>
              <a:off x="1143000" y="259092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43000" y="342936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81440" y="259092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143000" y="4724280"/>
            <a:ext cx="1600200" cy="1600200"/>
            <a:chOff x="1143000" y="4724280"/>
            <a:chExt cx="1600200" cy="1600200"/>
          </a:xfrm>
        </p:grpSpPr>
        <p:sp>
          <p:nvSpPr>
            <p:cNvPr id="134" name=""/>
            <p:cNvSpPr/>
            <p:nvPr/>
          </p:nvSpPr>
          <p:spPr>
            <a:xfrm>
              <a:off x="1143000" y="472428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43000" y="556272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440" y="472428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 txBox="1"/>
          <p:nvPr/>
        </p:nvSpPr>
        <p:spPr>
          <a:xfrm>
            <a:off x="1295280" y="2743200"/>
            <a:ext cx="1295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报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4876920"/>
            <a:ext cx="12956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拾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657600" y="4724280"/>
            <a:ext cx="2895120" cy="1600200"/>
            <a:chOff x="3657600" y="4724280"/>
            <a:chExt cx="2895120" cy="1600200"/>
          </a:xfrm>
        </p:grpSpPr>
        <p:grpSp>
          <p:nvGrpSpPr>
            <p:cNvPr id="140" name=""/>
            <p:cNvGrpSpPr/>
            <p:nvPr/>
          </p:nvGrpSpPr>
          <p:grpSpPr>
            <a:xfrm>
              <a:off x="3657600" y="4724280"/>
              <a:ext cx="1447560" cy="1600200"/>
              <a:chOff x="3657600" y="4724280"/>
              <a:chExt cx="1447560" cy="1600200"/>
            </a:xfrm>
          </p:grpSpPr>
          <p:sp>
            <p:nvSpPr>
              <p:cNvPr id="141" name=""/>
              <p:cNvSpPr/>
              <p:nvPr/>
            </p:nvSpPr>
            <p:spPr>
              <a:xfrm>
                <a:off x="3657600" y="4724280"/>
                <a:ext cx="1447560" cy="160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57600" y="5562720"/>
                <a:ext cx="14475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415760" y="4724280"/>
                <a:ext cx="0" cy="1600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105160" y="4724280"/>
              <a:ext cx="1447560" cy="1600200"/>
              <a:chOff x="5105160" y="4724280"/>
              <a:chExt cx="1447560" cy="1600200"/>
            </a:xfrm>
          </p:grpSpPr>
          <p:sp>
            <p:nvSpPr>
              <p:cNvPr id="145" name=""/>
              <p:cNvSpPr/>
              <p:nvPr/>
            </p:nvSpPr>
            <p:spPr>
              <a:xfrm>
                <a:off x="5105160" y="4724280"/>
                <a:ext cx="1447560" cy="160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105160" y="5562720"/>
                <a:ext cx="14475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63320" y="4724280"/>
                <a:ext cx="0" cy="1600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3657600" y="2514600"/>
            <a:ext cx="2895120" cy="1675800"/>
            <a:chOff x="3657600" y="2514600"/>
            <a:chExt cx="2895120" cy="1675800"/>
          </a:xfrm>
        </p:grpSpPr>
        <p:grpSp>
          <p:nvGrpSpPr>
            <p:cNvPr id="149" name=""/>
            <p:cNvGrpSpPr/>
            <p:nvPr/>
          </p:nvGrpSpPr>
          <p:grpSpPr>
            <a:xfrm>
              <a:off x="3657600" y="2514600"/>
              <a:ext cx="1447560" cy="1675800"/>
              <a:chOff x="3657600" y="2514600"/>
              <a:chExt cx="1447560" cy="1675800"/>
            </a:xfrm>
          </p:grpSpPr>
          <p:sp>
            <p:nvSpPr>
              <p:cNvPr id="150" name=""/>
              <p:cNvSpPr/>
              <p:nvPr/>
            </p:nvSpPr>
            <p:spPr>
              <a:xfrm>
                <a:off x="3657600" y="2514600"/>
                <a:ext cx="1447560" cy="167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57600" y="3392640"/>
                <a:ext cx="14475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15760" y="2514600"/>
                <a:ext cx="0" cy="1675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105160" y="2514600"/>
              <a:ext cx="1447560" cy="1675800"/>
              <a:chOff x="5105160" y="2514600"/>
              <a:chExt cx="1447560" cy="1675800"/>
            </a:xfrm>
          </p:grpSpPr>
          <p:sp>
            <p:nvSpPr>
              <p:cNvPr id="154" name=""/>
              <p:cNvSpPr/>
              <p:nvPr/>
            </p:nvSpPr>
            <p:spPr>
              <a:xfrm>
                <a:off x="5105160" y="2514600"/>
                <a:ext cx="1447560" cy="167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05160" y="3392640"/>
                <a:ext cx="14475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3320" y="2514600"/>
                <a:ext cx="0" cy="1675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5943600" y="533520"/>
            <a:ext cx="2819520" cy="1600200"/>
            <a:chOff x="5943600" y="533520"/>
            <a:chExt cx="2819520" cy="1600200"/>
          </a:xfrm>
        </p:grpSpPr>
        <p:grpSp>
          <p:nvGrpSpPr>
            <p:cNvPr id="158" name=""/>
            <p:cNvGrpSpPr/>
            <p:nvPr/>
          </p:nvGrpSpPr>
          <p:grpSpPr>
            <a:xfrm>
              <a:off x="5943600" y="533520"/>
              <a:ext cx="1409760" cy="1600200"/>
              <a:chOff x="5943600" y="533520"/>
              <a:chExt cx="1409760" cy="1600200"/>
            </a:xfrm>
          </p:grpSpPr>
          <p:sp>
            <p:nvSpPr>
              <p:cNvPr id="159" name=""/>
              <p:cNvSpPr/>
              <p:nvPr/>
            </p:nvSpPr>
            <p:spPr>
              <a:xfrm>
                <a:off x="5943600" y="533520"/>
                <a:ext cx="1409760" cy="160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43600" y="1371960"/>
                <a:ext cx="14097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681960" y="533520"/>
                <a:ext cx="0" cy="1600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7353360" y="533520"/>
              <a:ext cx="1409760" cy="1600200"/>
              <a:chOff x="7353360" y="533520"/>
              <a:chExt cx="1409760" cy="1600200"/>
            </a:xfrm>
          </p:grpSpPr>
          <p:sp>
            <p:nvSpPr>
              <p:cNvPr id="163" name=""/>
              <p:cNvSpPr/>
              <p:nvPr/>
            </p:nvSpPr>
            <p:spPr>
              <a:xfrm>
                <a:off x="7353360" y="533520"/>
                <a:ext cx="1409760" cy="160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353360" y="1371960"/>
                <a:ext cx="14097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091720" y="533520"/>
                <a:ext cx="0" cy="1600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"/>
          <p:cNvSpPr txBox="1"/>
          <p:nvPr/>
        </p:nvSpPr>
        <p:spPr>
          <a:xfrm>
            <a:off x="6095880" y="685800"/>
            <a:ext cx="1143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继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467480" y="685800"/>
            <a:ext cx="1143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续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09880" y="4876920"/>
            <a:ext cx="1206720" cy="13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骄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257800" y="4876920"/>
            <a:ext cx="1219320" cy="12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傲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9880" y="2666880"/>
            <a:ext cx="1173240" cy="13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破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227560" y="2697120"/>
            <a:ext cx="11732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碎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72" name="WY_029" descr=""/>
          <p:cNvPicPr/>
          <p:nvPr/>
        </p:nvPicPr>
        <p:blipFill>
          <a:blip r:embed="rId2"/>
          <a:stretch/>
        </p:blipFill>
        <p:spPr>
          <a:xfrm>
            <a:off x="7620120" y="5334120"/>
            <a:ext cx="1295280" cy="1301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562720" y="1371600"/>
            <a:ext cx="32004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骄傲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5" name="adonghua-girl" descr=""/>
          <p:cNvPicPr/>
          <p:nvPr/>
        </p:nvPicPr>
        <p:blipFill>
          <a:blip r:embed="rId2"/>
          <a:stretch/>
        </p:blipFill>
        <p:spPr>
          <a:xfrm>
            <a:off x="3773520" y="3865680"/>
            <a:ext cx="1636560" cy="291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838080" y="1219320"/>
            <a:ext cx="44960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ccccff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22 </a:t>
            </a:r>
            <a:r>
              <a:rPr b="1" lang="zh-CN" sz="7200" spc="1" strike="noStrike">
                <a:ln w="12600">
                  <a:solidFill>
                    <a:srgbClr val="ccccff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我为你</a:t>
            </a:r>
            <a:endParaRPr b="1" lang="en-US" sz="7200" spc="1" strike="noStrike">
              <a:ln w="12600">
                <a:solidFill>
                  <a:srgbClr val="ccccff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7" name=""/>
          <p:cNvSpPr/>
          <p:nvPr/>
        </p:nvSpPr>
        <p:spPr>
          <a:xfrm>
            <a:off x="5478120" y="60199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张店区洪沟小学 于爱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未标题-1%20副本" descr=""/>
          <p:cNvPicPr/>
          <p:nvPr/>
        </p:nvPicPr>
        <p:blipFill>
          <a:blip r:embed="rId1"/>
          <a:stretch/>
        </p:blipFill>
        <p:spPr>
          <a:xfrm>
            <a:off x="0" y="-6480"/>
            <a:ext cx="6553080" cy="687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477120" y="76320"/>
            <a:ext cx="25905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听录音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" name=""/>
          <p:cNvSpPr/>
          <p:nvPr/>
        </p:nvSpPr>
        <p:spPr>
          <a:xfrm>
            <a:off x="7081920" y="2270160"/>
            <a:ext cx="155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课文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讲了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件什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事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95280" y="1041480"/>
            <a:ext cx="6858000" cy="314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识字加油站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2" name="RX_015" descr=""/>
          <p:cNvPicPr/>
          <p:nvPr/>
        </p:nvPicPr>
        <p:blipFill>
          <a:blip r:embed="rId2"/>
          <a:stretch/>
        </p:blipFill>
        <p:spPr>
          <a:xfrm>
            <a:off x="7429680" y="4343400"/>
            <a:ext cx="171432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52280" y="380880"/>
            <a:ext cx="18288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光滑</a:t>
            </a:r>
            <a:endParaRPr b="1" lang="en-US" sz="7200" spc="1" strike="noStrike">
              <a:ln w="1908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438280" y="380880"/>
            <a:ext cx="18288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玻璃</a:t>
            </a:r>
            <a:endParaRPr b="1" lang="en-US" sz="72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800600" y="457200"/>
            <a:ext cx="185724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破碎</a:t>
            </a:r>
            <a:endParaRPr b="1" lang="en-US" sz="72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5105520"/>
            <a:ext cx="23623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楷体_GB2312"/>
              </a:rPr>
              <a:t>打招呼</a:t>
            </a:r>
            <a:endParaRPr b="1" lang="en-US" sz="72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0160" y="1932120"/>
            <a:ext cx="185724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楷体_GB2312"/>
              </a:rPr>
              <a:t>道歉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14600" y="1905120"/>
            <a:ext cx="1905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顿时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724280" y="1905120"/>
            <a:ext cx="1828800" cy="95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楷体_GB2312"/>
              </a:rPr>
              <a:t>信箱</a:t>
            </a:r>
            <a:endParaRPr b="1" lang="en-US" sz="72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14600" y="3429000"/>
            <a:ext cx="1857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真诚</a:t>
            </a:r>
            <a:endParaRPr b="1" lang="en-US" sz="72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162920" y="3352680"/>
            <a:ext cx="19047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75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骄傲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75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00600" y="3495600"/>
            <a:ext cx="185724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楷体_GB2312"/>
              </a:rPr>
              <a:t>担心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086600" y="380880"/>
            <a:ext cx="185724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楷体_GB2312"/>
              </a:rPr>
              <a:t>信封</a:t>
            </a:r>
            <a:endParaRPr b="1" lang="en-US" sz="72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15000" y="5029200"/>
            <a:ext cx="207180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不自在</a:t>
            </a:r>
            <a:endParaRPr b="1" lang="en-US" sz="72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76720" y="5029200"/>
            <a:ext cx="259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楷体_GB2312"/>
              </a:rPr>
              <a:t>攒起来</a:t>
            </a:r>
            <a:endParaRPr b="1" lang="en-US" sz="72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00160" y="3505320"/>
            <a:ext cx="185724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修理</a:t>
            </a:r>
            <a:endParaRPr b="1" lang="en-US" sz="72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134120" y="1895400"/>
            <a:ext cx="18576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继续</a:t>
            </a:r>
            <a:endParaRPr b="1" lang="en-US" sz="72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X_014" descr=""/>
          <p:cNvPicPr/>
          <p:nvPr/>
        </p:nvPicPr>
        <p:blipFill>
          <a:blip r:embed="rId2"/>
          <a:stretch/>
        </p:blipFill>
        <p:spPr>
          <a:xfrm>
            <a:off x="603360" y="2895480"/>
            <a:ext cx="1787400" cy="3581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666880" y="1295280"/>
            <a:ext cx="5791320" cy="316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比赛认生字吧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AR_0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819520" y="1523880"/>
            <a:ext cx="42670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ccff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箱</a:t>
            </a:r>
            <a:endParaRPr b="1" lang="en-US" sz="9600" spc="1" strike="noStrike">
              <a:ln w="19080">
                <a:solidFill>
                  <a:srgbClr val="ccff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19520" y="1295280"/>
            <a:ext cx="42670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顿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124080" y="1447920"/>
            <a:ext cx="426744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封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95480" y="1295280"/>
            <a:ext cx="42674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c9fcb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歉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c9fcb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95480" y="1295280"/>
            <a:ext cx="42674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攒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971800" y="1219320"/>
            <a:ext cx="42670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玻</a:t>
            </a:r>
            <a:endParaRPr b="1" lang="en-US" sz="9600" spc="1" strike="noStrike">
              <a:ln w="1908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124080" y="1371600"/>
            <a:ext cx="42674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滑</a:t>
            </a:r>
            <a:endParaRPr b="1" lang="en-US" sz="9600" spc="1" strike="noStrike">
              <a:ln w="1908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00400" y="1371600"/>
            <a:ext cx="42670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碎</a:t>
            </a:r>
            <a:endParaRPr b="1" lang="en-US" sz="9600" spc="1" strike="noStrike">
              <a:ln w="1908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666880" y="1143000"/>
            <a:ext cx="42674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璃</a:t>
            </a:r>
            <a:endParaRPr b="1" lang="en-US" sz="9600" spc="1" strike="noStrike">
              <a:ln w="1908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0"/>
            <a:ext cx="3200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开火车喽！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1" name="RT_020" descr="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82" name="RW_022" descr=""/>
          <p:cNvPicPr/>
          <p:nvPr/>
        </p:nvPicPr>
        <p:blipFill>
          <a:blip r:embed="rId3"/>
          <a:stretch/>
        </p:blipFill>
        <p:spPr>
          <a:xfrm>
            <a:off x="3352680" y="4664160"/>
            <a:ext cx="3764160" cy="2193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133720" y="1981080"/>
            <a:ext cx="611028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你真棒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533520" y="2666880"/>
            <a:ext cx="1600200" cy="1676520"/>
            <a:chOff x="533520" y="2666880"/>
            <a:chExt cx="1600200" cy="1676520"/>
          </a:xfrm>
        </p:grpSpPr>
        <p:sp>
          <p:nvSpPr>
            <p:cNvPr id="85" name=""/>
            <p:cNvSpPr/>
            <p:nvPr/>
          </p:nvSpPr>
          <p:spPr>
            <a:xfrm>
              <a:off x="533520" y="2666880"/>
              <a:ext cx="1600200" cy="1609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3520" y="347148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33440" y="266688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819520" y="2666880"/>
            <a:ext cx="1600200" cy="1676520"/>
            <a:chOff x="2819520" y="2666880"/>
            <a:chExt cx="1600200" cy="1676520"/>
          </a:xfrm>
        </p:grpSpPr>
        <p:sp>
          <p:nvSpPr>
            <p:cNvPr id="89" name=""/>
            <p:cNvSpPr/>
            <p:nvPr/>
          </p:nvSpPr>
          <p:spPr>
            <a:xfrm>
              <a:off x="2819520" y="2666880"/>
              <a:ext cx="1600200" cy="1609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19520" y="347148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19440" y="266688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257800" y="2666880"/>
            <a:ext cx="1600200" cy="1676520"/>
            <a:chOff x="5257800" y="2666880"/>
            <a:chExt cx="1600200" cy="1676520"/>
          </a:xfrm>
        </p:grpSpPr>
        <p:sp>
          <p:nvSpPr>
            <p:cNvPr id="93" name=""/>
            <p:cNvSpPr/>
            <p:nvPr/>
          </p:nvSpPr>
          <p:spPr>
            <a:xfrm>
              <a:off x="5257800" y="2666880"/>
              <a:ext cx="1600200" cy="1609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57800" y="347148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57720" y="266688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858000" y="2666880"/>
            <a:ext cx="1600200" cy="1676520"/>
            <a:chOff x="6858000" y="2666880"/>
            <a:chExt cx="1600200" cy="1676520"/>
          </a:xfrm>
        </p:grpSpPr>
        <p:sp>
          <p:nvSpPr>
            <p:cNvPr id="97" name=""/>
            <p:cNvSpPr/>
            <p:nvPr/>
          </p:nvSpPr>
          <p:spPr>
            <a:xfrm>
              <a:off x="6858000" y="2666880"/>
              <a:ext cx="1600200" cy="1609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58000" y="347148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57920" y="266688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 txBox="1"/>
          <p:nvPr/>
        </p:nvSpPr>
        <p:spPr>
          <a:xfrm>
            <a:off x="793800" y="2903400"/>
            <a:ext cx="103500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滑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8120" y="2895480"/>
            <a:ext cx="113004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封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99000" y="2743200"/>
            <a:ext cx="1130400" cy="13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玻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118280" y="2827440"/>
            <a:ext cx="1035000" cy="12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璃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104" name=""/>
          <p:cNvSpPr txBox="1"/>
          <p:nvPr/>
        </p:nvSpPr>
        <p:spPr>
          <a:xfrm rot="20758200">
            <a:off x="3943440" y="4954320"/>
            <a:ext cx="3504960" cy="13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50000">
                      <a:srgbClr val="005cbf"/>
                    </a:gs>
                    <a:gs pos="100000">
                      <a:srgbClr val="03d4a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能写好吗？</a:t>
            </a:r>
            <a:endParaRPr b="0" lang="en-US" sz="2400" spc="1" strike="noStrike">
              <a:ln w="1908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50000">
                    <a:srgbClr val="005cbf"/>
                  </a:gs>
                  <a:gs pos="100000">
                    <a:srgbClr val="03d4a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5" name="WY_029" descr=""/>
          <p:cNvPicPr/>
          <p:nvPr/>
        </p:nvPicPr>
        <p:blipFill>
          <a:blip r:embed="rId1"/>
          <a:stretch/>
        </p:blipFill>
        <p:spPr>
          <a:xfrm>
            <a:off x="7620120" y="5410080"/>
            <a:ext cx="1295280" cy="1225800"/>
          </a:xfrm>
          <a:prstGeom prst="rect">
            <a:avLst/>
          </a:prstGeom>
          <a:ln w="0">
            <a:noFill/>
          </a:ln>
        </p:spPr>
      </p:pic>
      <p:pic>
        <p:nvPicPr>
          <p:cNvPr id="106" name="RX_014" descr=""/>
          <p:cNvPicPr/>
          <p:nvPr/>
        </p:nvPicPr>
        <p:blipFill>
          <a:blip r:embed="rId2"/>
          <a:stretch/>
        </p:blipFill>
        <p:spPr>
          <a:xfrm>
            <a:off x="38160" y="0"/>
            <a:ext cx="1260360" cy="2362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295280" y="276120"/>
            <a:ext cx="419112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看谁写得好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8" name="WW_030" descr=""/>
          <p:cNvPicPr/>
          <p:nvPr/>
        </p:nvPicPr>
        <p:blipFill>
          <a:blip r:embed="rId3"/>
          <a:stretch/>
        </p:blipFill>
        <p:spPr>
          <a:xfrm>
            <a:off x="6934320" y="0"/>
            <a:ext cx="2209680" cy="1787400"/>
          </a:xfrm>
          <a:prstGeom prst="rect">
            <a:avLst/>
          </a:prstGeom>
          <a:ln w="0">
            <a:noFill/>
          </a:ln>
        </p:spPr>
      </p:pic>
      <p:pic>
        <p:nvPicPr>
          <p:cNvPr id="109" name="WW_059" descr=""/>
          <p:cNvPicPr/>
          <p:nvPr/>
        </p:nvPicPr>
        <p:blipFill>
          <a:blip r:embed="rId4"/>
          <a:stretch/>
        </p:blipFill>
        <p:spPr>
          <a:xfrm>
            <a:off x="0" y="5029200"/>
            <a:ext cx="1886040" cy="1562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76320" y="21276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默读课文</a:t>
            </a:r>
            <a:r>
              <a:rPr b="1" i="1" lang="zh-CN" sz="6600" spc="-1" strike="noStrike">
                <a:solidFill>
                  <a:srgbClr val="ff0066"/>
                </a:solidFill>
                <a:latin typeface="华文新魏"/>
                <a:ea typeface="华文新魏"/>
              </a:rPr>
              <a:t>,</a:t>
            </a:r>
            <a:r>
              <a:rPr b="1" i="1" lang="zh-CN" sz="6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思考讨论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5238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5400" spc="-1" strike="noStrike">
                <a:solidFill>
                  <a:srgbClr val="ff00ff"/>
                </a:solidFill>
                <a:latin typeface="隶书"/>
                <a:ea typeface="隶书"/>
              </a:rPr>
              <a:t>、在这件事中，我的感情有什么变化？</a:t>
            </a:r>
            <a:r>
              <a:rPr b="1" lang="zh-CN" sz="5400" spc="-1" strike="noStrike">
                <a:solidFill>
                  <a:srgbClr val="009900"/>
                </a:solidFill>
                <a:latin typeface="隶书"/>
                <a:ea typeface="隶书"/>
              </a:rPr>
              <a:t>（从课文中找出表现我感情变化的词语。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449568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华文新魏"/>
                <a:ea typeface="华文新魏"/>
              </a:rPr>
              <a:t>2</a:t>
            </a:r>
            <a:r>
              <a:rPr b="1" lang="zh-CN" sz="54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、老奶奶为什么要写“我为你骄傲”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WW_019" descr="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519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gxx</cp:lastModifiedBy>
  <dcterms:modified xsi:type="dcterms:W3CDTF">2003-12-04T02:27:23Z</dcterms:modified>
  <cp:revision>65</cp:revision>
  <dc:subject/>
  <dc:title>PowerPoint Presentation</dc:title>
</cp:coreProperties>
</file>