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3CA-F326-4517-8BF4-56E3DA39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888-3074-4677-B66E-36521E4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01A-DB0D-4E2D-BD62-AAA2DBA7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011-A5E7-493C-947E-4F2A4775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FEF-3BB1-4721-872B-34081027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EE6-C2B4-46D7-BC0D-3F34894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B9-F425-4F97-9CCD-9088530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1E3-0C26-4701-8883-E50DF46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127-A4A6-4E50-9558-75E3B747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C9D-C1E5-40D6-965D-97152E45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5DF-1774-456E-A385-F7ADB02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965-515D-4811-ACA1-26D0739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253-BEFC-46CB-881A-2AFCD5182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三个儿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13716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66ff"/>
                </a:solidFill>
                <a:latin typeface="华文新魏"/>
              </a:rPr>
              <a:t>嗨！生字朋友</a:t>
            </a:r>
            <a:r>
              <a:rPr b="0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66ff"/>
                </a:solidFill>
                <a:latin typeface="华文新魏"/>
              </a:rPr>
              <a:t>-</a:t>
            </a:r>
            <a:r>
              <a:rPr b="0" lang="zh-CN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66ff"/>
                </a:solidFill>
                <a:latin typeface="华文新魏"/>
              </a:rPr>
              <a:t>我们又见面啦！</a:t>
            </a:r>
            <a:endParaRPr b="0" lang="en-US" sz="4800" spc="1" strike="noStrike">
              <a:ln w="9360">
                <a:solidFill>
                  <a:srgbClr val="800080"/>
                </a:solidFill>
                <a:miter/>
              </a:ln>
              <a:solidFill>
                <a:srgbClr val="cc66ff"/>
              </a:solidFill>
              <a:latin typeface="华文新魏"/>
              <a:ea typeface="华文新魏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002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既    嗓    拎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 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桶    晃    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562720" y="5334120"/>
            <a:ext cx="2514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66ff"/>
                </a:solidFill>
                <a:latin typeface="华文新魏"/>
              </a:rPr>
              <a:t>读字  组词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cc66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562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29200" y="0"/>
            <a:ext cx="4114800" cy="2057400"/>
          </a:xfrm>
          <a:prstGeom prst="wedgeEllipseCallout">
            <a:avLst>
              <a:gd name="adj1" fmla="val -96796"/>
              <a:gd name="adj2" fmla="val 225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38680" y="304920"/>
            <a:ext cx="30574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3399"/>
                </a:solidFill>
                <a:latin typeface="华文新魏"/>
              </a:rPr>
              <a:t>“</a:t>
            </a:r>
            <a:r>
              <a:rPr b="1" lang="zh-CN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3399"/>
                </a:solidFill>
                <a:latin typeface="华文新魏"/>
              </a:rPr>
              <a:t>三个儿子？不对吧，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cc3399"/>
              </a:solidFill>
              <a:latin typeface="华文新魏"/>
              <a:ea typeface="华文新魏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57800" y="838080"/>
            <a:ext cx="3886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d60093"/>
                </a:solidFill>
                <a:latin typeface="华文新魏"/>
              </a:rPr>
              <a:t>我可只看见一个儿子。”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d60093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660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1828800" y="1143000"/>
            <a:ext cx="5943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00"/>
                  </a:solidFill>
                  <a:miter/>
                </a:ln>
                <a:solidFill>
                  <a:srgbClr val="cc0000"/>
                </a:solidFill>
                <a:latin typeface="华文新魏"/>
              </a:rPr>
              <a:t>明明有三个儿子同时在眼前，</a:t>
            </a:r>
            <a:endParaRPr b="0" lang="en-US" sz="2400" spc="1" strike="noStrike">
              <a:ln w="9360">
                <a:solidFill>
                  <a:srgbClr val="336600"/>
                </a:solidFill>
                <a:miter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543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00"/>
                  </a:solidFill>
                  <a:miter/>
                </a:ln>
                <a:solidFill>
                  <a:srgbClr val="cc0000"/>
                </a:solidFill>
                <a:latin typeface="华文新魏"/>
              </a:rPr>
              <a:t>为什么老爷爷却说他只看见一个儿子？</a:t>
            </a:r>
            <a:endParaRPr b="0" lang="en-US" sz="2400" spc="1" strike="noStrike">
              <a:ln w="9360">
                <a:solidFill>
                  <a:srgbClr val="336600"/>
                </a:solidFill>
                <a:miter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4648320"/>
            <a:ext cx="1600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00"/>
                  </a:solidFill>
                  <a:miter/>
                </a:ln>
                <a:solidFill>
                  <a:srgbClr val="cc0000"/>
                </a:solidFill>
                <a:latin typeface="华文新魏"/>
              </a:rPr>
              <a:t>？</a:t>
            </a:r>
            <a:endParaRPr b="0" lang="en-US" sz="2400" spc="1" strike="noStrike">
              <a:ln w="9360">
                <a:solidFill>
                  <a:srgbClr val="336600"/>
                </a:solidFill>
                <a:miter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1582280" cy="762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495680" y="68580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2f005e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请你这样做</a:t>
            </a:r>
            <a:endParaRPr b="1" lang="en-US" sz="24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2f005e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默读课文（不出声，不指读），用直线画出三位妈妈说自己儿子的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先读一读，再小组讨论：三位妈妈说话时语气（语速、语调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一样吗？再分角色读一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80880" y="-1447920"/>
            <a:ext cx="11125080" cy="8610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1143000"/>
            <a:ext cx="4267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66ff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0"/>
            <a:ext cx="807732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我的儿子既聪明又有力气，谁也比不过他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我的儿子唱起歌来好听极了，谁都没有他那样的好嗓子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有什么可说的，他没         有什么特别的地方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一桶水可重啦！水直晃荡，三个妈妈走走停停，胳膊都痛了，腰也酸了</a:t>
            </a:r>
            <a:r>
              <a:rPr b="1" lang="zh-CN" sz="66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914400"/>
            <a:ext cx="70866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一个孩子翻着跟头，像车  轮在转，真好看！一个孩子唱着歌，歌声真好  听。</a:t>
            </a:r>
            <a:r>
              <a:rPr b="1" lang="zh-CN" sz="4000" spc="-1" strike="noStrike" u="sng">
                <a:solidFill>
                  <a:srgbClr val="009900"/>
                </a:solidFill>
                <a:uFillTx/>
                <a:latin typeface="Times New Roman"/>
                <a:ea typeface="楷体_GB2312"/>
              </a:rPr>
              <a:t>另一个孩子跑到妈妈跟前，接过妈妈手里沉甸甸的水桶，                  提着走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52120" y="114300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学了这篇课文，你一定有很多想法，把它写进你的日记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倡议：从现在起，每天至少为父母做一件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00600" y="464832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快乐作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12-04T13:17:48Z</dcterms:modified>
  <cp:revision>39</cp:revision>
  <dc:subject/>
  <dc:title>PowerPoint 演示文稿</dc:title>
</cp:coreProperties>
</file>