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FA3-22CD-40A8-80CC-ABA575F1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B7A-30FB-4C2C-84BA-68EE8AD9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E081-7A58-4325-A38A-248DDC74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C03C-C2B1-4D95-A4E7-A128611E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4B49-524D-4879-9D9C-B4EF1389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BFE-E158-4775-8747-4F286099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323-BE7C-465D-B09F-C3AA7BCE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AF6-7DEB-44DC-BC6C-C9A2CCB1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383-3C0D-42A4-96C7-A27950A2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213-0995-4C52-A41B-CD6A5A4F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C2D3-964A-436C-B496-FDD42D93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887-4A6E-489E-BF97-CFD4768A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B6CE-1CFF-486F-AE2B-54C7630CC5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451640" y="6308640"/>
            <a:ext cx="838440" cy="29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317680" y="1971720"/>
            <a:ext cx="45068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6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19</a:t>
            </a:r>
            <a:r>
              <a:rPr b="0" lang="zh-CN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、赵 州 桥</a:t>
            </a:r>
            <a:endParaRPr b="0" lang="en-US" sz="7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河北省赵县的洨河上，有一座世界闻名的石拱桥，叫安济桥，又叫赵州桥。它是隋朝的石匠李春设计和参加建造的，到现在已经有一千三百多年了。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赵州桥非常雄伟。桥长五十多米，有九米多宽，中间行车马，两旁走人。这么长的桥，全部用石头砌成，下面没有桥礅，只有一个拱形的大桥洞，横跨在三十七米多宽的河面上。大桥洞顶上的左右两边，还各有两个拱形的小桥洞。平时，河水从大桥洞流过，发大水的时候，河水还可以从四个小桥洞流过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这种设计在建桥史上是一个创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6206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5400" spc="-1" strike="noStrike" u="sng">
                <a:solidFill>
                  <a:srgbClr val="ff3300"/>
                </a:solidFill>
                <a:uFillTx/>
                <a:latin typeface="Times New Roman"/>
              </a:rPr>
              <a:t>既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减轻了流水对桥身的冲击力，使桥不容易被大水冲毁，</a:t>
            </a:r>
            <a:r>
              <a:rPr b="1" lang="zh-CN" sz="5400" spc="-1" strike="noStrike" u="sng">
                <a:solidFill>
                  <a:srgbClr val="ff3300"/>
                </a:solidFill>
                <a:uFillTx/>
                <a:latin typeface="Times New Roman"/>
              </a:rPr>
              <a:t>又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减轻了桥身的重量，节省了石料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182880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赵州桥不但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坚固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，而且</a:t>
            </a:r>
            <a:r>
              <a:rPr b="0" lang="zh-CN" sz="6000" spc="-1" strike="noStrike">
                <a:solidFill>
                  <a:srgbClr val="00cc99"/>
                </a:solidFill>
                <a:latin typeface="Times New Roman"/>
              </a:rPr>
              <a:t>美观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457200"/>
            <a:ext cx="861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桥面两侧有石栏，栏板上雕刻着精美的图案：有的刻着两条互相缠绕的龙，嘴里吐出美丽的水花；有的刻着两条飞龙，前爪相互抵着，各自回首遥望；还有的刻着双龙戏珠。所有的龙似乎都在游动，像活的一样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6350040" cy="1994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4863960"/>
            <a:ext cx="6350040" cy="1994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0"/>
            <a:ext cx="6350040" cy="19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赵州桥表现了劳动人民的智慧和才干，是我国宝贵的历史遗产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6920" y="692280"/>
            <a:ext cx="8317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县   设   参   部    横   跨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举  击   坚    固    栏   案    爪  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2228760"/>
            <a:ext cx="9144000" cy="11912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细黑"/>
                <a:ea typeface="华文细黑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思  考  ：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读了这篇文章，赵州桥给你留下总的印象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362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跨”是左右结构的，右下角是一个“亏”，不要写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25909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创”是左右结构的，左边是“仓”不要写错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25909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毁”左右结构，左上角是“臼”不要写成“白”；左下角是“工”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2209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坚”上下结构，右上角是“又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22096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智”上下结构，下边是“日”，不是“目”。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685800"/>
            <a:ext cx="281952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生 字 学 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917640" y="2651040"/>
            <a:ext cx="6379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2517840" y="2590920"/>
            <a:ext cx="6379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4118040" y="2590920"/>
            <a:ext cx="6379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5718240" y="2590920"/>
            <a:ext cx="6379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7165800" y="2590920"/>
            <a:ext cx="6379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宋体"/>
              </a:rPr>
              <a:t>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50760" y="198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04640"/>
            <a:ext cx="85690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设计  参加  创举  横跨  回首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全部  减轻  重量  节省  坚固  美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石栏  栏板  图案  前爪  雄伟  精美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遥望  双龙戏珠   才干  宝贵   遗产冲击力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33720" y="609480"/>
            <a:ext cx="4647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赵 州 桥 介 绍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495324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7591680" cy="396216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endshow"/>
          </p:cNvPr>
          <p:cNvSpPr/>
          <p:nvPr/>
        </p:nvSpPr>
        <p:spPr>
          <a:xfrm>
            <a:off x="7696080" y="60958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20514" y="3837"/>
                </a:moveTo>
                <a:lnTo>
                  <a:pt x="23090" y="6448"/>
                </a:lnTo>
                <a:lnTo>
                  <a:pt x="23090" y="4707"/>
                </a:lnTo>
                <a:lnTo>
                  <a:pt x="24866" y="4707"/>
                </a:lnTo>
                <a:lnTo>
                  <a:pt x="24866" y="8224"/>
                </a:lnTo>
                <a:lnTo>
                  <a:pt x="27477" y="10800"/>
                </a:lnTo>
                <a:lnTo>
                  <a:pt x="25823" y="10800"/>
                </a:lnTo>
                <a:lnTo>
                  <a:pt x="25823" y="17989"/>
                </a:lnTo>
                <a:lnTo>
                  <a:pt x="15205" y="17989"/>
                </a:lnTo>
                <a:lnTo>
                  <a:pt x="15205" y="10800"/>
                </a:lnTo>
                <a:lnTo>
                  <a:pt x="13551" y="10800"/>
                </a:lnTo>
                <a:close/>
              </a:path>
              <a:path fill="darkenLess" w="41028" h="21600">
                <a:moveTo>
                  <a:pt x="23090" y="6448"/>
                </a:moveTo>
                <a:lnTo>
                  <a:pt x="23090" y="4707"/>
                </a:lnTo>
                <a:lnTo>
                  <a:pt x="24866" y="4707"/>
                </a:lnTo>
                <a:lnTo>
                  <a:pt x="24866" y="8224"/>
                </a:lnTo>
                <a:close/>
              </a:path>
              <a:path fill="darkenLess" w="41028" h="21600">
                <a:moveTo>
                  <a:pt x="19591" y="14299"/>
                </a:moveTo>
                <a:lnTo>
                  <a:pt x="21436" y="14299"/>
                </a:lnTo>
                <a:lnTo>
                  <a:pt x="21436" y="17989"/>
                </a:lnTo>
                <a:lnTo>
                  <a:pt x="25823" y="17989"/>
                </a:lnTo>
                <a:lnTo>
                  <a:pt x="25823" y="10800"/>
                </a:lnTo>
                <a:lnTo>
                  <a:pt x="15205" y="10800"/>
                </a:lnTo>
                <a:lnTo>
                  <a:pt x="15205" y="17989"/>
                </a:lnTo>
                <a:lnTo>
                  <a:pt x="1959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76720" y="0"/>
            <a:ext cx="222876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小 组 学 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836640"/>
            <a:ext cx="7086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．为什么说赵州桥非常雄伟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．从哪儿看出赵州桥非常坚固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  <a:ea typeface="Times New Roman"/>
              </a:rPr>
              <a:t>．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从哪儿看出赵州桥非常美观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8T06:33:03Z</dcterms:created>
  <dc:creator>lichengquan</dc:creator>
  <dc:description/>
  <dc:language>en-US</dc:language>
  <cp:lastModifiedBy>软件仓库</cp:lastModifiedBy>
  <dcterms:modified xsi:type="dcterms:W3CDTF">2008-11-14T01:17:59Z</dcterms:modified>
  <cp:revision>14</cp:revision>
  <dc:subject/>
  <dc:title>PowerPoint 演示文稿</dc:title>
</cp:coreProperties>
</file>