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E92-0CF2-4FD0-96A7-AD1E6727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700-915E-4431-B6E5-A5E6030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AE3A-410E-484E-85F7-B6666C13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D39-EADD-4CC9-B391-BD740723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9B6-945F-4E9C-A4B4-49CDC660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E3A-F3C5-4175-B1AF-D5EAC66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8320-71D6-4B3F-BB0D-E9195BC2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FA9-30E6-4FED-B107-BEB360ED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B8F-DA02-4C43-8663-BFFBE30F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D0E-4489-46F4-821B-A01A2234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667-721C-4F4E-A8AA-4B644B5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214-B69D-4E7E-BF21-09C5AD9C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DADC-953F-466B-9C72-3997241572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8427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268200">
            <a:off x="2627280" y="2276640"/>
            <a:ext cx="403236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f99">
                        <a:alpha val="97254"/>
                      </a:srgbClr>
                    </a:gs>
                    <a:gs pos="100000">
                      <a:srgbClr val="ffffcc"/>
                    </a:gs>
                  </a:gsLst>
                  <a:lin ang="51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月球之谜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f99">
                      <a:alpha val="97254"/>
                    </a:srgbClr>
                  </a:gs>
                  <a:gs pos="100000">
                    <a:srgbClr val="ffffcc"/>
                  </a:gs>
                </a:gsLst>
                <a:lin ang="51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609300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贵阳市新建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58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Arial"/>
              </a:rPr>
              <a:t>执教人：王兴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6491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教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765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小学语文三年级下册第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8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11280" y="4365720"/>
            <a:ext cx="882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四：月球的 火山活动是否比地球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 rot="287400">
            <a:off x="539280" y="0"/>
            <a:ext cx="36813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f99">
                        <a:alpha val="97254"/>
                      </a:srgbClr>
                    </a:gs>
                    <a:gs pos="100000">
                      <a:srgbClr val="ffffcc"/>
                    </a:gs>
                  </a:gsLst>
                  <a:lin ang="511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月球之谜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f99">
                      <a:alpha val="97254"/>
                    </a:srgbClr>
                  </a:gs>
                  <a:gs pos="100000">
                    <a:srgbClr val="ffffcc"/>
                  </a:gs>
                </a:gsLst>
                <a:lin ang="511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3280" y="0"/>
            <a:ext cx="838440" cy="12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341360"/>
            <a:ext cx="88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一：月球上的 尘土有 杀菌的本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205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二</a:t>
            </a:r>
            <a:r>
              <a:rPr b="1" lang="zh-CN" sz="1800" spc="-1" strike="noStrike">
                <a:solidFill>
                  <a:srgbClr val="ffffcc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为什么水藻种在月球的尘土里就长   得那么青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5733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  <a:ea typeface="楷体_GB2312"/>
              </a:rPr>
              <a:t>谜之三：月球比地球的年龄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4581360"/>
            <a:ext cx="525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9900"/>
                </a:solidFill>
                <a:latin typeface="Arial"/>
                <a:ea typeface="隶书"/>
              </a:rPr>
              <a:t>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4941720"/>
            <a:ext cx="2519280" cy="1700280"/>
          </a:xfrm>
          <a:prstGeom prst="cloudCallout">
            <a:avLst>
              <a:gd name="adj1" fmla="val -123347"/>
              <a:gd name="adj2" fmla="val 29180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Arial"/>
                <a:ea typeface="楷体_GB2312"/>
              </a:rPr>
              <a:t>这里的省略号是什么意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41680" y="5300640"/>
            <a:ext cx="1298520" cy="155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815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333360"/>
            <a:ext cx="83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月球起源之谜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目前，人类关于月球的起源，一共提出了三种假说：月球被捕获说，地月同源说和地球分裂说。到目前为止，三种假说都没有取得强有力的证据，因此产生了第四种假说──“月球──宇宙飞船”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月球年龄之谜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根据从月球带回的岩石标本，可以测定月球的年龄。经分析发现，与地球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9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％年龄最大的岩石相比，月球岩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9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％年龄更长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97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年，世界月球研讨会上曾测定一块月球岩石年龄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53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亿岁，而地球上最古老的岩石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7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亿岁。有些科学家提出，在地球形成之前，月球早已在星际空间形成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20000" y="5445000"/>
            <a:ext cx="1717560" cy="1656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219640" y="587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2e42e"/>
                </a:solidFill>
                <a:latin typeface="Arial"/>
                <a:ea typeface="华文行楷"/>
              </a:rPr>
              <a:t>资料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23760" y="2377440"/>
            <a:ext cx="9167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地球是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人类的摇篮，但人类不会永远生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活在摇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篮里。人类选择走出地球，那么</a:t>
            </a: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楷体_GB2312"/>
              </a:rPr>
              <a:t>第一站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就自然而然的选择了离我们最近的“未知”土地——月球。可能许多年后回首人类登月的历史，我们会觉得我们现在所取得的成绩很微薄，但是对人类进步却产生了深远的影响，正如一位踏上月球的人所讲：“虽然这只是我的一小步，却是人类的一大步！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8151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333360"/>
            <a:ext cx="817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楷体_GB2312"/>
              </a:rPr>
              <a:t>21</a:t>
            </a: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楷体_GB2312"/>
              </a:rPr>
              <a:t>～</a:t>
            </a: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楷体_GB2312"/>
              </a:rPr>
              <a:t>22</a:t>
            </a: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楷体_GB2312"/>
              </a:rPr>
              <a:t>世纪，人类将移民月球，建立月球村。月球村将利用太阳能取暖，利用月球上发现的水生产蔬菜、粮食，建立各种生活设施。月球村的重要任务是开采氮</a:t>
            </a: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楷体_GB2312"/>
              </a:rPr>
              <a:t>-3</a:t>
            </a: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楷体_GB2312"/>
              </a:rPr>
              <a:t>，并运回地球，利用这一热能源发电，供应全球所需电能。人类还将开发地球人拜访月球村的旅游业。</a:t>
            </a:r>
            <a:br>
              <a:rPr sz="4400"/>
            </a:b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华文行楷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ef6f1"/>
                </a:solidFill>
                <a:latin typeface="Arial"/>
                <a:ea typeface="华文行楷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47640" y="1673280"/>
            <a:ext cx="511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1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、你知道月球还有那些未解开的谜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2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、假如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30</a:t>
            </a:r>
            <a:r>
              <a:rPr b="1" lang="zh-CN" sz="4000" spc="-1" strike="noStrike">
                <a:solidFill>
                  <a:srgbClr val="ffff99"/>
                </a:solidFill>
                <a:latin typeface="Arial"/>
                <a:ea typeface="华文楷体"/>
              </a:rPr>
              <a:t>年后你登上了月球，你准备去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635280" y="3645000"/>
            <a:ext cx="4392720" cy="24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拓展练习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8427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 rot="268200">
            <a:off x="2627280" y="2276640"/>
            <a:ext cx="4032360" cy="22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f99">
                        <a:alpha val="97254"/>
                      </a:srgbClr>
                    </a:gs>
                    <a:gs pos="100000">
                      <a:srgbClr val="ffffcc"/>
                    </a:gs>
                  </a:gsLst>
                  <a:lin ang="51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月球之谜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f99">
                      <a:alpha val="97254"/>
                    </a:srgbClr>
                  </a:gs>
                  <a:gs pos="100000">
                    <a:srgbClr val="ffffcc"/>
                  </a:gs>
                </a:gsLst>
                <a:lin ang="51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609300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贵阳市新建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5589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cc"/>
                </a:solidFill>
                <a:uFillTx/>
                <a:latin typeface="Arial"/>
              </a:rPr>
              <a:t>执教人：王兴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64911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教版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765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小学语文三年级下册第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22</a:t>
            </a:r>
            <a:r>
              <a:rPr b="1" lang="zh-CN" sz="2800" spc="-1" strike="noStrike">
                <a:solidFill>
                  <a:srgbClr val="ffffcc"/>
                </a:solidFill>
                <a:latin typeface="Arial"/>
                <a:ea typeface="楷体_GB2312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627280" y="692280"/>
            <a:ext cx="3529080" cy="2376360"/>
          </a:xfrm>
          <a:prstGeom prst="cloudCallout">
            <a:avLst>
              <a:gd name="adj1" fmla="val 46310"/>
              <a:gd name="adj2" fmla="val 81865"/>
            </a:avLst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99"/>
                </a:solidFill>
                <a:latin typeface="Arial"/>
                <a:ea typeface="楷体_GB2312"/>
              </a:rPr>
              <a:t>月球是从哪儿来 的？上面有什么东西？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692280"/>
            <a:ext cx="3529080" cy="2376360"/>
          </a:xfrm>
          <a:prstGeom prst="cloudCallout">
            <a:avLst>
              <a:gd name="adj1" fmla="val 46310"/>
              <a:gd name="adj2" fmla="val 81865"/>
            </a:avLst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楷体_GB2312"/>
              </a:rPr>
              <a:t>你对月球  都有过哪     些遐想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66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def6f1"/>
                </a:solidFill>
                <a:latin typeface="Arial"/>
                <a:ea typeface="楷体_GB2312"/>
              </a:rPr>
              <a:t>每当夜幕降临，天空中悬挂着一轮皎洁的明月，引起了人们的无限遐想！月亮自古以来，就与人们结下了不解之缘，它尤其受诗人们的钟爱。那皎洁的月光，富有变化的月形，激起了诗人们多少怀念与感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44b3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50920" y="476280"/>
            <a:ext cx="9361440" cy="4220640"/>
            <a:chOff x="250920" y="476280"/>
            <a:chExt cx="9361440" cy="4220640"/>
          </a:xfrm>
        </p:grpSpPr>
        <p:sp>
          <p:nvSpPr>
            <p:cNvPr id="57" name=""/>
            <p:cNvSpPr/>
            <p:nvPr/>
          </p:nvSpPr>
          <p:spPr>
            <a:xfrm>
              <a:off x="250920" y="476280"/>
              <a:ext cx="93614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6600"/>
                  </a:solidFill>
                  <a:latin typeface="Arial"/>
                  <a:ea typeface="隶书"/>
                </a:rPr>
                <a:t>床前明月光，疑是地上霜。               李白 </a:t>
              </a: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50920" y="1073160"/>
              <a:ext cx="9144000" cy="3623760"/>
              <a:chOff x="250920" y="1073160"/>
              <a:chExt cx="9144000" cy="3623760"/>
            </a:xfrm>
          </p:grpSpPr>
          <p:sp>
            <p:nvSpPr>
              <p:cNvPr id="59" name=""/>
              <p:cNvSpPr/>
              <p:nvPr/>
            </p:nvSpPr>
            <p:spPr>
              <a:xfrm>
                <a:off x="1964520" y="1073160"/>
                <a:ext cx="51260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月下飞天镜，云生结海楼。               李白</a:t>
                </a:r>
                <a:r>
                  <a:rPr b="0" lang="zh-CN" sz="18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0920" y="2712960"/>
                <a:ext cx="882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明月别枝惊鹊，清风半夜鸣蝉。      辛弃疾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50920" y="405432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可怜九月初三夜，露似珍珠月似弓。白居易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50920" y="330984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月落乌啼霜满天，江枫渔火对愁眠。 张继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50920" y="1593720"/>
                <a:ext cx="8893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月上柳梢头，人约黄昏后。            欧阳修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964520" y="2116080"/>
                <a:ext cx="5126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6600"/>
                    </a:solidFill>
                    <a:latin typeface="Arial"/>
                    <a:ea typeface="隶书"/>
                  </a:rPr>
                  <a:t>明月几时有，把酒问青天。               苏轼</a:t>
                </a:r>
                <a:r>
                  <a:rPr b="1" lang="zh-CN" sz="1800" spc="-1" strike="noStrike">
                    <a:solidFill>
                      <a:srgbClr val="006600"/>
                    </a:solidFill>
                    <a:latin typeface="Arial"/>
                  </a:rPr>
                  <a:t> </a:t>
                </a:r>
                <a:br>
                  <a:rPr sz="1800"/>
                </a:b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d08d"/>
            </a:gs>
            <a:gs pos="50000">
              <a:srgbClr val="009900"/>
            </a:gs>
            <a:gs pos="100000">
              <a:srgbClr val="8dd08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46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284720" y="0"/>
              <a:ext cx="485928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32000" y="692280"/>
            <a:ext cx="8172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éng     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ǎ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z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ǎo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tàn 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uǒ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曾经    撒在   水藻        探  索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 Narrow"/>
                <a:ea typeface="华文楷体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l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ín</a:t>
            </a:r>
            <a:r>
              <a:rPr b="0" lang="zh-CN" sz="4000" spc="-1" strike="noStrike">
                <a:solidFill>
                  <a:srgbClr val="ffff66"/>
                </a:solidFill>
                <a:latin typeface="Arial Narrow"/>
                <a:ea typeface="华文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l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íng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n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ǚ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夜幕降临       年龄         努力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xi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àng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d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àn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Gū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一项              一旦         估计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j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iǎo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x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uán</a:t>
            </a:r>
            <a:r>
              <a:rPr b="1" lang="zh-CN" sz="4000" spc="-1" strike="noStrike">
                <a:solidFill>
                  <a:srgbClr val="ffff66"/>
                </a:solidFill>
                <a:latin typeface="Arial Narrow"/>
                <a:ea typeface="华文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x</a:t>
            </a: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华文楷体"/>
              </a:rPr>
              <a:t>iá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皎洁             悬挂        遐想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415280" y="4851360"/>
            <a:ext cx="1728720" cy="2006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0" y="5273640"/>
            <a:ext cx="2521080" cy="1584360"/>
          </a:xfrm>
          <a:prstGeom prst="cloudCallout">
            <a:avLst>
              <a:gd name="adj1" fmla="val 76574"/>
              <a:gd name="adj2" fmla="val -13425"/>
            </a:avLst>
          </a:prstGeom>
          <a:blipFill rotWithShape="0">
            <a:blip r:embed="rId3">
              <a:alphaModFix amt="8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你都读对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6200000">
            <a:off x="5580000" y="292428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1814d"/>
              </a:gs>
              <a:gs pos="50000">
                <a:srgbClr val="ffff99"/>
              </a:gs>
              <a:gs pos="100000">
                <a:srgbClr val="81814d"/>
              </a:gs>
            </a:gsLst>
            <a:lin ang="108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1125360"/>
            <a:ext cx="161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皓月当空的美好景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35280" y="364500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类第一次登上月球后看到的月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4005360"/>
            <a:ext cx="20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与月球有关的未解之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1268280"/>
            <a:ext cx="18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自然段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类将继续探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4292640"/>
            <a:ext cx="502920" cy="431640"/>
          </a:xfrm>
          <a:prstGeom prst="rightArrow">
            <a:avLst>
              <a:gd name="adj1" fmla="val 57231"/>
              <a:gd name="adj2" fmla="val 31178"/>
            </a:avLst>
          </a:prstGeom>
          <a:gradFill rotWithShape="0">
            <a:gsLst>
              <a:gs pos="0">
                <a:srgbClr val="81814d"/>
              </a:gs>
              <a:gs pos="50000">
                <a:srgbClr val="ffff99"/>
              </a:gs>
              <a:gs pos="100000">
                <a:srgbClr val="81814d"/>
              </a:gs>
            </a:gsLst>
            <a:lin ang="5400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269200">
            <a:off x="2627280" y="2924280"/>
            <a:ext cx="50472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81814d"/>
              </a:gs>
              <a:gs pos="50000">
                <a:srgbClr val="ffff99"/>
              </a:gs>
              <a:gs pos="100000">
                <a:srgbClr val="81814d"/>
              </a:gs>
            </a:gsLst>
            <a:lin ang="132000"/>
          </a:gra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mph" presetID="2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7:08:38Z</dcterms:created>
  <dc:creator>微软用户</dc:creator>
  <dc:description/>
  <dc:language>en-US</dc:language>
  <cp:lastModifiedBy>微软用户</cp:lastModifiedBy>
  <dcterms:modified xsi:type="dcterms:W3CDTF">2008-04-05T12:27:11Z</dcterms:modified>
  <cp:revision>14</cp:revision>
  <dc:subject/>
  <dc:title>幻灯片 1</dc:title>
</cp:coreProperties>
</file>