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1F6D-0377-4109-A0D8-267023EB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C32E-2645-43E4-91AB-84FEE871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8408-59C7-49D3-A9E6-36F20149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D61D-4C36-433A-BBCB-472FCCB1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B11F-E612-491C-932B-78F45826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B45A-E96B-4F0C-A823-C97FB8F5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5391-580B-4D47-9B2D-1B1A6CAA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0BC7-4371-47C3-8FB0-16CD0A22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55C0-07D2-41F4-AC33-0A488C4B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DED7-5238-4DCA-AF9E-6D57B982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E66A-AAB4-4DEE-BB32-414305F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0323-ACB4-4520-B668-D9CE9E33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069D-8CB2-4E43-9E93-190A8935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D606-45C9-4C74-BD85-57A55154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0EC4-446E-42D5-8929-D2A8364F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4D09-96E3-4EAF-B0FB-5BF0EE43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F150-4C68-44F6-829A-F94671D1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2266-59EC-439E-AF70-4CB04E04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0551-DD8B-4D9F-ADB4-14F7447D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4825-C8B1-43FE-AD39-E637575B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2197-96FC-4A85-A8A1-D8A98E8E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81BE-4543-4A01-824F-399DB6E6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C11D-DBFB-465F-A732-6CFE60ED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D8D9-0DA4-417A-A772-BF718428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5FAB-7B88-4CBF-B8B4-D9236129C85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74F2-2BA2-4FE3-9DC4-69B880481A6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286000" y="3505320"/>
            <a:ext cx="4343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latin typeface="华文彩云"/>
              </a:rPr>
              <a:t>猴王出世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cc00"/>
              </a:solidFill>
              <a:latin typeface="华文彩云"/>
              <a:ea typeface="华文彩云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971800" y="2057400"/>
            <a:ext cx="3276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琥珀"/>
              </a:rPr>
              <a:t>《西游记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2" name=""/>
          <p:cNvSpPr/>
          <p:nvPr/>
        </p:nvSpPr>
        <p:spPr>
          <a:xfrm>
            <a:off x="6929280" y="3789360"/>
            <a:ext cx="1521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aramond"/>
              </a:rPr>
              <a:t>吴承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882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提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470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本课是我国古典小说《西游记》中的一个片段，课文叙述了石猴成为猴王的一段经历。读课文，看看石猴是哪来的，又是怎样成为猴王的。把不懂的地方画下来，跟同学、老师讨论。把你喜欢的语句多读几遍，也可以抄下来。如有兴趣还可以读读《西游记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882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句段赏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978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0099cc"/>
                </a:solidFill>
                <a:latin typeface="Times New Roman"/>
                <a:ea typeface="华文琥珀"/>
              </a:rPr>
              <a:t>那猴在山中，却会行走跳跃，食草木，饮涧泉，采山花，觅树果；与狼虫为伴，虎豹为群，獐鹿为友，猕猿为亲；夜宿石崖之下，朝游峰洞之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133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0099cc"/>
                </a:solidFill>
                <a:latin typeface="华文琥珀"/>
                <a:ea typeface="华文琥珀"/>
              </a:rPr>
              <a:t>四面更无树木遮阳，左右倒有芝兰相衬。盖自开辟以来，每受天真地秀，日精月华感之既久，遂有通灵之意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057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他瞑目蹲身，将身一纵，径跳入瀑布泉中，忽睁睛抬头观看，那里边却无水无波，明明朗朗的一架桥梁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882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  <a:ea typeface="华文琥珀"/>
              </a:rPr>
              <a:t>句段赏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9020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你们才说有本事进得来，出得去，不伤身体者，就拜他为王。我如今进来又出去，出去又进来，寻了这一个洞天与列位安眠稳睡，各享成家之福，何不拜我为王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527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99cc"/>
                </a:solidFill>
                <a:latin typeface="华文行楷"/>
                <a:ea typeface="华文行楷"/>
              </a:rPr>
              <a:t>本文选自我国古代杰出的长篇神话小说《西游记》，作者是明代的吴承恩。小说主要讲述了唐僧师徒四人历尽千辛万苦到西天取经的故事，主要人物有唐僧、孙悟空、猪八戒、沙和尚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882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Times New Roman"/>
                <a:ea typeface="华文琥珀"/>
              </a:rPr>
              <a:t>读一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82224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改错别字</a:t>
            </a:r>
            <a:r>
              <a:rPr b="1" lang="zh-CN" sz="3600" spc="-1" strike="noStrike">
                <a:solidFill>
                  <a:srgbClr val="0099cc"/>
                </a:solidFill>
                <a:latin typeface="Times New Roman"/>
                <a:ea typeface="华文琥珀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739960"/>
            <a:ext cx="8076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树支（  ） 桥粱（  ）抓耳挠鳃（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避署（  ） 疲蜷（  ）伸头缩项（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42900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42900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510552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510552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387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4387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4387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914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cc"/>
                </a:solidFill>
                <a:latin typeface="华文行楷"/>
                <a:ea typeface="华文行楷"/>
              </a:rPr>
              <a:t>把成语补充完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478240"/>
            <a:ext cx="8381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拱伏无（  ）   各抒己（  ）   兴国（  ）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平（  ）近人   （  ）里如一   酸甜（  ）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盛气（  ）人   千（  ）一发   身（  ）其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24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4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24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747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47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3747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5043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5043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043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 rot="5400000">
            <a:off x="-228600" y="16002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5e5ff"/>
                </a:solidFill>
                <a:latin typeface="华文新魏"/>
              </a:rPr>
              <a:t>美猴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5e5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 rot="5400000">
            <a:off x="1142640" y="350532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华文新魏"/>
              </a:rPr>
              <a:t>孙悟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华文新魏"/>
              <a:ea typeface="华文新魏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5:07:58Z</dcterms:created>
  <dc:creator>wang</dc:creator>
  <dc:description/>
  <dc:language>en-US</dc:language>
  <cp:lastModifiedBy>上海绿茶网络科技</cp:lastModifiedBy>
  <dcterms:modified xsi:type="dcterms:W3CDTF">2008-05-01T00:52:52Z</dcterms:modified>
  <cp:revision>6</cp:revision>
  <dc:subject/>
  <dc:title>PowerPoint 演示文稿</dc:title>
</cp:coreProperties>
</file>