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D26E-1D2F-4966-A1D1-FE00F460C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F5B2-B8F1-4D64-AE00-2A4DC415E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6495-8A62-46E5-B989-0F1888C6F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34B5-9F83-4B28-8E02-9CFA1C5C1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5578-8110-43BD-8C98-2E615BD95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FE60-BFB9-43D6-B5AD-9B60346BA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C5F6-B8E8-4C1E-8F93-FF9A130B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A345-7E9B-4FF0-A46F-2FA01180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5FDA-C392-4FCA-AA67-65E09268D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BE69-4E48-4F36-9E04-EE1A9E8B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E0F4-57C2-4F2D-82D7-66F0CFA3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966E-138E-436A-86CB-CC2CB6F1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8ECB6-D33D-4684-9288-9366A29FEAC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u=3480473925,2085260277&amp;gp=-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447920" y="2514600"/>
            <a:ext cx="510516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献你一束花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427_200707242310444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04920" y="457200"/>
            <a:ext cx="883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鲜花，理应呈送给凯旋归来的英雄。难道献给黯淡无光的失败者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谁能把这句话改成陈述句，看看它要表达的是什么意思？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344484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鲜花理应呈送给凯旋归来的英雄，而不是献给黯淡无光的失败者。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5029200"/>
            <a:ext cx="815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你同意这句话的说法吗？为什么？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8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14400" y="457200"/>
            <a:ext cx="8001000" cy="70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暗淡无光   垫子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高低杠   摄影   纠缠                   愈   成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一塌糊涂   沮丧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屋檐   浓郁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hinaps_frame_f002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828800" y="1617840"/>
            <a:ext cx="56386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课文讲了一件什么样的事情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这束花要献给谁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23:03:09Z</dcterms:created>
  <dc:creator>微软用户</dc:creator>
  <dc:description/>
  <dc:language>en-US</dc:language>
  <cp:lastModifiedBy>微软用户</cp:lastModifiedBy>
  <dcterms:modified xsi:type="dcterms:W3CDTF">2008-03-28T05:32:33Z</dcterms:modified>
  <cp:revision>9</cp:revision>
  <dc:subject/>
  <dc:title>PowerPoint 演示文稿</dc:title>
</cp:coreProperties>
</file>