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FC6-7B62-4DD0-85E1-10C6795A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2A7-25D4-430D-B278-6C959148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126-CF79-4AC7-AAB7-984B19FA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2AB-A46C-4ABC-88B5-F956BE2D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3D0-C15A-4AE0-812F-0AC6B86E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33B-4BCD-47DE-9681-49E9B70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FEB-BDF7-43A6-85F9-CA4201B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E2F-B32E-47FD-BF4A-470F568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26A-8BE4-4C07-ABCC-76886354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0F6-21DA-4DA4-A7F8-2CF7DF6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2F9-AA23-4A9B-9F10-74F7CC7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946-BB74-46BE-9AEA-3137889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BD5-DB7F-4954-BA79-EC893FF0F7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J:/&#20154;&#31867;&#36827;&#21270;/lengleng1881@56.com_56flv_zhajm_1167383401_67.flv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J:/&#20154;&#31867;&#36827;&#21270;/lengleng1881@56.com_56flv_zhajm_1167383401_67.flv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六关：用课文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、为什么老师要惩罚“我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、老师是怎样惩罚“我”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、我是怎样自我安慰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“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我明白了——世界上重大的发明与发现，有时还面临着受到驱逐和迫害的风险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500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你是怎样理解这句话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七关：动脑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、你认为费奥多罗夫是个怎样的孩子？说说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cc"/>
                </a:solidFill>
                <a:latin typeface="Arial"/>
              </a:rPr>
              <a:t>、你想向费奥多罗夫学习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6920" y="404640"/>
            <a:ext cx="7345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人教版小学语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五年级下册第八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&lt;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童年的发现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&gt;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课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向阳乡朝阳小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张春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48000" y="5661000"/>
            <a:ext cx="1368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27640" y="2421000"/>
            <a:ext cx="44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闯关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第一关：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</a:rPr>
              <a:t>胚胎、祸患、滑翔、双臂、天赋、妨碍、岂止、痴迷、厘米、羞愧、幸亏、驱逐、迫害、随心所欲、运转自如、绞尽脑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第二关：根据意思找段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一、概述童年时的发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二、发现过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黑体"/>
              </a:rPr>
              <a:t>三、几年后老师讲课时得到老师的证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2349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关：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一、“我”发现了什么，是怎样发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答：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九岁时我发现了有关胚胎发育的规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梦中飞行、引出了为什么会在梦中飞行及老师对此所做的解释、由老师的解释引出了究竟是怎么来的疑问以及这个疑问的大胆猜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高年级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离我们是那样遥远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而飞行却仍在继续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和老师的一次谈话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更加激发了我的想象力，我渴望明白，人究竟是怎么来的。我想得是那样痴迷，以至于从河里抓到一条鱼，我都会翻来覆去地看个仔细，恨不得从鱼身上发现将来的人应该具有的某些特征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四关：朗读并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我的想象力是被谁激发的？作者渴望什么？我为什么抓鱼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第五关：找一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找出人物的两次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分角色朗读第一次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表演第二次对话情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1:48:37Z</dcterms:created>
  <dc:creator>番茄花园</dc:creator>
  <dc:description/>
  <dc:language>en-US</dc:language>
  <cp:lastModifiedBy>番茄花园</cp:lastModifiedBy>
  <dcterms:modified xsi:type="dcterms:W3CDTF">2008-03-24T16:14:50Z</dcterms:modified>
  <cp:revision>8</cp:revision>
  <dc:subject/>
  <dc:title>式</dc:title>
</cp:coreProperties>
</file>