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9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TYPE.WAV" ContentType="audio/x-wav"/>
  <Override PartName="/ppt/media/image6.jpeg" ContentType="image/jpeg"/>
  <Override PartName="/ppt/media/image7.wmf" ContentType="image/x-wmf"/>
  <Override PartName="/ppt/media/image17.jpeg" ContentType="image/jpeg"/>
  <Override PartName="/ppt/media/image16.jpeg" ContentType="image/jpeg"/>
  <Override PartName="/ppt/media/WHOOSH.WAV" ContentType="audio/x-wav"/>
  <Override PartName="/ppt/media/image14.jpeg" ContentType="image/jpe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0BE1-D6D2-46CF-B12D-1281DC4D6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24D-B5E8-4A49-BCE5-4D5C91984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B06-4F8A-4362-B9E4-4489DACAF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E5E8-5385-4138-8E7C-59024BEA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19C-33CF-4510-891E-13557ECC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5D91-01B5-4339-AD3A-A920BD7B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7304-3159-4920-8DF3-B6029BD3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35AE-C402-4E3F-A6DE-6522FF4A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C6AA-6984-4316-9DCF-C74FD22A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B433-601C-4C3E-9414-FA738F72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815-8122-402D-9F67-ED11646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72A2-3320-435D-A682-F67144F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B41AF-AF9C-47C0-81DB-160FE194660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file:///tmp/home/.config/libreoffice/4/user/gallery/WHOOSH.WAV" TargetMode="External"/><Relationship Id="rId3" Type="http://schemas.microsoft.com/office/2007/relationships/media" Target="file:///tmp/home/.config/libreoffice/4/user/gallery/WHOOSH.WAV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58920" y="1197000"/>
            <a:ext cx="5184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草   原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4175280" y="602136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ff"/>
                </a:solidFill>
                <a:latin typeface="Times New Roman"/>
              </a:rPr>
              <a:t>子路中心校         彭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339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609480"/>
            <a:ext cx="815328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那些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小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的线条是那么柔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就像只用绿色渲染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不用墨线勾勒的中国画那样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到处翠色欲流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轻轻流入云际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1295280"/>
            <a:ext cx="3809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隶书"/>
              </a:rPr>
              <a:t>小丘柔美</a:t>
            </a: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11280" y="549360"/>
            <a:ext cx="7619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连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骏马和大牛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都有时候静立不动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好像回味着草原的无限乐趣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709320" y="380880"/>
            <a:ext cx="2009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ffff"/>
                </a:solidFill>
                <a:latin typeface="Times New Roman"/>
                <a:ea typeface="隶书"/>
              </a:rPr>
              <a:t>马儿陶醉了</a:t>
            </a:r>
            <a:r>
              <a:rPr b="1" lang="zh-CN" sz="6000" spc="-1" strike="noStrike">
                <a:solidFill>
                  <a:srgbClr val="00ffff"/>
                </a:solidFill>
                <a:latin typeface="Times New Roman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33520" y="762120"/>
            <a:ext cx="4343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牛羊陶醉了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459640" y="549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24238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9"/>
                </p:tgtEl>
              </p:cMediaNode>
            </p:audio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604360" y="189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24238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53272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4238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09480" y="762120"/>
            <a:ext cx="76201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那里的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天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比别处的更可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空气是</a:t>
            </a:r>
            <a:r>
              <a:rPr b="1" lang="zh-CN" sz="4400" spc="-1" strike="noStrike">
                <a:solidFill>
                  <a:srgbClr val="ff66ff"/>
                </a:solidFill>
                <a:latin typeface="Times New Roman"/>
                <a:ea typeface="黑体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清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天空是</a:t>
            </a:r>
            <a:r>
              <a:rPr b="1" lang="zh-CN" sz="4400" spc="-1" strike="noStrike">
                <a:solidFill>
                  <a:srgbClr val="ff66ff"/>
                </a:solidFill>
                <a:latin typeface="Times New Roman"/>
                <a:ea typeface="黑体"/>
              </a:rPr>
              <a:t>那么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明朗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使我总想高歌一曲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表示我满心的愉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2209680" y="228600"/>
            <a:ext cx="4305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27703" dir="339742" blurRad="0" rotWithShape="0">
                    <a:srgbClr val="66ff99">
                      <a:alpha val="50000"/>
                    </a:srgbClr>
                  </a:outerShdw>
                </a:effectLst>
                <a:latin typeface="黑体"/>
              </a:rPr>
              <a:t>13 </a:t>
            </a: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effectLst>
                  <a:outerShdw dist="127703" dir="339742" blurRad="0" rotWithShape="0">
                    <a:srgbClr val="66ff99">
                      <a:alpha val="50000"/>
                    </a:srgbClr>
                  </a:outerShdw>
                </a:effectLst>
                <a:latin typeface="黑体"/>
              </a:rPr>
              <a:t>草原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effectLst>
                <a:outerShdw dist="127703" dir="339742" blurRad="0" rotWithShape="0">
                  <a:srgbClr val="66ff99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2209680"/>
            <a:ext cx="221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空气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895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天空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35812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颜色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426708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线条柔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371600" y="121932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景 美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228600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迎  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29718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相  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943600" y="3657600"/>
            <a:ext cx="19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款  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19920" y="4343400"/>
            <a:ext cx="19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ff"/>
                </a:solidFill>
                <a:latin typeface="Times New Roman"/>
                <a:ea typeface="黑体"/>
              </a:rPr>
              <a:t>联  欢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410080" y="1219320"/>
            <a:ext cx="312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  <a:ea typeface="隶书"/>
              </a:rPr>
              <a:t>情 深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4952880"/>
            <a:ext cx="5791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蒙汉情深何忍别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,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05120" y="585144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天涯碧草话斜阳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5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7" nodeType="afterEffect" fill="hold" presetClass="entr" presetID="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42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-561240" y="0"/>
            <a:ext cx="20091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ff99"/>
                </a:solidFill>
                <a:latin typeface="Times New Roman"/>
                <a:ea typeface="隶书"/>
              </a:rPr>
              <a:t>草原的天空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71640" y="549360"/>
            <a:ext cx="396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可爱的天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40464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明朗的天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1066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在天底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隶书"/>
              </a:rPr>
              <a:t>一碧千里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而并不茫茫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533412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  <a:ea typeface="隶书"/>
              </a:rPr>
              <a:t>天涯碧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-10058400" y="-6324480"/>
            <a:ext cx="29260800" cy="19506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8360" y="260280"/>
            <a:ext cx="83059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3333ff"/>
                </a:solidFill>
                <a:latin typeface="Times New Roman"/>
                <a:ea typeface="隶书"/>
              </a:rPr>
              <a:t>羊群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会儿上了小丘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会儿又下来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走到哪里都像给无边的绿毯绣上了白色的大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33520" y="838080"/>
            <a:ext cx="426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草原像绿毯</a:t>
            </a: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67652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羊群像白花</a:t>
            </a:r>
            <a:r>
              <a:rPr b="1" lang="zh-CN" sz="6000" spc="-1" strike="noStrike">
                <a:solidFill>
                  <a:srgbClr val="ff66ff"/>
                </a:solidFill>
                <a:latin typeface="Times New Roman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08:58:30Z</dcterms:created>
  <dc:creator>gjhhgjkh</dc:creator>
  <dc:description/>
  <dc:language>en-US</dc:language>
  <cp:lastModifiedBy>system</cp:lastModifiedBy>
  <dcterms:modified xsi:type="dcterms:W3CDTF">2008-10-21T11:23:38Z</dcterms:modified>
  <cp:revision>28</cp:revision>
  <dc:subject/>
  <dc:title>没有幻灯片标题</dc:title>
</cp:coreProperties>
</file>