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AD6-01D4-4E28-BE77-80931E90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823-763B-485E-A486-FCEABA1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31E-893C-4817-8A21-55F30F8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50F-3C6E-4E1D-92EB-4F130E33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C0D-D58E-4DFB-A681-3541394E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9850-B928-4BD2-9C8C-FBF445D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BDE3-97DD-4F44-9D14-6150476C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44F1-C846-44C9-8F8C-885C0B1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3D34-2403-4B89-B451-2335DF5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1AD6-C56B-4BC2-8249-9AAF8FB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A422-BD0C-4B97-8D9F-1BBBFC3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802-A2CC-412D-9503-04AC5683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E5BA-9914-453C-85E6-1DD083B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8004-8056-43FC-BBEF-D0CF6D8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6D99-16D5-4142-8CE2-4B22B63A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912E-D8C4-4DE9-B40E-4D807923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A5F0-A10E-448D-8977-8D9DF812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BFFA-FE27-47FB-99EB-06D43AC5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7346C-2C89-4B5D-B8BB-F721BD9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286B-E8DA-4BB4-8EFD-AD00170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443F-534F-4F58-945B-6520AFF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4DFD-22A0-4560-B61E-47874B26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CF5-3C48-444A-A9AF-89D2C9B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303FC-C303-46C8-AA76-488F7323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0E0E-088C-4B4F-A676-992F33F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D190-7DA6-4ED6-93E7-2D38A0A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50A2-79A7-4570-9927-A8275CA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3418-C51D-4077-9A0F-3070E3E7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6AF4-469A-4610-AD13-E59A8BE1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4535-A837-4148-A8D4-224BC1CA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D84D3-D13C-4D85-A3B7-A32A8B8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5684-FE54-4E98-92C1-E4F0C70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D6B1-7873-40DB-B35B-9DF0CCA2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BC51-D8BF-4B39-90E8-56FD3907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1F91-876A-475A-9DB2-92716EF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F1AD-6BFF-4159-82D3-C7FA576D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739E-D2E7-4F84-8A22-AAB9A9D1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A6AF-7873-4EE7-ACC8-DA91C9B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A8E3-A3B7-46AC-AD4B-47FD204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BC4C-CD99-4AF9-B0AF-2DFEB1AA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012D-A519-4942-A068-0B094998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4956-2FF4-4DB5-912A-5C2B158B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DD0A-C102-4CF7-916D-CA090453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ACD-B764-4A74-A90D-26F1934E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856-51E7-4BC8-91DD-25348C89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DF8-046C-4291-BB5F-BB6B8D68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887-3519-4DAE-B034-D7852DA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2AB-C108-4763-8D54-234B440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E8C6-503D-4C1A-9DF3-226DF17BD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5809-C32B-4E6D-876F-69F8A9DBD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E6F-666A-406E-A0E0-174FE29ADB1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BF4-3D6F-471E-AE65-3237FF0A227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十五从军征，八十始得归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道逢乡里人：“家中有阿谁？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遥看是君家，松柏冢垒垒。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兔从狗洞入，雉从梁上飞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中庭生菉榖，井上长草葵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舂榖持作饭，采葵持作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羹饭一时熟，不知贻阿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出门动向看，泪落沾我衣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2276640"/>
            <a:ext cx="4572000" cy="26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十五从军征，八十始得归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道逢乡里人：“家中有阿谁？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遥看是君家，松柏冢垒垒。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兔从狗洞入，雉从梁上飞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庭生菉榖，井上长草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舂榖持作饭，采葵持作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羹饭一时熟，不知贻阿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出门动向看，泪落沾我衣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56600" y="2354400"/>
            <a:ext cx="203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十五从军征，八十始得归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道逢乡里人：“家中有阿谁？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遥看是君家，松柏冢垒垒。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兔从狗洞入，雉从梁上飞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庭生菉榖，井上长草葵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舂榖持作饭，采葵持作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羹饭一时熟，不知贻阿谁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出门动向看，泪落沾我衣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95280" y="137448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十五从军征 ，八十始得归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道逢乡里人：“家中有阿谁？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遥看是君家，松柏冢累累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兔从狗洞入，雉从梁上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中庭生旅谷，井上生旅葵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舂谷持作饭，采葵持作羹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羹饭一时熟，不知贻阿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出门东向看，泪落沾我衣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67000" y="51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十五从军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2677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2677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思考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、他服了多少年的兵役？从中体会到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、作者问乡里人时，乡里人是怎样回答的？他的心情怎样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15160" y="26240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兵役的残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78000" y="4681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悲伤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b7"/>
                </a:solidFill>
                <a:latin typeface="Arial Black"/>
              </a:rPr>
              <a:t>3</a:t>
            </a:r>
            <a:r>
              <a:rPr b="1" i="1" lang="zh-CN" sz="5400" spc="-1" strike="noStrike">
                <a:solidFill>
                  <a:srgbClr val="ffffb7"/>
                </a:solidFill>
                <a:latin typeface="Arial Black"/>
              </a:rPr>
              <a:t>走近自家小院，他看到些什么？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04920" y="3047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zh-CN" sz="5400" spc="-1" strike="noStrike">
                <a:solidFill>
                  <a:srgbClr val="ffffff"/>
                </a:solidFill>
                <a:latin typeface="Arial"/>
              </a:rPr>
              <a:t>这番情景让你感受到什么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08240" y="1165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7680" y="413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4120"/>
            <a:ext cx="98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Arial"/>
                <a:ea typeface="新宋体"/>
              </a:rPr>
              <a:t>无限的凄凉，不尽的悲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434340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365312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6858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3048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五从军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362320" y="838080"/>
            <a:ext cx="304560" cy="5257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533520"/>
            <a:ext cx="3048120" cy="63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从军之久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回乡所见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行动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回乡心情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1219320"/>
            <a:ext cx="152280" cy="228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10666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望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近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22096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05120"/>
            <a:ext cx="1905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狗窦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梁上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中庭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井上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533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十五从军征，八十始得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松柏冢累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7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兔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2666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雉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生旅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4267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生旅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4952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舂谷、作饭、采葵、作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586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泪沾我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53280" y="914400"/>
            <a:ext cx="152640" cy="5562720"/>
          </a:xfrm>
          <a:custGeom>
            <a:avLst/>
            <a:gdLst>
              <a:gd name="textAreaLeft" fmla="*/ 0 w 152640"/>
              <a:gd name="textAreaRight" fmla="*/ 55080 w 15264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83280" y="1143000"/>
            <a:ext cx="1033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兵役给人民带来的沉重灾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19040" y="981000"/>
            <a:ext cx="65059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　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烽火城西百尺楼，     黄昏独上海风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更吹羌笛关山月，    无那金闺万里愁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关城榆叶早疏黄，    日暮云沙古战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表请回军掩尘骨，     莫教兵士哭龙荒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青海长云暗雪山，    孤城遥望玉门关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黄沙北战穿金甲，   不破楼兰终不还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 txBox="1"/>
          <p:nvPr/>
        </p:nvSpPr>
        <p:spPr>
          <a:xfrm rot="5400000">
            <a:off x="3029040" y="3051360"/>
            <a:ext cx="30859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谢谢大家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77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十五岁——八十 岁       残酷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35049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古诗二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十五从军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汉）《乐府诗集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4280" y="4672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Arial"/>
              </a:rPr>
              <a:t>通镇中心小学：刘学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1.</a:t>
            </a: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《乐府诗集》</a:t>
            </a:r>
            <a:r>
              <a:rPr b="1" lang="zh-CN" sz="4100" spc="-1" strike="noStrike">
                <a:solidFill>
                  <a:srgbClr val="ffffb7"/>
                </a:solidFill>
                <a:latin typeface="Arial Black"/>
              </a:rPr>
              <a:t>上古至唐五代乐章和歌谣的总集。所收作品以汉魏至隋唐的乐府诗为主，全诗共</a:t>
            </a:r>
            <a:r>
              <a:rPr b="1" lang="zh-CN" sz="4100" spc="-1" strike="noStrike">
                <a:solidFill>
                  <a:srgbClr val="ffffb7"/>
                </a:solidFill>
                <a:latin typeface="Arial Black"/>
              </a:rPr>
              <a:t>100</a:t>
            </a:r>
            <a:r>
              <a:rPr b="1" lang="zh-CN" sz="4100" spc="-1" strike="noStrike">
                <a:solidFill>
                  <a:srgbClr val="ffffb7"/>
                </a:solidFill>
                <a:latin typeface="Arial Black"/>
              </a:rPr>
              <a:t>多卷。他的作品大多反映了思想性： 对阶级剥削迫反抗，对战争和徭役的揭露等。</a:t>
            </a:r>
            <a:br>
              <a:rPr sz="4100"/>
            </a:br>
            <a:r>
              <a:rPr b="1" lang="zh-CN" sz="4100" spc="-1" strike="noStrike">
                <a:solidFill>
                  <a:srgbClr val="ffffb7"/>
                </a:solidFill>
                <a:latin typeface="Arial Black"/>
              </a:rPr>
              <a:t>2</a:t>
            </a:r>
            <a:r>
              <a:rPr b="1" lang="zh-CN" sz="4100" spc="-1" strike="noStrike">
                <a:solidFill>
                  <a:srgbClr val="ffffb7"/>
                </a:solidFill>
                <a:latin typeface="Arial Black"/>
              </a:rPr>
              <a:t>、回忆我们学过《乐府诗集》里的《长歌行》</a:t>
            </a:r>
            <a:br>
              <a:rPr sz="4100"/>
            </a:br>
            <a:r>
              <a:rPr b="1" lang="zh-CN" sz="4100" spc="-1" strike="noStrike">
                <a:solidFill>
                  <a:srgbClr val="ffffb7"/>
                </a:solidFill>
                <a:latin typeface="Arial Black"/>
                <a:ea typeface="隶书"/>
              </a:rPr>
              <a:t> </a:t>
            </a:r>
            <a:endParaRPr b="1" lang="en-US" sz="41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Comic Sans MS"/>
              </a:rPr>
              <a:t>自学检查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正音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十五从军征，八十始得归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道逢乡里人，“家里中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谁？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遥看是君家，松柏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累累。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兔从狗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入，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从梁上飞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庭生旅谷，井上生旅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葵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谷持作饭，采葵持作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羹饭一时熟，不知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贻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阿谁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出门东向看，泪落沾我衣。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  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1295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zhǒ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dò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zh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kú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4191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gē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y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chō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理解字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十五从军征，八十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始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得归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道逢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乡里人，“家中有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阿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谁？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遥看是君家，松柏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冢累累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”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兔从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狗窦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入，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雉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从梁上飞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中庭生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旅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谷，井上生旅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葵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舂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谷持作饭，采葵持作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羹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羹饭一时熟，不知</a:t>
            </a: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贻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阿谁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 </a:t>
            </a:r>
            <a:r>
              <a:rPr b="1" lang="zh-CN" sz="1800" spc="-1" strike="noStrike">
                <a:solidFill>
                  <a:srgbClr val="0000cc"/>
                </a:solidFill>
                <a:latin typeface="宋体"/>
              </a:rPr>
              <a:t>出门东向看，泪落沾我衣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始：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676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道逢：在路上遇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阿：语气词，无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81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冢：坟墓   累累：连续不断的样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590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狗窦：狗洞   雉：野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3124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旅：野生   葵：葵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羹：糊状食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贻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送，赠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114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舂：放在石舂里把谷类的壳捣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8-12-01T10:34:50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