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C5E-D027-4F1E-99A0-42FE1234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499-7897-4168-B083-ACEAADB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66F-35AE-42E6-89E7-616D90F7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983-4B2A-4773-8EEE-86C8994C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F5ED-3989-419A-8038-21E26EE4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E89-5208-4236-8D66-E00D809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E02-9F21-4C78-B237-7FFB2322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669B-D499-4911-B3DE-D1E58D3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394-D2DE-4C02-ACFB-ED3E471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CA9-D066-44A2-A50B-E45BF07E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32F-7041-4460-9736-BC53724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14E-4DC5-469F-BF4B-9B7FC58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3950-AFB3-4181-92F0-62C69EF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139-F52F-41C5-B80C-2993DE0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957E-E10C-40D3-B14E-9A36EDF8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BCE5-AF3B-4251-91CF-11AC1A1D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2F4-6D9A-4541-891E-7C74FD51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E8C-A5BD-4237-A102-4F3A6420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C13-0E0E-4AD2-B9AE-04D3B8BB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E9C-F9F2-43DB-9786-B0680AB0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C28-9C0C-4FCB-BB15-164B396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97D-B3AD-43F8-9C95-D388679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FCB-CB73-4734-81D5-7F5C433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D05-2252-4908-ACC5-BE943BE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9D7-F601-42D4-BB5E-166EF761F42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5237-19BF-456C-BCBA-884F69414B7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10656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00360" y="1413000"/>
            <a:ext cx="63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b76a03"/>
                </a:solidFill>
                <a:latin typeface="Arial"/>
                <a:ea typeface="隶书"/>
              </a:rPr>
              <a:t>唯一的听众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2280" y="4941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5f03"/>
                </a:solidFill>
                <a:latin typeface="Times New Roman"/>
                <a:ea typeface="隶书"/>
              </a:rPr>
              <a:t>授课人：张绍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81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79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58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53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66920" y="151272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做一个倾听者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不要吝啬自己的鼓励和微笑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愿感恩和付出同时在我们身上体现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10656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00360" y="1413000"/>
            <a:ext cx="63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b76a03"/>
                </a:solidFill>
                <a:latin typeface="Arial"/>
                <a:ea typeface="隶书"/>
              </a:rPr>
              <a:t>唯一的听众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4941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5f03"/>
                </a:solidFill>
                <a:latin typeface="Times New Roman"/>
                <a:ea typeface="隶书"/>
              </a:rPr>
              <a:t>授课人：张绍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53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079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是我打搅了你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小伙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不过，我每天早晨都在这里坐一会儿。”“我想你一定拉得非常好，可惜我的耳朵聋了。如果不介意我在场，请继续吧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也许我会用心去感受这音乐。我能做你的听众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每天早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真不错 。我的心已经感受到了。谢谢你，小伙子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“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你的琴声能给我带来快乐和幸福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0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沮丧地想离开小树林时，她平静地望着我，仿佛在说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每天去小树林拉琴时，她平静地望着我，仿佛在说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渐渐奏出真正的音乐时，她慈祥的眼睛平静地望着我，仿佛在说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0464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拉出像锯床腿一样的声音时，一位极瘦极瘦的老妇人—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有了几份信心，每天去练琴，她看到了，也是一直—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当我渐感奏出了真正的音乐，她还是用她慈祥——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89000"/>
            <a:ext cx="85690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我的脸顿时烧起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心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么难听的声音一定破坏了这林中的和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一定破坏了这位老人正独享的幽静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.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后来，小提琴成了我无法割舍的爱好，我能熟练地拉许多曲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在各种文艺晚会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我有机会面对成百上千的观众演奏小提琴曲。那时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我总是不由得想起那位 “耳聋”的老人，那清晨里我唯一的听众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189000"/>
            <a:ext cx="856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后来，小提琴成了我无法割舍的爱好，我能熟练地拉许多曲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在各种文艺晚会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我有机会面对成百上千的观众演奏小提琴曲。那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我总是不由得想起那位 “耳聋”的老人，那清晨里我唯一的听众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40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79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730520" y="-2763720"/>
            <a:ext cx="10874520" cy="11737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439920" cy="439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0537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8:16:08Z</dcterms:created>
  <dc:creator>微软用户</dc:creator>
  <dc:description/>
  <dc:language>en-US</dc:language>
  <cp:lastModifiedBy>微软用户</cp:lastModifiedBy>
  <dcterms:modified xsi:type="dcterms:W3CDTF">2008-09-26T12:33:00Z</dcterms:modified>
  <cp:revision>20</cp:revision>
  <dc:subject/>
  <dc:title>幻灯片 1</dc:title>
</cp:coreProperties>
</file>