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0A6-0455-4909-B1D8-F17DEC76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479-936A-45CB-BC6E-F49CBCAC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462-0950-420F-BD61-46106E0B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73D-B6D3-4EA7-AA6C-7B4A0F63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9CCB-CCF9-4E3D-B358-34525825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5DD8-B625-4AA0-A203-23481F5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CD6D-9F84-49E9-AC90-976876C7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6FC-B6A2-4BCF-A6CB-D229413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1425-CE80-4680-A8BB-16040D93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6B30-EC36-4D5A-84B8-0B831FD5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820C-55A5-4CA8-B491-313D979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530-DA9C-480C-8FEC-3F17F5D1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D109-552D-40AF-B04D-B152621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53B-6B43-4E4E-9044-438CB17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FAC8-6DBD-4A62-BA57-144DAC81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1174-617C-4D5E-93AB-E7B1B6CE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91F-6992-4894-9F9A-4E14C677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F66-D24F-4F1F-9142-ACC5E5F4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04B-6BBF-47F8-BEFC-C60295E1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DF6-A5F6-4236-A531-782081AB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772-EC24-4FCC-BD8A-83CEC82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706-7C3C-40D4-9824-7B263E3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9D5-F012-46E2-ADB8-8178E8C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831-9A4D-4B63-977D-7D9D200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A370-5585-4C6A-B4C8-9C75B82A8154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2BB-6C8B-45DC-BE91-8F68DD32A89B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53800" y="4464000"/>
            <a:ext cx="433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华文行楷"/>
              </a:rPr>
              <a:t>执教：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华文行楷"/>
              </a:rPr>
              <a:t>**********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华文行楷"/>
              </a:rPr>
              <a:t>学校：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华文行楷"/>
              </a:rPr>
              <a:t>**********************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62680" y="-14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Narrow"/>
                <a:ea typeface="隶书"/>
              </a:rPr>
              <a:t>小学 六年级语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13352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他</a:t>
            </a: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理直气壮</a:t>
            </a: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地说：“我看您并不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一块儿撞碎在这柱子上！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97120" y="54936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从下面的话可以看出蔺相如是怎样一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·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个人？</a:t>
            </a:r>
            <a:r>
              <a:rPr b="0" lang="zh-CN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勇敢机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09360" y="5772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762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到了举行典礼那一天，蔺相如进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见了秦王，大大方方地说：“和氏璧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经送回赵国去了。您如果有诚意的话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先把十五个城叫给我国，我国马上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和氏璧送来，决不失信。不然，您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了我也没用，天下的人都知道秦国是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从来不讲信用的！”秦王没有办法，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得客客气气地送蔺相如回国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66680" y="762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到了举行典礼那一天，蔺相如进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见了秦王，</a:t>
            </a: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大大方方</a:t>
            </a: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地说：“和氏璧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经送回赵国去了。您如果有诚意的话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先把十五个城叫给我国，我国马上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和氏璧送来，决不失信。不然，您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了我也没用，天下的人都知道秦国是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从来不讲信用的！”秦王没有办法，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得客客气气地送蔺相如回国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44500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隶书"/>
              </a:rPr>
              <a:t>不畏强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90720" y="239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Narrow"/>
                <a:ea typeface="黑体"/>
              </a:rPr>
              <a:t>课堂练习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43160" y="1844640"/>
            <a:ext cx="703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蔺相如之所以说这块璧有点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小毛病，骗回和氏璧，是因为——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———————————————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2880" y="37749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看出秦王的骗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69320" y="1263600"/>
            <a:ext cx="54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、 用上“之所以……是因为……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联系“完璧归赵”这个故事说一句话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649960" y="941400"/>
            <a:ext cx="50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Verdana"/>
              </a:rPr>
              <a:t>思考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Verdana"/>
              </a:rPr>
              <a:t>       “</a:t>
            </a:r>
            <a:r>
              <a:rPr b="0" lang="zh-CN" sz="6000" spc="-1" strike="noStrike">
                <a:solidFill>
                  <a:srgbClr val="99ccff"/>
                </a:solidFill>
                <a:latin typeface="Verdana"/>
              </a:rPr>
              <a:t>渑池之会</a:t>
            </a:r>
            <a:r>
              <a:rPr b="0" lang="zh-CN" sz="6000" spc="-1" strike="noStrike">
                <a:solidFill>
                  <a:srgbClr val="eaeaea"/>
                </a:solidFill>
                <a:latin typeface="Verdana"/>
              </a:rPr>
              <a:t>”上秦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Verdana"/>
              </a:rPr>
              <a:t>赵两国是打了平手，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Verdana"/>
              </a:rPr>
              <a:t>还是分出了胜负？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65920" y="1125360"/>
            <a:ext cx="683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zh-CN" sz="4000" spc="-1" strike="noStrike">
                <a:solidFill>
                  <a:srgbClr val="99ccff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”这个故事的前因是</a:t>
            </a: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                                              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，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后果是                            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2997360"/>
            <a:ext cx="813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4149720"/>
            <a:ext cx="489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74640" y="981000"/>
            <a:ext cx="5950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    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约赵王在渑池相会，想占赵国便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74960" y="3435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吃亏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72560" y="1736640"/>
            <a:ext cx="464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从“渑池之会”可以看出蔺相如是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一个</a:t>
            </a: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3720" y="27874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勇敢、随机应变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95960" y="566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cc"/>
                </a:solidFill>
                <a:latin typeface="Verdana"/>
                <a:ea typeface="华文行楷"/>
              </a:rPr>
              <a:t>负荆请罪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22040" y="1052640"/>
            <a:ext cx="248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将”指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__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相”指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__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和”的意思是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____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从“和”字可以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推想出什么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6320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廉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59480" y="-22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060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蔺相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2560" y="-22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825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同心协力，保卫赵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5920" y="620640"/>
            <a:ext cx="683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zh-CN" sz="4000" spc="-1" strike="noStrike">
                <a:solidFill>
                  <a:srgbClr val="99ccff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”这个故事的前因是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</a:t>
            </a: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，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后果是                            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4360" y="1197000"/>
            <a:ext cx="17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3645000"/>
            <a:ext cx="460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7080" y="549360"/>
            <a:ext cx="62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      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廉颇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看到蔺相如职位比自己高，很不服气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2859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负荆请罪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49160" y="907920"/>
            <a:ext cx="5991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zh-CN" sz="3600" spc="-1" strike="noStrike">
                <a:solidFill>
                  <a:srgbClr val="eaeaea"/>
                </a:solidFill>
                <a:latin typeface="Verdana"/>
              </a:rPr>
              <a:t>蔺相如对廉颇的傲慢无礼是怎么做的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Verdana"/>
              </a:rPr>
              <a:t>他为什么要这样做？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" y="3848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8400" y="37749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避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避让廉颇并非害怕他，而是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为了国家利益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44760" y="1736640"/>
            <a:ext cx="5324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从“负荆请罪”可以看出蔺相如是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一个</a:t>
            </a: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2200" y="29401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以国家利益为重，顾大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识大体，胸怀宽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3500280"/>
            <a:ext cx="6193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12320" y="981000"/>
            <a:ext cx="5142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eaeaea"/>
                </a:solidFill>
                <a:latin typeface="Verdana"/>
              </a:rPr>
              <a:t>廉颇为什么向蔺相如负荆请罪？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50840" y="2997360"/>
            <a:ext cx="481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从“负荆请罪”可以看出廉颇是一个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8480" y="40640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勇于改过，以国利益为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91080" y="981000"/>
            <a:ext cx="503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       “</a:t>
            </a: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完璧归赵”、“渑池之会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与“负荆请罪”之间有什么联系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399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8440" y="3919680"/>
            <a:ext cx="479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三个故事各有情节，但又紧密联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”是“完璧归赵” 的发展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”和“渑池之会”的结果是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负荆请罪” 的起因。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</a:t>
            </a:r>
            <a:br>
              <a:rPr sz="6000"/>
            </a:br>
            <a:r>
              <a:rPr b="0" lang="zh-CN" sz="6000" spc="-1" strike="noStrike">
                <a:solidFill>
                  <a:srgbClr val="ffffcc"/>
                </a:solidFill>
                <a:latin typeface="Arial"/>
              </a:rPr>
              <a:t>                    </a:t>
            </a: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  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23493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76280" y="1700280"/>
            <a:ext cx="2191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ahoma"/>
              </a:rPr>
              <a:t>忠贞爱国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勇敢机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1628640"/>
            <a:ext cx="25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d5bf1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6d5bf1"/>
                </a:solidFill>
                <a:latin typeface="Tahoma"/>
              </a:rPr>
              <a:t>足智多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6120" y="2565360"/>
            <a:ext cx="17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临危不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76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5ed57"/>
                </a:solidFill>
                <a:latin typeface="Tahoma"/>
              </a:rPr>
              <a:t>蔺相如</a:t>
            </a:r>
            <a:r>
              <a:rPr b="0" lang="zh-CN" sz="3200" spc="-1" strike="noStrike">
                <a:solidFill>
                  <a:srgbClr val="f5ed57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37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廉颇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350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顾全大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9480" y="843120"/>
            <a:ext cx="19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96120" y="3573360"/>
            <a:ext cx="17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d5bf1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6d5bf1"/>
                </a:solidFill>
                <a:latin typeface="Tahoma"/>
              </a:rPr>
              <a:t>忍辱退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知错就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96120" y="4437000"/>
            <a:ext cx="17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5577d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f5577d"/>
                </a:solidFill>
                <a:latin typeface="Tahoma"/>
              </a:rPr>
              <a:t>豪爽直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7557f5"/>
                </a:solidFill>
                <a:latin typeface="Arial"/>
                <a:ea typeface="华文彩云"/>
              </a:rPr>
              <a:t>小试身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4764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00ff00"/>
                </a:solidFill>
                <a:latin typeface="Verdana"/>
              </a:rPr>
              <a:t>、这个故事一直被后人传为佳话，你想想他们当时都说了些什么话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5280" y="1483920"/>
            <a:ext cx="640872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、谁来演演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0280" y="306360"/>
            <a:ext cx="67705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d5bf1"/>
                </a:solidFill>
                <a:latin typeface="Arial"/>
              </a:rPr>
              <a:t>想象说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6920" y="1412640"/>
            <a:ext cx="75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如果当时老百姓看到这一幕，他们会说些什么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这件事情传到秦王或赵王耳朵里，他们可能说什么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廉颇的手下看到他负荆请罪，又有什么感想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你看到这动人的一幕，回想生活中和他人相处的点点滴滴，又有什么想说的吗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57200" y="1308240"/>
            <a:ext cx="4702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Verdana"/>
              </a:rPr>
              <a:t>作业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zh-CN" sz="4400" spc="-1" strike="noStrike">
                <a:solidFill>
                  <a:srgbClr val="eaeaea"/>
                </a:solidFill>
                <a:latin typeface="Verdana"/>
              </a:rPr>
              <a:t>复述“负荆请罪”这个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Verdana"/>
              </a:rPr>
              <a:t>故事给家长听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79280" y="1387440"/>
            <a:ext cx="618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这个故事发生在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时候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主要讲 </a:t>
            </a: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，</a:t>
            </a: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_______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三个故事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11160" y="44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回答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2940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战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6200" y="5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1844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完璧归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784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4280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渑池相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6280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负荆请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8080" y="6462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蔺相如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对事件能深思熟虑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随机应变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秦王不顾生死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敢于斗争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对廉颇能顾全大局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忍辱退让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一切以国家利益为重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因为他为维护赵国利益一再立下功劳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先后被封为上大夫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上卿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78560" y="100656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廉颇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能服从赵王的调遣带兵奔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边界作好抵御秦兵的准备，使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王不敢轻举妄动，虽然计较个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得失和蔺相如闹不团结，但知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就改，并负荆上蔺相如府上请罪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性格坦率。此后能和蔺相如一起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同心协力保卫赵国。                       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706560" y="396720"/>
            <a:ext cx="24865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一、教学要求</a:t>
            </a: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．理解课文内容，从蔺相如为了国家利益，对敌不畏强暴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机智勇敢，对友胸怀宽广、忍辱退让的好品质中受到启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和教育。 </a:t>
            </a:r>
            <a:br>
              <a:rPr sz="2400"/>
            </a:b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．在理解课文内容的基础上，从课文中找到依据评价人物。 </a:t>
            </a:r>
            <a:br>
              <a:rPr sz="2400"/>
            </a:b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．学习本课的生字新词，理解重点词语的意思。 </a:t>
            </a:r>
            <a:br>
              <a:rPr sz="2400"/>
            </a:b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．复述“负荆请罪”这个故事。 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二、教学重点</a:t>
            </a: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．理解三个故事的原因和结果。 </a:t>
            </a:r>
            <a:br>
              <a:rPr sz="2400"/>
            </a:b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．了解三个故事之间的联系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</a:rPr>
              <a:t>简介背景</a:t>
            </a:r>
            <a:r>
              <a:rPr b="0" lang="zh-CN" sz="5700" spc="-1" strike="noStrike">
                <a:solidFill>
                  <a:srgbClr val="ffffcc"/>
                </a:solidFill>
                <a:latin typeface="Arial"/>
              </a:rPr>
              <a:t>：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16000" y="1915920"/>
            <a:ext cx="6400800" cy="27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d5bf1"/>
                </a:solidFill>
                <a:latin typeface="Verdana"/>
              </a:rPr>
              <a:t>故事发生在战国末期，当时有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齐、楚、燕、韩、赵、魏、秦七个国家</a:t>
            </a:r>
            <a:r>
              <a:rPr b="1" lang="zh-CN" sz="3600" spc="-1" strike="noStrike">
                <a:solidFill>
                  <a:srgbClr val="6d5bf1"/>
                </a:solidFill>
                <a:latin typeface="Verdana"/>
              </a:rPr>
              <a:t>并存。秦国最强大，要统一 中国，不断向其它六国进攻。赵国紧邻秦国，是一 个比较弱的国家，常受到秦国的侵略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17880" y="1143000"/>
            <a:ext cx="413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完璧归赵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10920" y="836640"/>
            <a:ext cx="64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zh-CN" sz="4000" spc="-1" strike="noStrike">
                <a:solidFill>
                  <a:srgbClr val="99ccff"/>
                </a:solidFill>
                <a:latin typeface="Verdana"/>
              </a:rPr>
              <a:t>完璧归赵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”这个故事的前因是</a:t>
            </a: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后果是                                     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924280"/>
            <a:ext cx="813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4221000"/>
            <a:ext cx="669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1880" y="981000"/>
            <a:ext cx="60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     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依仗强势，要骗取宝玉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333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10920" y="836640"/>
            <a:ext cx="64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zh-CN" sz="4000" spc="-1" strike="noStrike">
                <a:solidFill>
                  <a:srgbClr val="99ccff"/>
                </a:solidFill>
                <a:latin typeface="Verdana"/>
              </a:rPr>
              <a:t>完璧归赵</a:t>
            </a: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”这个故事的前因是</a:t>
            </a: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aeaea"/>
                </a:solidFill>
                <a:uFillTx/>
                <a:latin typeface="Verdana"/>
              </a:rPr>
              <a:t>               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后果是                                     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1700280"/>
            <a:ext cx="20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924280"/>
            <a:ext cx="813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4221000"/>
            <a:ext cx="669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67880" y="907920"/>
            <a:ext cx="60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Verdana"/>
              </a:rPr>
              <a:t>     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依仗强势，要骗取宝玉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9600" y="34354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宝玉完好无损地回到了赵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13352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他理直气壮地说：“我看您并不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  <a:ea typeface="黑体"/>
              </a:rPr>
              <a:t>一块儿撞碎在这柱子上！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97120" y="54936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从下面的话可以看出蔺相如是怎样一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·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个人？</a:t>
            </a:r>
            <a:r>
              <a:rPr b="0" lang="zh-CN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2:41:49Z</dcterms:created>
  <dc:creator>t-1</dc:creator>
  <dc:description/>
  <dc:language>en-US</dc:language>
  <cp:lastModifiedBy>微软用户</cp:lastModifiedBy>
  <dcterms:modified xsi:type="dcterms:W3CDTF">2008-03-30T15:00:19Z</dcterms:modified>
  <cp:revision>20</cp:revision>
  <dc:subject/>
  <dc:title>PowerPoint 演示文稿</dc:title>
</cp:coreProperties>
</file>