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081E-1C47-4F01-BF66-DBD1CF38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3D77-349D-43D1-906C-687FC964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48A8-CA83-4B5D-B5C8-4F4704DF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67A7-BDFB-42E9-AA9D-28D9139F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0AFF-ECDD-4FB0-8D89-81629B8E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51F3-8BF0-4AD3-85B9-9C79CFFF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CC40-A300-4211-8352-D95B1DBF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81A9-52AB-41C3-8117-4EC0AEF5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21D4-DF00-4659-A602-354826AD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8FAC-AB01-4064-BD29-62B9808B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419D-5EF9-41BF-9F62-04B8EE84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221E-0D25-4E3A-8F51-CEC928EF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831E-3B5A-48DF-8FB9-B70653CA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AAF5-F720-4E59-97A7-E5CCA744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12CB-222A-446D-A954-A7A35252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05F1-9724-4D71-BE3B-2FAE6E31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966C-4BF5-4318-AE17-7DB65920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AF289-E1D6-495E-9F14-C8A42F5F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1C111-F0EC-4563-AF07-699612A8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A52EB-30C3-4F8B-B8F0-3873FF37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69AAD-8A4D-4A6B-B40F-F0564CDB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6161B-A14E-46DE-BE70-79C753D3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248A-8BF5-4FCB-9321-3B0D1FDF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D0772-9F5C-423A-A4CF-A665FDCA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516F4-A153-42D3-B1FC-77A62141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6A87D-586D-4502-95C0-8D631D04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4A19A-AFF5-4972-80B0-CF2FF617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9DD15-1191-48D5-AE83-81A4951B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5BDB6-B47B-471B-B28B-D4818806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8B92F-4F09-46FE-91B0-44EBD66C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00298-84F0-4C5F-A12C-4418E053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1082F-D015-43AA-8C4E-2A342E87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40BB5-DBEA-4EA5-9D7C-3AD82D96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8C08-A6BB-47C2-995F-4EF8B770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B7493-572B-4B90-B76D-3E2EF4D8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528AA-548B-49D4-BA6A-A35AB24C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AF67E-543E-4E9E-B162-B64FB45C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C0F11-9D17-4BD8-882C-57173436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2DFB4-8DE5-42DC-A016-5D04EE1D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71B6D-16A1-4FA5-8E24-6F612EB3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1D19C-C760-4638-BED4-89AC8208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D4118-C50F-4AD6-8296-9F5ABF6D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8B5EC-25AC-4DFD-BA1D-E371C454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BB2BF-38D5-4EA9-A0FC-1FED850C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2D3A-037C-4815-97E4-70EFFA3A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8187D-CA15-4B63-851B-9EC90A8D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D4B41-7FF4-47CA-B5BE-6614D756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5A42B-62A8-4232-8B30-E966DF15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214FB-B2A6-4950-B87B-94446839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0BDD7-EED5-40C0-B21E-0C12A185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0BAEB-38DF-4046-9C23-DE28B17A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83346-91D7-4A66-A159-404AB336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C249F-AA3A-4896-9111-55885E46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2409D-154B-4F45-9665-F44BE8A9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0B19B-0D41-471E-80E2-FD1F1C50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13A5-FFEF-4E2A-BF46-0EA9E1B8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A9F96-E09E-4360-9AC9-97528B1B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DD8AB-2A45-4669-B6F6-34943F273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589D9-1C92-4AE9-B585-A1C855A9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60CC0-E5C3-4725-B44B-09A5ACB2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0A062-6E07-44B5-A1C1-DB7F9B45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C5937-25B3-44ED-8DCE-544C9F26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DFD78-A85D-48E3-901E-CF292E0F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09208-8C8D-425F-A720-894EBB13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472B9-390D-4E8C-A3D0-785D9770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BEA3B-9074-4E32-8914-59AC3958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3A26-A032-4013-9121-5CB91194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6BF6B-5E00-48CF-907F-287B84AA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5D708-DE90-4039-962C-A006D163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30C8E-0CAD-4D69-A7B0-3A393979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C3AE-8EAA-4EC6-9F25-1F8872FB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ED7F-976B-41A5-AAF3-D22A763C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722F-98C6-4F6C-811B-04FFA6F16193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A748-9BCE-485E-BABF-89123B8DE7D9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4B80-9BAE-4342-9BC7-FAD3F37C271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5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1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02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05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06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08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6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B6C7-FD69-4312-AB41-DD90C593181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59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63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69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73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317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463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477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491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505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519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533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547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549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13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14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15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3146-5804-45DC-91D4-1CF115CF50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605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619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dt" idx="16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ftr" idx="1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4714-F9E9-4FA0-80DC-9EC2F2A75C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769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" descr=""/>
          <p:cNvPicPr/>
          <p:nvPr/>
        </p:nvPicPr>
        <p:blipFill>
          <a:blip r:embed="rId1"/>
          <a:stretch/>
        </p:blipFill>
        <p:spPr>
          <a:xfrm>
            <a:off x="2771640" y="4680"/>
            <a:ext cx="6372360" cy="685332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 txBox="1"/>
          <p:nvPr/>
        </p:nvSpPr>
        <p:spPr>
          <a:xfrm rot="5671800">
            <a:off x="-1513080" y="2528640"/>
            <a:ext cx="561672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老人与海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-324000" y="-320760"/>
            <a:ext cx="10009440" cy="734076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3708360" y="0"/>
            <a:ext cx="543564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老人把饼干丁很小 心地放在湖边的围栏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退开一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撮起嘴向鸥群呼唤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立刻便有一群海鸥应声而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几下就扫得干干净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老人顺着栏杆边走边放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海鸥依他的节奏起起落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排成一片翻飞的白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飞成一篇有声有色的乐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2"/>
          <a:stretch/>
        </p:blipFill>
        <p:spPr>
          <a:xfrm>
            <a:off x="-324000" y="-387360"/>
            <a:ext cx="3996000" cy="72453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老人把饼干丁很小 心地放在湖边的围栏上</a:t>
            </a: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退开一步</a:t>
            </a: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撮起嘴向鸥群呼唤</a:t>
            </a: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.</a:t>
            </a: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立刻便有一群海鸥应声而来</a:t>
            </a: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几下就扫得干干净净</a:t>
            </a: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老人顺着栏杆边走边放</a:t>
            </a: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海鸥依他的节奏起起落落</a:t>
            </a: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排成一片翻飞的白色</a:t>
            </a: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飞成一篇有声有色的乐谱</a:t>
            </a: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0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826920" y="1125360"/>
            <a:ext cx="741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99"/>
                </a:solidFill>
                <a:latin typeface="Arial"/>
              </a:rPr>
              <a:t>在海鸥的鸣叫声里</a:t>
            </a:r>
            <a:r>
              <a:rPr b="0" lang="zh-CN" sz="48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0" lang="zh-CN" sz="4800" spc="-1" strike="noStrike">
                <a:solidFill>
                  <a:srgbClr val="006699"/>
                </a:solidFill>
                <a:latin typeface="Arial"/>
              </a:rPr>
              <a:t>老人抑扬顿挫地唱着什么</a:t>
            </a:r>
            <a:r>
              <a:rPr b="0" lang="zh-CN" sz="4800" spc="-1" strike="noStrike">
                <a:solidFill>
                  <a:srgbClr val="006699"/>
                </a:solidFill>
                <a:latin typeface="Arial"/>
              </a:rPr>
              <a:t>.</a:t>
            </a:r>
            <a:r>
              <a:rPr b="0" lang="zh-CN" sz="4800" spc="-1" strike="noStrike">
                <a:solidFill>
                  <a:srgbClr val="006699"/>
                </a:solidFill>
                <a:latin typeface="Arial"/>
              </a:rPr>
              <a:t>侧耳细听</a:t>
            </a:r>
            <a:r>
              <a:rPr b="0" lang="zh-CN" sz="4800" spc="-1" strike="noStrike">
                <a:solidFill>
                  <a:srgbClr val="006699"/>
                </a:solidFill>
                <a:latin typeface="Arial"/>
              </a:rPr>
              <a:t>,</a:t>
            </a:r>
            <a:r>
              <a:rPr b="0" lang="zh-CN" sz="4800" spc="-1" strike="noStrike">
                <a:solidFill>
                  <a:srgbClr val="006699"/>
                </a:solidFill>
                <a:latin typeface="Arial"/>
              </a:rPr>
              <a:t>原来是亲昵得变了调的地方话</a:t>
            </a:r>
            <a:r>
              <a:rPr b="0" lang="zh-CN" sz="4800" spc="-1" strike="noStrike">
                <a:solidFill>
                  <a:srgbClr val="006699"/>
                </a:solidFill>
                <a:latin typeface="Arial"/>
              </a:rPr>
              <a:t>-----“</a:t>
            </a:r>
            <a:r>
              <a:rPr b="0" lang="zh-CN" sz="4800" spc="-1" strike="noStrike">
                <a:solidFill>
                  <a:srgbClr val="006699"/>
                </a:solidFill>
                <a:latin typeface="Arial"/>
              </a:rPr>
              <a:t>独脚”、”灰头”、”红嘴”、“老沙”、“公主”……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179280" y="2781360"/>
            <a:ext cx="87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Arial"/>
                <a:ea typeface="华文中宋"/>
              </a:rPr>
              <a:t>他背已经驼了，穿一身褪色的过时的布衣，背一个褪色的蓝布包，连装鸟食的大塑料袋也用得褪了色。朋友告诉我，这位老人每天步行二十余里，从城郊赶到翠湖，只为了给海鸥送餐，跟海鸥相伴。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0" y="350028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0" lang="zh-CN" sz="5400" spc="-1" strike="noStrike">
                <a:solidFill>
                  <a:srgbClr val="006699"/>
                </a:solidFill>
                <a:latin typeface="Arial"/>
              </a:rPr>
              <a:t>海鸥们急速扇动翅膀，轮流飞到老人遗像前的空中，像是前来瞻仰遗容的亲属。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0" y="-149400"/>
            <a:ext cx="91440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324000" y="3500280"/>
            <a:ext cx="84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过了一会儿，海鸥纷纷落地，竟在老人遗像前后站成了两行。它们肃立不动，像是为老人守灵的白翼天使。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0" y="0"/>
            <a:ext cx="80280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当我们不得不去收起遗像时候，海鸥们像炸了营似的朝遗像扑过来。它们大声鸣叫着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翅膀扑得那样近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们好不容易才从这片飞动的白色漩涡中                                                        脱出身来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 txBox="1"/>
          <p:nvPr/>
        </p:nvSpPr>
        <p:spPr>
          <a:xfrm>
            <a:off x="1116000" y="1341360"/>
            <a:ext cx="727236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多多指教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谢谢大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7:21:37Z</dcterms:created>
  <dc:creator>微软用户</dc:creator>
  <dc:description/>
  <dc:language>en-US</dc:language>
  <cp:lastModifiedBy>番茄花园</cp:lastModifiedBy>
  <dcterms:modified xsi:type="dcterms:W3CDTF">2007-12-05T11:39:31Z</dcterms:modified>
  <cp:revision>11</cp:revision>
  <dc:subject/>
  <dc:title>幻灯片 1</dc:title>
</cp:coreProperties>
</file>