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gif" ContentType="image/gif"/>
  <Override PartName="/ppt/media/image7.png" ContentType="image/png"/>
  <Override PartName="/ppt/media/image4.gif" ContentType="image/gif"/>
  <Override PartName="/ppt/media/image8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2497B-6B26-4A6B-89CE-7A62DB297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51CEE-6964-428F-9519-699BE206E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A59F1-7F7D-4DBF-A454-3A65D5249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DA239-0B65-4366-A6A3-C1CC68FA8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C576A-E000-43C2-B8B9-AB4ACCFF4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34558-EC27-480E-9FA4-EFFC8321A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CB28B-186A-4F37-A2E2-768FE51B8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8C4A1-1E1B-4A7A-B1FC-A2703199C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C8C8B-4E28-4181-AA1F-FBF7F177E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49A20-3E86-4F8A-995E-83465DBC1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19EF9-D2D9-49CC-9F19-0E26ED01C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D59C2-78A9-4D8B-B421-1109CD862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401DF-9516-4C91-8D4B-C88BCA402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D1D80-3602-44D3-9C09-B0C2278FF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0B838-31B6-472F-BB5D-E7AEAABEA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D2851-AFC8-4671-9FF6-265930442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ACC32-A2C0-4673-B659-ACA7E989C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714CB-3C68-4AAA-8312-377342003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A94BE-8C31-4F0D-BE2F-8104595AC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6E08A-00C5-4987-BE0B-059D993F0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4D031-3819-4C44-9DE2-726CA6E84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F0741-CA0E-4F7F-BD19-A6BEEFF41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09D3A-2317-4071-B4E9-9D0750CBE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8ABBE-E0B2-4BB2-854C-64B1C2C96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5499C-A2E8-4B37-AE10-D1EE72D4B96B}" type="slidenum">
              <a:rPr b="0" lang="zh-CN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9434C-7ABD-4D9F-A17A-5B087781EE90}" type="slidenum">
              <a:rPr b="0" lang="zh-CN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gi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.png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zh-CN" sz="6600" spc="-1" strike="noStrike">
                <a:solidFill>
                  <a:srgbClr val="ffffff"/>
                </a:solidFill>
                <a:latin typeface="Arial"/>
              </a:rPr>
              <a:t>万以内的减法（一）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Arial"/>
              </a:rPr>
              <a:t>口算。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026000" y="1628640"/>
            <a:ext cx="2012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80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7 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82720" y="2565360"/>
            <a:ext cx="2153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42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5 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82720" y="3573360"/>
            <a:ext cx="2153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63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4 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82720" y="4527720"/>
            <a:ext cx="2153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26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7 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883400" y="1557360"/>
            <a:ext cx="2153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35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8 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915080" y="2421000"/>
            <a:ext cx="2153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32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9 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915080" y="3429000"/>
            <a:ext cx="2153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43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6 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915080" y="4456080"/>
            <a:ext cx="2153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65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9 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033000" y="1628640"/>
            <a:ext cx="74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7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989800" y="2565360"/>
            <a:ext cx="74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3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989800" y="3573360"/>
            <a:ext cx="74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5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61360" y="4527720"/>
            <a:ext cx="74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1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993720" y="1503360"/>
            <a:ext cx="74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2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022160" y="2421000"/>
            <a:ext cx="74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2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993720" y="3357720"/>
            <a:ext cx="74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3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993720" y="4456080"/>
            <a:ext cx="74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5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Arial"/>
              </a:rPr>
              <a:t>竖式计算。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899440" y="2025720"/>
            <a:ext cx="2435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54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21 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945520" y="3068640"/>
            <a:ext cx="2435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79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37 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945520" y="4149720"/>
            <a:ext cx="2435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65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24 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042920" y="1044720"/>
            <a:ext cx="6624720" cy="56973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1476360" y="2205000"/>
            <a:ext cx="1368360" cy="94788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 txBox="1"/>
          <p:nvPr/>
        </p:nvSpPr>
        <p:spPr>
          <a:xfrm>
            <a:off x="3132000" y="117360"/>
            <a:ext cx="2016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减法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77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0" dur="770" fill="hold"/>
                                        <p:tgtEl>
                                          <p:spTgt spid="11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2" dur="77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4" dur="77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000"/>
                            </p:stCondLst>
                            <p:childTnLst>
                              <p:par>
                                <p:cTn id="64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" name=""/>
          <p:cNvGrpSpPr/>
          <p:nvPr/>
        </p:nvGrpSpPr>
        <p:grpSpPr>
          <a:xfrm>
            <a:off x="7134120" y="3357720"/>
            <a:ext cx="2009880" cy="3240000"/>
            <a:chOff x="7134120" y="3357720"/>
            <a:chExt cx="2009880" cy="3240000"/>
          </a:xfrm>
        </p:grpSpPr>
        <p:pic>
          <p:nvPicPr>
            <p:cNvPr id="118" name="" descr=""/>
            <p:cNvPicPr/>
            <p:nvPr/>
          </p:nvPicPr>
          <p:blipFill>
            <a:blip r:embed="rId1"/>
            <a:stretch/>
          </p:blipFill>
          <p:spPr>
            <a:xfrm>
              <a:off x="7134120" y="3933720"/>
              <a:ext cx="1774800" cy="266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" descr=""/>
            <p:cNvPicPr/>
            <p:nvPr/>
          </p:nvPicPr>
          <p:blipFill>
            <a:blip r:embed="rId2"/>
            <a:stretch/>
          </p:blipFill>
          <p:spPr>
            <a:xfrm>
              <a:off x="8458200" y="3357720"/>
              <a:ext cx="685800" cy="685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0" name=""/>
          <p:cNvGrpSpPr/>
          <p:nvPr/>
        </p:nvGrpSpPr>
        <p:grpSpPr>
          <a:xfrm>
            <a:off x="250920" y="333360"/>
            <a:ext cx="3306600" cy="2844720"/>
            <a:chOff x="250920" y="333360"/>
            <a:chExt cx="3306600" cy="2844720"/>
          </a:xfrm>
        </p:grpSpPr>
        <p:pic>
          <p:nvPicPr>
            <p:cNvPr id="121" name="" descr=""/>
            <p:cNvPicPr/>
            <p:nvPr/>
          </p:nvPicPr>
          <p:blipFill>
            <a:blip r:embed="rId3"/>
            <a:stretch/>
          </p:blipFill>
          <p:spPr>
            <a:xfrm>
              <a:off x="250920" y="333360"/>
              <a:ext cx="3306600" cy="2844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" name="" descr=""/>
            <p:cNvPicPr/>
            <p:nvPr/>
          </p:nvPicPr>
          <p:blipFill>
            <a:blip r:embed="rId4"/>
            <a:stretch/>
          </p:blipFill>
          <p:spPr>
            <a:xfrm>
              <a:off x="322200" y="800280"/>
              <a:ext cx="682920" cy="473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3" name=""/>
          <p:cNvGrpSpPr/>
          <p:nvPr/>
        </p:nvGrpSpPr>
        <p:grpSpPr>
          <a:xfrm>
            <a:off x="3492360" y="981000"/>
            <a:ext cx="2449800" cy="1440000"/>
            <a:chOff x="3492360" y="981000"/>
            <a:chExt cx="2449800" cy="1440000"/>
          </a:xfrm>
        </p:grpSpPr>
        <p:pic>
          <p:nvPicPr>
            <p:cNvPr id="124" name="" descr=""/>
            <p:cNvPicPr/>
            <p:nvPr/>
          </p:nvPicPr>
          <p:blipFill>
            <a:blip r:embed="rId5"/>
            <a:stretch/>
          </p:blipFill>
          <p:spPr>
            <a:xfrm>
              <a:off x="3492360" y="981000"/>
              <a:ext cx="1309680" cy="144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"/>
            <p:cNvSpPr/>
            <p:nvPr/>
          </p:nvSpPr>
          <p:spPr>
            <a:xfrm>
              <a:off x="4716360" y="1700280"/>
              <a:ext cx="1225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0000"/>
                  </a:solidFill>
                  <a:latin typeface="Arial"/>
                  <a:ea typeface="华文楷体"/>
                </a:rPr>
                <a:t>丽江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2195640" y="3933720"/>
            <a:ext cx="2522520" cy="1938240"/>
            <a:chOff x="2195640" y="3933720"/>
            <a:chExt cx="2522520" cy="1938240"/>
          </a:xfrm>
        </p:grpSpPr>
        <p:pic>
          <p:nvPicPr>
            <p:cNvPr id="127" name="" descr=""/>
            <p:cNvPicPr/>
            <p:nvPr/>
          </p:nvPicPr>
          <p:blipFill>
            <a:blip r:embed="rId6"/>
            <a:stretch/>
          </p:blipFill>
          <p:spPr>
            <a:xfrm>
              <a:off x="2195640" y="3933720"/>
              <a:ext cx="2305080" cy="152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"/>
            <p:cNvSpPr/>
            <p:nvPr/>
          </p:nvSpPr>
          <p:spPr>
            <a:xfrm>
              <a:off x="3492360" y="5229360"/>
              <a:ext cx="1225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0000"/>
                  </a:solidFill>
                  <a:latin typeface="Arial"/>
                  <a:ea typeface="华文楷体"/>
                </a:rPr>
                <a:t>大理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9" name="" descr=""/>
          <p:cNvPicPr/>
          <p:nvPr/>
        </p:nvPicPr>
        <p:blipFill>
          <a:blip r:embed="rId7"/>
          <a:stretch/>
        </p:blipFill>
        <p:spPr>
          <a:xfrm rot="11136000">
            <a:off x="3995280" y="2348640"/>
            <a:ext cx="343080" cy="35244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 rot="12292200">
            <a:off x="3707640" y="2636640"/>
            <a:ext cx="360360" cy="1008000"/>
          </a:xfrm>
          <a:prstGeom prst="downArrow">
            <a:avLst>
              <a:gd name="adj1" fmla="val 50000"/>
              <a:gd name="adj2" fmla="val 69930"/>
            </a:avLst>
          </a:prstGeom>
          <a:gradFill rotWithShape="0">
            <a:gsLst>
              <a:gs pos="0">
                <a:srgbClr val="ffffff"/>
              </a:gs>
              <a:gs pos="100000">
                <a:srgbClr val="00cc00"/>
              </a:gs>
            </a:gsLst>
            <a:lin ang="1470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8"/>
          <a:stretch/>
        </p:blipFill>
        <p:spPr>
          <a:xfrm rot="11184600">
            <a:off x="3419280" y="3644280"/>
            <a:ext cx="342720" cy="35244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 rot="7914000">
            <a:off x="4390200" y="3757320"/>
            <a:ext cx="505080" cy="1825560"/>
          </a:xfrm>
          <a:prstGeom prst="downArrow">
            <a:avLst>
              <a:gd name="adj1" fmla="val 50000"/>
              <a:gd name="adj2" fmla="val 90360"/>
            </a:avLst>
          </a:prstGeom>
          <a:gradFill rotWithShape="0">
            <a:gsLst>
              <a:gs pos="0">
                <a:srgbClr val="ffffff"/>
              </a:gs>
              <a:gs pos="100000">
                <a:srgbClr val="00cc00"/>
              </a:gs>
            </a:gsLst>
            <a:lin ang="1908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5435640" y="4508640"/>
            <a:ext cx="1865160" cy="2160360"/>
            <a:chOff x="5435640" y="4508640"/>
            <a:chExt cx="1865160" cy="2160360"/>
          </a:xfrm>
        </p:grpSpPr>
        <p:pic>
          <p:nvPicPr>
            <p:cNvPr id="134" name="" descr=""/>
            <p:cNvPicPr/>
            <p:nvPr/>
          </p:nvPicPr>
          <p:blipFill>
            <a:blip r:embed="rId9"/>
            <a:stretch/>
          </p:blipFill>
          <p:spPr>
            <a:xfrm>
              <a:off x="5435640" y="5229360"/>
              <a:ext cx="342720" cy="352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5" name=""/>
            <p:cNvGrpSpPr/>
            <p:nvPr/>
          </p:nvGrpSpPr>
          <p:grpSpPr>
            <a:xfrm>
              <a:off x="5796000" y="4508640"/>
              <a:ext cx="1504800" cy="2160360"/>
              <a:chOff x="5796000" y="4508640"/>
              <a:chExt cx="1504800" cy="2160360"/>
            </a:xfrm>
          </p:grpSpPr>
          <p:pic>
            <p:nvPicPr>
              <p:cNvPr id="136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5796000" y="5013360"/>
                <a:ext cx="1504800" cy="1655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7" name=""/>
              <p:cNvSpPr/>
              <p:nvPr/>
            </p:nvSpPr>
            <p:spPr>
              <a:xfrm>
                <a:off x="5940360" y="4508640"/>
                <a:ext cx="12254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ff0000"/>
                    </a:solidFill>
                    <a:latin typeface="Arial"/>
                    <a:ea typeface="华文楷体"/>
                  </a:rPr>
                  <a:t>昆明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8" name=""/>
          <p:cNvSpPr/>
          <p:nvPr/>
        </p:nvSpPr>
        <p:spPr>
          <a:xfrm>
            <a:off x="5508720" y="1916280"/>
            <a:ext cx="2950920" cy="1655640"/>
          </a:xfrm>
          <a:prstGeom prst="cloudCallout">
            <a:avLst>
              <a:gd name="adj1" fmla="val 40157"/>
              <a:gd name="adj2" fmla="val 73490"/>
            </a:avLst>
          </a:prstGeom>
          <a:solidFill>
            <a:srgbClr val="ffff00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大理到丽江有多远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508720" y="1917720"/>
            <a:ext cx="2950920" cy="1655640"/>
          </a:xfrm>
          <a:prstGeom prst="cloudCallout">
            <a:avLst>
              <a:gd name="adj1" fmla="val 40157"/>
              <a:gd name="adj2" fmla="val 73490"/>
            </a:avLst>
          </a:prstGeom>
          <a:solidFill>
            <a:srgbClr val="ffff00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已知从昆明到丽江有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517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千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rot="1765800">
            <a:off x="4355280" y="4005000"/>
            <a:ext cx="1336680" cy="4597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348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千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132000" y="117360"/>
            <a:ext cx="2016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减法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5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2000"/>
                            </p:stCondLst>
                            <p:childTnLst>
                              <p:par>
                                <p:cTn id="90" nodeType="after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9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9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9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9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2500"/>
                            </p:stCondLst>
                            <p:childTnLst>
                              <p:par>
                                <p:cTn id="96" nodeType="after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9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9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9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10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3000"/>
                            </p:stCondLst>
                            <p:childTnLst>
                              <p:par>
                                <p:cTn id="102" nodeType="after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0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0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0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10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5" dur="50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7272360" y="647640"/>
            <a:ext cx="1871640" cy="250020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4429080" y="476280"/>
            <a:ext cx="3888000" cy="1079640"/>
          </a:xfrm>
          <a:prstGeom prst="cloudCallout">
            <a:avLst>
              <a:gd name="adj1" fmla="val 33787"/>
              <a:gd name="adj2" fmla="val 68384"/>
            </a:avLst>
          </a:prstGeom>
          <a:solidFill>
            <a:srgbClr val="ffff00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华文楷体"/>
                <a:ea typeface="华文楷体"/>
              </a:rPr>
              <a:t>估计一下，大理到丽江的距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4067280" y="2205000"/>
            <a:ext cx="682560" cy="473040"/>
          </a:xfrm>
          <a:prstGeom prst="rect">
            <a:avLst/>
          </a:prstGeom>
          <a:ln w="0">
            <a:noFill/>
          </a:ln>
        </p:spPr>
      </p:pic>
      <p:grpSp>
        <p:nvGrpSpPr>
          <p:cNvPr id="145" name=""/>
          <p:cNvGrpSpPr/>
          <p:nvPr/>
        </p:nvGrpSpPr>
        <p:grpSpPr>
          <a:xfrm>
            <a:off x="0" y="1268280"/>
            <a:ext cx="7093080" cy="1511280"/>
            <a:chOff x="0" y="1268280"/>
            <a:chExt cx="7093080" cy="1511280"/>
          </a:xfrm>
        </p:grpSpPr>
        <p:sp>
          <p:nvSpPr>
            <p:cNvPr id="146" name=""/>
            <p:cNvSpPr/>
            <p:nvPr/>
          </p:nvSpPr>
          <p:spPr>
            <a:xfrm rot="5400000">
              <a:off x="5544360" y="1087560"/>
              <a:ext cx="216000" cy="1440000"/>
            </a:xfrm>
            <a:custGeom>
              <a:avLst/>
              <a:gdLst>
                <a:gd name="textAreaLeft" fmla="*/ 137880 w 216000"/>
                <a:gd name="textAreaRight" fmla="*/ 216360 w 216000"/>
                <a:gd name="textAreaTop" fmla="*/ 37440 h 1440000"/>
                <a:gd name="textAreaBottom" fmla="*/ 1402560 h 1440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" name=""/>
            <p:cNvGrpSpPr/>
            <p:nvPr/>
          </p:nvGrpSpPr>
          <p:grpSpPr>
            <a:xfrm>
              <a:off x="0" y="1268280"/>
              <a:ext cx="7093080" cy="1511280"/>
              <a:chOff x="0" y="1268280"/>
              <a:chExt cx="7093080" cy="1511280"/>
            </a:xfrm>
          </p:grpSpPr>
          <p:sp>
            <p:nvSpPr>
              <p:cNvPr id="148" name=""/>
              <p:cNvSpPr/>
              <p:nvPr/>
            </p:nvSpPr>
            <p:spPr>
              <a:xfrm>
                <a:off x="0" y="1844280"/>
                <a:ext cx="12254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ff0000"/>
                    </a:solidFill>
                    <a:latin typeface="Arial"/>
                    <a:ea typeface="华文楷体"/>
                  </a:rPr>
                  <a:t>昆明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9" name=""/>
              <p:cNvGrpSpPr/>
              <p:nvPr/>
            </p:nvGrpSpPr>
            <p:grpSpPr>
              <a:xfrm>
                <a:off x="468360" y="2420640"/>
                <a:ext cx="6408720" cy="358920"/>
                <a:chOff x="468360" y="2420640"/>
                <a:chExt cx="6408720" cy="358920"/>
              </a:xfrm>
            </p:grpSpPr>
            <p:sp>
              <p:nvSpPr>
                <p:cNvPr id="150" name=""/>
                <p:cNvSpPr/>
                <p:nvPr/>
              </p:nvSpPr>
              <p:spPr>
                <a:xfrm>
                  <a:off x="468360" y="2779560"/>
                  <a:ext cx="6408720" cy="0"/>
                </a:xfrm>
                <a:prstGeom prst="line">
                  <a:avLst/>
                </a:prstGeom>
                <a:ln w="57240">
                  <a:solidFill>
                    <a:srgbClr val="0000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468360" y="2420640"/>
                  <a:ext cx="0" cy="3589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4932360" y="2420640"/>
                  <a:ext cx="0" cy="3589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6372360" y="2420640"/>
                  <a:ext cx="0" cy="3589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4" name=""/>
              <p:cNvSpPr/>
              <p:nvPr/>
            </p:nvSpPr>
            <p:spPr>
              <a:xfrm>
                <a:off x="4498920" y="1915920"/>
                <a:ext cx="1225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Arial"/>
                    <a:ea typeface="华文楷体"/>
                  </a:rPr>
                  <a:t>大理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5867280" y="1962000"/>
                <a:ext cx="122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Arial"/>
                    <a:ea typeface="华文楷体"/>
                  </a:rPr>
                  <a:t>丽江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5292720" y="1268280"/>
                <a:ext cx="1225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Arial"/>
                    <a:ea typeface="华文楷体"/>
                  </a:rPr>
                  <a:t>？ 千米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7" name=""/>
          <p:cNvGrpSpPr/>
          <p:nvPr/>
        </p:nvGrpSpPr>
        <p:grpSpPr>
          <a:xfrm>
            <a:off x="258480" y="3645000"/>
            <a:ext cx="1144440" cy="2302920"/>
            <a:chOff x="258480" y="3645000"/>
            <a:chExt cx="1144440" cy="2302920"/>
          </a:xfrm>
        </p:grpSpPr>
        <p:pic>
          <p:nvPicPr>
            <p:cNvPr id="158" name="" descr=""/>
            <p:cNvPicPr/>
            <p:nvPr/>
          </p:nvPicPr>
          <p:blipFill>
            <a:blip r:embed="rId3"/>
            <a:stretch/>
          </p:blipFill>
          <p:spPr>
            <a:xfrm flipH="1">
              <a:off x="258480" y="4054320"/>
              <a:ext cx="1144440" cy="1893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9" name="" descr=""/>
            <p:cNvPicPr/>
            <p:nvPr/>
          </p:nvPicPr>
          <p:blipFill>
            <a:blip r:embed="rId4"/>
            <a:stretch/>
          </p:blipFill>
          <p:spPr>
            <a:xfrm>
              <a:off x="287280" y="3645000"/>
              <a:ext cx="576360" cy="487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0" name=""/>
          <p:cNvSpPr/>
          <p:nvPr/>
        </p:nvSpPr>
        <p:spPr>
          <a:xfrm>
            <a:off x="2050920" y="5119560"/>
            <a:ext cx="230508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 u="sng">
                <a:solidFill>
                  <a:srgbClr val="0000ff"/>
                </a:solidFill>
                <a:uFillTx/>
                <a:latin typeface="黑体"/>
                <a:ea typeface="黑体"/>
              </a:rPr>
              <a:t>－ </a:t>
            </a:r>
            <a:r>
              <a:rPr b="1" lang="zh-CN" sz="3200" spc="-1" strike="noStrike" u="sng">
                <a:solidFill>
                  <a:srgbClr val="0000ff"/>
                </a:solidFill>
                <a:uFillTx/>
                <a:latin typeface="黑体"/>
                <a:ea typeface="黑体"/>
              </a:rPr>
              <a:t>3 4 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    □□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2914560" y="4437000"/>
            <a:ext cx="1297080" cy="616320"/>
            <a:chOff x="2914560" y="4437000"/>
            <a:chExt cx="1297080" cy="616320"/>
          </a:xfrm>
        </p:grpSpPr>
        <p:sp>
          <p:nvSpPr>
            <p:cNvPr id="162" name=""/>
            <p:cNvSpPr/>
            <p:nvPr/>
          </p:nvSpPr>
          <p:spPr>
            <a:xfrm>
              <a:off x="2914560" y="4471920"/>
              <a:ext cx="1297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5 1 7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48000" y="4437000"/>
              <a:ext cx="576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0000"/>
                  </a:solidFill>
                  <a:latin typeface="Arial"/>
                </a:rPr>
                <a:t> ●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" name=""/>
          <p:cNvSpPr/>
          <p:nvPr/>
        </p:nvSpPr>
        <p:spPr>
          <a:xfrm>
            <a:off x="1116000" y="3708360"/>
            <a:ext cx="30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黑体"/>
                <a:ea typeface="黑体"/>
              </a:rPr>
              <a:t>由此我们得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51280" y="3645000"/>
            <a:ext cx="52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黑体"/>
                <a:ea typeface="黑体"/>
              </a:rPr>
              <a:t>517</a:t>
            </a:r>
            <a:r>
              <a:rPr b="1" lang="zh-CN" sz="3200" spc="-1" strike="noStrike">
                <a:solidFill>
                  <a:srgbClr val="990000"/>
                </a:solidFill>
                <a:latin typeface="黑体"/>
                <a:ea typeface="黑体"/>
              </a:rPr>
              <a:t>－</a:t>
            </a:r>
            <a:r>
              <a:rPr b="1" lang="zh-CN" sz="3200" spc="-1" strike="noStrike">
                <a:solidFill>
                  <a:srgbClr val="990000"/>
                </a:solidFill>
                <a:latin typeface="黑体"/>
                <a:ea typeface="黑体"/>
              </a:rPr>
              <a:t>348=_____</a:t>
            </a:r>
            <a:r>
              <a:rPr b="1" lang="zh-CN" sz="3200" spc="-1" strike="noStrike">
                <a:solidFill>
                  <a:srgbClr val="990000"/>
                </a:solidFill>
                <a:latin typeface="黑体"/>
                <a:ea typeface="黑体"/>
              </a:rPr>
              <a:t>（千米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867280" y="3645000"/>
            <a:ext cx="93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16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5657760"/>
            <a:ext cx="129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1 6</a:t>
            </a: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 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468360" y="1353960"/>
            <a:ext cx="5904000" cy="2371680"/>
            <a:chOff x="468360" y="1353960"/>
            <a:chExt cx="5904000" cy="2371680"/>
          </a:xfrm>
        </p:grpSpPr>
        <p:grpSp>
          <p:nvGrpSpPr>
            <p:cNvPr id="169" name=""/>
            <p:cNvGrpSpPr/>
            <p:nvPr/>
          </p:nvGrpSpPr>
          <p:grpSpPr>
            <a:xfrm>
              <a:off x="468360" y="2852640"/>
              <a:ext cx="5904000" cy="873000"/>
              <a:chOff x="468360" y="2852640"/>
              <a:chExt cx="5904000" cy="873000"/>
            </a:xfrm>
          </p:grpSpPr>
          <p:sp>
            <p:nvSpPr>
              <p:cNvPr id="170" name=""/>
              <p:cNvSpPr/>
              <p:nvPr/>
            </p:nvSpPr>
            <p:spPr>
              <a:xfrm rot="16200000">
                <a:off x="3276720" y="44280"/>
                <a:ext cx="287280" cy="5904000"/>
              </a:xfrm>
              <a:custGeom>
                <a:avLst/>
                <a:gdLst>
                  <a:gd name="textAreaLeft" fmla="*/ 183600 w 287280"/>
                  <a:gd name="textAreaRight" fmla="*/ 287640 w 287280"/>
                  <a:gd name="textAreaTop" fmla="*/ 91800 h 5904000"/>
                  <a:gd name="textAreaBottom" fmla="*/ 5812200 h 5904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538"/>
                      <a:pt x="10800" y="1075"/>
                    </a:cubicBezTo>
                    <a:lnTo>
                      <a:pt x="10800" y="9725"/>
                    </a:lnTo>
                    <a:cubicBezTo>
                      <a:pt x="10800" y="10263"/>
                      <a:pt x="5400" y="10800"/>
                      <a:pt x="0" y="10800"/>
                    </a:cubicBezTo>
                    <a:cubicBezTo>
                      <a:pt x="5400" y="10800"/>
                      <a:pt x="10800" y="11338"/>
                      <a:pt x="10800" y="11875"/>
                    </a:cubicBezTo>
                    <a:lnTo>
                      <a:pt x="10800" y="20525"/>
                    </a:lnTo>
                    <a:cubicBezTo>
                      <a:pt x="10800" y="21063"/>
                      <a:pt x="16200" y="21600"/>
                      <a:pt x="2160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2708640" y="3083040"/>
                <a:ext cx="1602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000000"/>
                    </a:solidFill>
                    <a:latin typeface="Arial"/>
                  </a:rPr>
                  <a:t>517</a:t>
                </a:r>
                <a:r>
                  <a:rPr b="1" lang="zh-CN" sz="3600" spc="-1" strike="noStrike">
                    <a:solidFill>
                      <a:srgbClr val="000000"/>
                    </a:solidFill>
                    <a:latin typeface="Arial"/>
                  </a:rPr>
                  <a:t>千米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2" name=""/>
            <p:cNvSpPr/>
            <p:nvPr/>
          </p:nvSpPr>
          <p:spPr>
            <a:xfrm rot="5400000">
              <a:off x="2518920" y="-63360"/>
              <a:ext cx="288720" cy="4248360"/>
            </a:xfrm>
            <a:custGeom>
              <a:avLst/>
              <a:gdLst>
                <a:gd name="textAreaLeft" fmla="*/ 184680 w 288720"/>
                <a:gd name="textAreaRight" fmla="*/ 289080 w 288720"/>
                <a:gd name="textAreaTop" fmla="*/ 110520 h 4248360"/>
                <a:gd name="textAreaBottom" fmla="*/ 4137840 h 4248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989360" y="1353960"/>
              <a:ext cx="1602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348</a:t>
              </a: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千米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000"/>
                            </p:stCondLst>
                            <p:childTnLst>
                              <p:par>
                                <p:cTn id="164" nodeType="after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5" dur="10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7" dur="10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2000"/>
                            </p:stCondLst>
                            <p:childTnLst>
                              <p:par>
                                <p:cTn id="170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7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2160720" y="333360"/>
            <a:ext cx="698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Garamond"/>
                <a:ea typeface="黑体"/>
              </a:rPr>
              <a:t>现在我们把</a:t>
            </a:r>
            <a:r>
              <a:rPr b="1" lang="zh-CN" sz="3200" spc="-1" strike="noStrike">
                <a:solidFill>
                  <a:srgbClr val="ff0000"/>
                </a:solidFill>
                <a:latin typeface="Garamond"/>
                <a:ea typeface="黑体"/>
              </a:rPr>
              <a:t>517</a:t>
            </a:r>
            <a:r>
              <a:rPr b="1" lang="zh-CN" sz="3200" spc="-1" strike="noStrike">
                <a:solidFill>
                  <a:srgbClr val="ff0000"/>
                </a:solidFill>
                <a:latin typeface="Garamond"/>
                <a:ea typeface="黑体"/>
              </a:rPr>
              <a:t>改成</a:t>
            </a:r>
            <a:r>
              <a:rPr b="1" lang="zh-CN" sz="3200" spc="-1" strike="noStrike">
                <a:solidFill>
                  <a:srgbClr val="ff0000"/>
                </a:solidFill>
                <a:latin typeface="Garamond"/>
                <a:ea typeface="黑体"/>
              </a:rPr>
              <a:t>507</a:t>
            </a:r>
            <a:r>
              <a:rPr b="1" lang="zh-CN" sz="3200" spc="-1" strike="noStrike">
                <a:solidFill>
                  <a:srgbClr val="ff0000"/>
                </a:solidFill>
                <a:latin typeface="Garamond"/>
                <a:ea typeface="黑体"/>
              </a:rPr>
              <a:t>，想一想，计算上有什么不同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>
            <a:lum contrast="36000"/>
          </a:blip>
          <a:stretch/>
        </p:blipFill>
        <p:spPr>
          <a:xfrm>
            <a:off x="250920" y="0"/>
            <a:ext cx="1985760" cy="270036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7272360" y="4076640"/>
            <a:ext cx="1871640" cy="250020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4213080" y="2060640"/>
            <a:ext cx="4535640" cy="1869840"/>
          </a:xfrm>
          <a:prstGeom prst="wedgeRoundRectCallout">
            <a:avLst>
              <a:gd name="adj1" fmla="val 33513"/>
              <a:gd name="adj2" fmla="val 64768"/>
              <a:gd name="adj3" fmla="val 16667"/>
            </a:avLst>
          </a:prstGeom>
          <a:solidFill>
            <a:srgbClr val="ffff00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要从十位上退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，十位上是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0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，怎么办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11640" y="2060640"/>
            <a:ext cx="4535640" cy="1871640"/>
          </a:xfrm>
          <a:prstGeom prst="wedgeRoundRectCallout">
            <a:avLst>
              <a:gd name="adj1" fmla="val 32953"/>
              <a:gd name="adj2" fmla="val 64078"/>
              <a:gd name="adj3" fmla="val 16667"/>
            </a:avLst>
          </a:prstGeom>
          <a:solidFill>
            <a:srgbClr val="ffff00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应该再从百位上的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上退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，再从十位上退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给个位，这样十位上还剩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9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，就能继续减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050920" y="3103560"/>
            <a:ext cx="230508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 u="sng">
                <a:solidFill>
                  <a:srgbClr val="0000ff"/>
                </a:solidFill>
                <a:uFillTx/>
                <a:latin typeface="黑体"/>
                <a:ea typeface="黑体"/>
              </a:rPr>
              <a:t>－ </a:t>
            </a:r>
            <a:r>
              <a:rPr b="1" lang="zh-CN" sz="3200" spc="-1" strike="noStrike" u="sng">
                <a:solidFill>
                  <a:srgbClr val="0000ff"/>
                </a:solidFill>
                <a:uFillTx/>
                <a:latin typeface="黑体"/>
                <a:ea typeface="黑体"/>
              </a:rPr>
              <a:t>3 4 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   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□□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2914560" y="2421000"/>
            <a:ext cx="1297080" cy="615960"/>
            <a:chOff x="2914560" y="2421000"/>
            <a:chExt cx="1297080" cy="615960"/>
          </a:xfrm>
        </p:grpSpPr>
        <p:sp>
          <p:nvSpPr>
            <p:cNvPr id="181" name=""/>
            <p:cNvSpPr/>
            <p:nvPr/>
          </p:nvSpPr>
          <p:spPr>
            <a:xfrm>
              <a:off x="2914560" y="2455560"/>
              <a:ext cx="1297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5 0 7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2421000"/>
              <a:ext cx="576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0000"/>
                  </a:solidFill>
                  <a:latin typeface="Arial"/>
                </a:rPr>
                <a:t> ●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2770200" y="3645000"/>
            <a:ext cx="129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1 5</a:t>
            </a: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 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2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5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4" dur="10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6" dur="10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000"/>
                            </p:stCondLst>
                            <p:childTnLst>
                              <p:par>
                                <p:cTn id="239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41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2195640" y="115920"/>
            <a:ext cx="4392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Garamond"/>
                <a:ea typeface="黑体"/>
              </a:rPr>
              <a:t>接下来我们看一道题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Garamond"/>
                <a:ea typeface="黑体"/>
              </a:rPr>
              <a:t>怎样计算</a:t>
            </a:r>
            <a:r>
              <a:rPr b="1" lang="zh-CN" sz="3200" spc="-1" strike="noStrike">
                <a:solidFill>
                  <a:srgbClr val="ff0000"/>
                </a:solidFill>
                <a:latin typeface="Garamond"/>
                <a:ea typeface="黑体"/>
              </a:rPr>
              <a:t>500</a:t>
            </a:r>
            <a:r>
              <a:rPr b="1" lang="zh-CN" sz="3200" spc="-1" strike="noStrike">
                <a:solidFill>
                  <a:srgbClr val="ff0000"/>
                </a:solidFill>
                <a:latin typeface="Garamond"/>
                <a:ea typeface="黑体"/>
              </a:rPr>
              <a:t>－</a:t>
            </a:r>
            <a:r>
              <a:rPr b="1" lang="zh-CN" sz="3200" spc="-1" strike="noStrike">
                <a:solidFill>
                  <a:srgbClr val="ff0000"/>
                </a:solidFill>
                <a:latin typeface="Garamond"/>
                <a:ea typeface="黑体"/>
              </a:rPr>
              <a:t>185</a:t>
            </a:r>
            <a:r>
              <a:rPr b="1" lang="zh-CN" sz="3200" spc="-1" strike="noStrike">
                <a:solidFill>
                  <a:srgbClr val="ff0000"/>
                </a:solidFill>
                <a:latin typeface="Garamond"/>
                <a:ea typeface="黑体"/>
              </a:rPr>
              <a:t>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1258920" y="2492280"/>
            <a:ext cx="5113440" cy="288144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2">
            <a:lum contrast="36000"/>
          </a:blip>
          <a:stretch/>
        </p:blipFill>
        <p:spPr>
          <a:xfrm>
            <a:off x="-36360" y="-27000"/>
            <a:ext cx="1985760" cy="270036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0" y="3068640"/>
            <a:ext cx="2016000" cy="577800"/>
          </a:xfrm>
          <a:prstGeom prst="wedgeRoundRectCallout">
            <a:avLst>
              <a:gd name="adj1" fmla="val 46930"/>
              <a:gd name="adj2" fmla="val 86814"/>
              <a:gd name="adj3" fmla="val 16667"/>
            </a:avLst>
          </a:prstGeom>
          <a:solidFill>
            <a:srgbClr val="ffff00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可以用竖式计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835280" y="1413000"/>
            <a:ext cx="3673440" cy="1225440"/>
          </a:xfrm>
          <a:prstGeom prst="wedgeRoundRectCallout">
            <a:avLst>
              <a:gd name="adj1" fmla="val 1254"/>
              <a:gd name="adj2" fmla="val 67356"/>
              <a:gd name="adj3" fmla="val 16667"/>
            </a:avLst>
          </a:prstGeom>
          <a:solidFill>
            <a:srgbClr val="ffff00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185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可以分成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100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和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85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500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－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100=400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400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－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85=315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724360" y="1916280"/>
            <a:ext cx="2843280" cy="1225440"/>
          </a:xfrm>
          <a:prstGeom prst="wedgeRoundRectCallout">
            <a:avLst>
              <a:gd name="adj1" fmla="val -38384"/>
              <a:gd name="adj2" fmla="val 77203"/>
              <a:gd name="adj3" fmla="val 16667"/>
            </a:avLst>
          </a:prstGeom>
          <a:solidFill>
            <a:srgbClr val="ffff00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185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＋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15=200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500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－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200=300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300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＋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15=315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3"/>
          <a:stretch/>
        </p:blipFill>
        <p:spPr>
          <a:xfrm>
            <a:off x="7920000" y="4941720"/>
            <a:ext cx="1224000" cy="163512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6300720" y="3429000"/>
            <a:ext cx="2232000" cy="1657440"/>
          </a:xfrm>
          <a:prstGeom prst="cloudCallout">
            <a:avLst>
              <a:gd name="adj1" fmla="val 39046"/>
              <a:gd name="adj2" fmla="val 89078"/>
            </a:avLst>
          </a:prstGeom>
          <a:solidFill>
            <a:srgbClr val="ffff00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你还能想出别的的方法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0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2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500"/>
                            </p:stCondLst>
                            <p:childTnLst>
                              <p:par>
                                <p:cTn id="28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2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ff0000"/>
                </a:solidFill>
                <a:latin typeface="Arial"/>
                <a:ea typeface="华文楷体"/>
              </a:rPr>
              <a:t>好了就到这里吧！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2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Arial"/>
                <a:ea typeface="华文楷体"/>
              </a:rPr>
              <a:t>剩下的时间让我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2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Arial"/>
                <a:ea typeface="华文楷体"/>
              </a:rPr>
              <a:t> </a:t>
            </a:r>
            <a:r>
              <a:rPr b="1" lang="zh-CN" sz="3600" spc="-1" strike="noStrike">
                <a:solidFill>
                  <a:srgbClr val="ff6600"/>
                </a:solidFill>
                <a:latin typeface="Arial"/>
                <a:ea typeface="华文楷体"/>
              </a:rPr>
              <a:t>一起去“看看我的收获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0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9T08:00:12Z</dcterms:created>
  <dc:creator>chenjun</dc:creator>
  <dc:description/>
  <dc:language>en-US</dc:language>
  <cp:lastModifiedBy>lzj</cp:lastModifiedBy>
  <dcterms:modified xsi:type="dcterms:W3CDTF">2008-11-28T08:45:10Z</dcterms:modified>
  <cp:revision>9</cp:revision>
  <dc:subject/>
  <dc:title>  万以内的减法</dc:title>
</cp:coreProperties>
</file>