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ashreg.wav" ContentType="audio/x-wav"/>
  <Override PartName="/ppt/media/image4.jpeg" ContentType="image/jpeg"/>
  <Override PartName="/ppt/media/chimes.wav" ContentType="audio/x-wav"/>
  <Override PartName="/ppt/media/image6.jpeg" ContentType="image/jpeg"/>
  <Override PartName="/ppt/media/type.wav" ContentType="audio/x-wav"/>
  <Override PartName="/ppt/media/image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3F2-2634-4958-AAAE-3FE405DA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C17-ADAB-4F73-9020-30174C98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427-39B5-4AEC-8253-8132BCA8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2F8-ED83-46FB-A3E9-6098B767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171-6EC6-40B1-949E-0B8CA7D9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062-C624-4E36-BA26-80BEB46C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47A-FDA2-446D-8502-838DA84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1A4B-1D35-4CAA-9BDA-9298CC5A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792C-7D1A-4B3A-A4C2-708ED1A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BEF-1682-47CC-B7DF-2722164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3073-CFC3-438F-8DBF-ACB277C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604-F638-46E9-B26D-A4D33F8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90CD-B01A-45E4-AA6D-F83BFC7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4A4-D069-4A45-A55F-802288A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56F-2112-414E-99C8-3BCA2FE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A791-ED87-45F3-A1BD-0BE3BCCE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7E87-6324-4F98-A2A8-60F5BD7C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6FD-1A95-4FB1-BECF-096AAB0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E50-39E5-4135-99E6-055C218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2EE-AC60-42BA-8A0D-72CB06D5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CFC-8CEF-463B-919A-40C5866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5A7-7A46-4E0B-BFAA-062F5E1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B4E-F4F8-4277-9E4E-4A9E509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090-4DFF-47B3-97D8-A58E773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9902-063D-4C8F-A882-BE4D6218F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56C7-C104-4CC7-8D43-6E867FE42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6%F8%C7%F2&amp;in=441&amp;cl=2&amp;cm=1&amp;sc=0&amp;lm=-1&amp;pn=440&amp;rn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C6%F8%C7%F2&amp;in=308&amp;cl=2&amp;cm=1&amp;sc=0&amp;lm=-1&amp;pn=307&amp;rn=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0&amp;tn=baiduimagedetail&amp;word=%C6%F8%C7%F2&amp;in=310&amp;cl=2&amp;cm=1&amp;sc=0&amp;lm=-1&amp;pn=309&amp;rn=1" TargetMode="External"/><Relationship Id="rId6" Type="http://schemas.openxmlformats.org/officeDocument/2006/relationships/image" Target="../media/image5.jpeg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D4%D0&#1075;%B5&amp;in=38&amp;cl=2&amp;cm=1&amp;sc=0&amp;lm=-1&amp;pn=37&amp;r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.baidu.com/i?ct=503316480&amp;z=0&amp;tn=baiduimagedetail&amp;word=%D7%D4%D0&#1075;%B5&amp;in=39&amp;cl=2&amp;cm=1&amp;sc=0&amp;lm=-1&amp;pn=38&amp;rn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.baidu.com/i?ct=503316480&amp;z=0&amp;tn=baiduimagedetail&amp;word=%D7%D4%D0&#1075;%B5&amp;in=45&amp;cl=2&amp;cm=1&amp;sc=0&amp;lm=-1&amp;pn=44&amp;rn=1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38080" y="1905120"/>
            <a:ext cx="7848720" cy="27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万以内数的加、减法</a:t>
            </a:r>
            <a:endParaRPr b="0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54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教新课标版三年级数学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200" y="398520"/>
            <a:ext cx="668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小红家离学校有</a:t>
            </a: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360</a:t>
            </a: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米，小东家离学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有</a:t>
            </a: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500</a:t>
            </a:r>
            <a:r>
              <a:rPr b="0" lang="zh-CN" sz="4000" spc="-1" strike="noStrike">
                <a:solidFill>
                  <a:srgbClr val="0000ff"/>
                </a:solidFill>
                <a:latin typeface="方正姚体"/>
                <a:ea typeface="方正姚体"/>
              </a:rPr>
              <a:t>米。小红家离小东家可能有多少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6765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856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7876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4108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39076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162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162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162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1240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88620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3657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657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9400" y="34290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00-360=14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1704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4600" y="31240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978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6483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81080" y="4952520"/>
            <a:ext cx="14479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4952880"/>
            <a:ext cx="25146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3596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07760" y="609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30840" y="541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715000"/>
            <a:ext cx="396252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3314520" y="495360"/>
            <a:ext cx="152640" cy="4038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5"/>
                </a:lnTo>
                <a:cubicBezTo>
                  <a:pt x="10800" y="9735"/>
                  <a:pt x="5400" y="10635"/>
                  <a:pt x="0" y="10635"/>
                </a:cubicBezTo>
                <a:cubicBezTo>
                  <a:pt x="5400" y="10635"/>
                  <a:pt x="10800" y="11535"/>
                  <a:pt x="10800" y="124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596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？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1904760" y="342864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38"/>
                </a:lnTo>
                <a:cubicBezTo>
                  <a:pt x="10800" y="10238"/>
                  <a:pt x="5400" y="11138"/>
                  <a:pt x="0" y="11138"/>
                </a:cubicBezTo>
                <a:cubicBezTo>
                  <a:pt x="5400" y="11138"/>
                  <a:pt x="10800" y="12038"/>
                  <a:pt x="10800" y="129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1296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436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？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666200">
            <a:off x="3825720" y="4251240"/>
            <a:ext cx="272880" cy="3809880"/>
          </a:xfrm>
          <a:custGeom>
            <a:avLst/>
            <a:gdLst>
              <a:gd name="textAreaLeft" fmla="*/ 174240 w 272880"/>
              <a:gd name="textAreaRight" fmla="*/ 272880 w 2728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94"/>
                </a:lnTo>
                <a:cubicBezTo>
                  <a:pt x="10800" y="9494"/>
                  <a:pt x="5400" y="10394"/>
                  <a:pt x="0" y="10394"/>
                </a:cubicBezTo>
                <a:cubicBezTo>
                  <a:pt x="5400" y="10394"/>
                  <a:pt x="10800" y="11294"/>
                  <a:pt x="10800" y="121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35960" y="601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？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34560" y="5181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米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86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米之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6880" y="6629400"/>
            <a:ext cx="18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0224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1304"/>
                </a:solidFill>
                <a:latin typeface="Times New Roman"/>
              </a:rPr>
              <a:t>小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99080" y="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你会提数学问题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762120"/>
            <a:ext cx="954000" cy="1447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83960" y="914400"/>
            <a:ext cx="261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450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个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flipH="1" rot="10800000">
            <a:off x="5181480" y="685800"/>
            <a:ext cx="892440" cy="1447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1676520"/>
            <a:ext cx="1027080" cy="1600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4956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比     多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50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个，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59880" y="2057400"/>
            <a:ext cx="334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比     少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150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152280" y="3435480"/>
            <a:ext cx="51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）绿气球有多少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51280" y="342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50-50=400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7560" y="434340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）红气球有多少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32440" y="434340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50+150=60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7080" y="5410080"/>
            <a:ext cx="13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一共有多少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3737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+400+600=14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0400" y="2590920"/>
            <a:ext cx="307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   3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4640" y="2774880"/>
            <a:ext cx="457200" cy="3812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87440" y="3308400"/>
            <a:ext cx="457200" cy="380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01840" y="3308400"/>
            <a:ext cx="457200" cy="380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82520" y="3765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92760" y="254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-  3     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 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30840" y="2774880"/>
            <a:ext cx="457200" cy="3812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64360" y="3308400"/>
            <a:ext cx="457200" cy="380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25920" y="37656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21560" y="3841920"/>
            <a:ext cx="457200" cy="380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7440" y="3156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79600" y="31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22400" y="262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99320" y="3689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65800" y="31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2640" y="262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71280" y="13716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□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下面藏着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90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考考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90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考考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8380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马虎在做一道加法题时，把第二个加数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5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成了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3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结果算出来的和是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6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你知道正确的得数是多少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4880" y="3886200"/>
            <a:ext cx="299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76-53 =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23+35=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答：正确的得数是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58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39680" y="3886200"/>
            <a:ext cx="29955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53-35=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Tahoma"/>
              </a:rPr>
              <a:t>76-18=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答：正确的得数是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58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2362320" cy="9144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考考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2760" y="228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找规律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3160" y="1600200"/>
            <a:ext cx="702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2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20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）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85   69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1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25   250   27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255  315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）（   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7800" y="1600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4680" y="1600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30800" y="2666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360" y="2666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3800" y="3733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9960" y="3733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5360" y="4876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0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88200" y="4876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9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770200" y="228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找规律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286000" cy="99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考考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295280"/>
            <a:ext cx="259092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990720" y="228600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295280"/>
            <a:ext cx="259092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038480" y="228600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48520" y="1295280"/>
            <a:ext cx="259056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858000" y="228600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962520"/>
            <a:ext cx="2590920" cy="1904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495288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962520"/>
            <a:ext cx="2590560" cy="1904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114800" y="495288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3962520"/>
            <a:ext cx="2590920" cy="1904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934320" y="4952880"/>
            <a:ext cx="1371600" cy="914400"/>
          </a:xfrm>
          <a:prstGeom prst="triangle">
            <a:avLst>
              <a:gd name="adj" fmla="val 48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6000" y="21891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9000" y="1503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200" y="24382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800" y="24382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4120" y="2133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4120" y="1523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2514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3600" y="25146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3280" y="1523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1520" y="25146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002080" y="2514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2320" y="4267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916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8120" y="5181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20080" y="4876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3080" y="4173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4280" y="5181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0" y="4267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54360" y="5087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9600" y="4876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3280" y="2209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2320" y="4876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880" y="51814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30120" y="5084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0880" y="152280"/>
            <a:ext cx="2286000" cy="9907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考考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7520" y="1523880"/>
            <a:ext cx="63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在  里填上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，在（ ）里填上相同的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676520"/>
            <a:ext cx="45720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74320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97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03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5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495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3200" y="2743200"/>
            <a:ext cx="685800" cy="609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743200"/>
            <a:ext cx="685800" cy="609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886200"/>
            <a:ext cx="685800" cy="609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3886200"/>
            <a:ext cx="685800" cy="609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6920" y="27432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7320" y="38862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8040" y="2666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3600" y="3809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1168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208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8000" y="3809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3809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514600"/>
            <a:ext cx="2438640" cy="15238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21337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28800" cy="1836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2971800" y="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9"/>
          <a:stretch/>
        </p:blipFill>
        <p:spPr>
          <a:xfrm>
            <a:off x="6400800" y="0"/>
            <a:ext cx="1589040" cy="1589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28600" y="1828800"/>
            <a:ext cx="14479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3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1828800"/>
            <a:ext cx="14479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7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00800" y="17524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40384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8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4114800"/>
            <a:ext cx="14479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9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4114800"/>
            <a:ext cx="14479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054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妈妈有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00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元钱，可以买哪种自行车和哪种电风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95440" y="28954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万以内数的加、减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1203480"/>
            <a:ext cx="18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口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2895480"/>
            <a:ext cx="18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笔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572000"/>
            <a:ext cx="18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估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447920"/>
            <a:ext cx="381240" cy="3886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636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600" y="1219320"/>
            <a:ext cx="674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2+35=             86- 3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7+33=             23+6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2- 18=             70- 26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5000" y="12193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8400" y="1143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5000" y="28195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8400" y="28195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5000" y="4495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495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8680" y="5943600"/>
            <a:ext cx="42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在口算时要注意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68840" y="252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（两位数加、减两位数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636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21932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000-6000=          70+40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60-90=                1300-700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20+300=             500+ 800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4480" y="12463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480" y="12193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6400" y="27432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5600" y="2666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3600" y="41148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5240" y="411480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5334120"/>
            <a:ext cx="42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在口算时要注意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3680" y="1760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（几百几十加、减几百几十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7840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谁能很快算出每张卡片上两个数的和与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600" y="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比一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133720"/>
            <a:ext cx="83808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133720"/>
            <a:ext cx="83844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133720"/>
            <a:ext cx="83844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133720"/>
            <a:ext cx="83808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133720"/>
            <a:ext cx="121932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133720"/>
            <a:ext cx="1143000" cy="13716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4956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6576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724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4800" y="3657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8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0080" y="3657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9400" y="3657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6080" y="3657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21360" y="365760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99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21120" y="472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4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0080" y="472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5720" y="472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31000" y="472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7680" y="47242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9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50160" y="47242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5486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4956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486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5486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495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5486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44956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笔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9000" y="914400"/>
            <a:ext cx="309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 4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+  4 3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30640" y="91440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 5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 1 8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3400" y="3429000"/>
            <a:ext cx="23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 8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+ 2 7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0640" y="350532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 2 6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743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7432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25780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3341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8320" y="274320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7 7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70560" y="21398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40480" y="266688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 7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518148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 5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0" y="533412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5 4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48040" y="6156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在笔算时应注意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43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0" y="228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（几百几十加、减几百几十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0"/>
            <a:ext cx="78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比一比看谁填得又对又快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320" y="1295280"/>
          <a:ext cx="8762760" cy="2133360"/>
        </p:xfrm>
        <a:graphic>
          <a:graphicData uri="http://schemas.openxmlformats.org/drawingml/2006/table">
            <a:tbl>
              <a:tblPr/>
              <a:tblGrid>
                <a:gridCol w="1295280"/>
                <a:gridCol w="1066680"/>
                <a:gridCol w="1143000"/>
                <a:gridCol w="1066680"/>
                <a:gridCol w="1143000"/>
                <a:gridCol w="1067040"/>
                <a:gridCol w="990360"/>
                <a:gridCol w="990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加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4038480"/>
          <a:ext cx="8915400" cy="21333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990720"/>
                <a:gridCol w="1066680"/>
                <a:gridCol w="1143000"/>
                <a:gridCol w="1066680"/>
                <a:gridCol w="990720"/>
                <a:gridCol w="990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减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减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295280" y="2666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981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7432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295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981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7432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1295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40384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410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724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40384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410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5410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636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估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400" y="1676520"/>
            <a:ext cx="7178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57+246≈               402+297 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76- 245 ≈              821- 372 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93- 412 ≈              605- 497 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08584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08584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16765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20574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20574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6002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429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429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9718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81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5053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29718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8769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8006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4197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4952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952880"/>
            <a:ext cx="10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4267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900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方正姚体"/>
              </a:rPr>
              <a:t>估算时要注意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79400" y="1676520"/>
            <a:ext cx="7178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57+246≈               402+297 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76- 245 ≈              821- 372 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93- 412 ≈              605- 497 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08584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208584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16765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20574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20574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6002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429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429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29718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3581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5812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24680" y="29718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8769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48769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4197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4952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952880"/>
            <a:ext cx="10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2670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5900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方正姚体"/>
              </a:rPr>
              <a:t>估算时要注意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36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估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2:07:51Z</dcterms:created>
  <dc:creator>dzs</dc:creator>
  <dc:description/>
  <dc:language>en-US</dc:language>
  <cp:lastModifiedBy>lzj</cp:lastModifiedBy>
  <dcterms:modified xsi:type="dcterms:W3CDTF">2008-12-11T02:24:45Z</dcterms:modified>
  <cp:revision>10</cp:revision>
  <dc:subject/>
  <dc:title>PowerPoint 演示文稿</dc:title>
</cp:coreProperties>
</file>