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himes.wav" ContentType="audio/x-wav"/>
  <Override PartName="/ppt/media/image6.jpeg" ContentType="image/jpeg"/>
  <Override PartName="/ppt/media/image11.jpeg" ContentType="image/jpeg"/>
  <Override PartName="/ppt/media/image4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D34A-BC4D-445C-B112-3BFC20B7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7AB8-1D82-482D-AA62-49946866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8F5A-F4D8-4A32-9FCB-3DEF40DC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8A07-8A86-4E7C-8A11-65A247E87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9653-1431-4668-877E-815E63DF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B7AA-FE6B-4C9C-A3A4-B3676208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6943-8BFC-4368-9F4D-985374DD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0730-059C-48F3-8ACD-D379B23A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FACF-62CA-4095-9766-4DA71E00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486-0CF0-4996-A6AD-2C674D8D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5F7E-CC88-4E03-9C94-7464B581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3C16-2AAE-47FE-A77E-65AFEBA4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BAF7-0C13-4F5A-B70B-EBD4F3E7E7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anhui.com/printpage.asp?BoardID=74&amp;ID=77025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8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7.jpeg"/><Relationship Id="rId8" Type="http://schemas.openxmlformats.org/officeDocument/2006/relationships/image" Target="../media/image9.jpeg"/><Relationship Id="rId9" Type="http://schemas.openxmlformats.org/officeDocument/2006/relationships/image" Target="../media/image11.jpeg"/><Relationship Id="rId10" Type="http://schemas.openxmlformats.org/officeDocument/2006/relationships/image" Target="../media/image8.jpeg"/><Relationship Id="rId11" Type="http://schemas.openxmlformats.org/officeDocument/2006/relationships/image" Target="../media/image7.jpeg"/><Relationship Id="rId12" Type="http://schemas.openxmlformats.org/officeDocument/2006/relationships/image" Target="../media/image11.jpeg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js.xinhuanet.com/zhuanlan/2005-08/17/content_4897930.htm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chinabyte.net/Etimes/74876776211283968/20040913/1853158_4.shtml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7000"/>
            <a:ext cx="9524880" cy="7589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47640" y="2468520"/>
            <a:ext cx="66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00"/>
                </a:solidFill>
                <a:latin typeface="Wingdings"/>
                <a:ea typeface="Wingdings"/>
              </a:rPr>
              <a:t>数学广角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62064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人教新课标版三年级数学上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1905120" cy="2361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95280" y="2057400"/>
            <a:ext cx="4800600" cy="457200"/>
          </a:xfrm>
          <a:custGeom>
            <a:avLst/>
            <a:gdLst/>
            <a:ahLst/>
            <a:rect l="l" t="t" r="r" b="b"/>
            <a:pathLst>
              <a:path w="2688" h="344">
                <a:moveTo>
                  <a:pt x="0" y="344"/>
                </a:moveTo>
                <a:cubicBezTo>
                  <a:pt x="880" y="180"/>
                  <a:pt x="1760" y="16"/>
                  <a:pt x="2208" y="8"/>
                </a:cubicBezTo>
                <a:cubicBezTo>
                  <a:pt x="2656" y="0"/>
                  <a:pt x="2608" y="248"/>
                  <a:pt x="2688" y="29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676520"/>
            <a:ext cx="7772400" cy="761760"/>
          </a:xfrm>
          <a:custGeom>
            <a:avLst/>
            <a:gdLst/>
            <a:ahLst/>
            <a:rect l="l" t="t" r="r" b="b"/>
            <a:pathLst>
              <a:path w="4672" h="832">
                <a:moveTo>
                  <a:pt x="0" y="832"/>
                </a:moveTo>
                <a:cubicBezTo>
                  <a:pt x="1648" y="432"/>
                  <a:pt x="3296" y="32"/>
                  <a:pt x="3984" y="16"/>
                </a:cubicBezTo>
                <a:cubicBezTo>
                  <a:pt x="4672" y="0"/>
                  <a:pt x="4400" y="368"/>
                  <a:pt x="4128" y="73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4648320"/>
            <a:ext cx="2362320" cy="761760"/>
          </a:xfrm>
          <a:custGeom>
            <a:avLst/>
            <a:gdLst/>
            <a:ahLst/>
            <a:rect l="l" t="t" r="r" b="b"/>
            <a:pathLst>
              <a:path w="1392" h="448">
                <a:moveTo>
                  <a:pt x="0" y="0"/>
                </a:moveTo>
                <a:cubicBezTo>
                  <a:pt x="100" y="208"/>
                  <a:pt x="200" y="416"/>
                  <a:pt x="432" y="432"/>
                </a:cubicBezTo>
                <a:cubicBezTo>
                  <a:pt x="664" y="448"/>
                  <a:pt x="1232" y="152"/>
                  <a:pt x="1392" y="96"/>
                </a:cubicBezTo>
              </a:path>
            </a:pathLst>
          </a:custGeom>
          <a:noFill/>
          <a:ln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4648320"/>
            <a:ext cx="4419720" cy="1218960"/>
          </a:xfrm>
          <a:custGeom>
            <a:avLst/>
            <a:gdLst/>
            <a:ahLst/>
            <a:rect l="l" t="t" r="r" b="b"/>
            <a:pathLst>
              <a:path w="2736" h="920">
                <a:moveTo>
                  <a:pt x="0" y="0"/>
                </a:moveTo>
                <a:cubicBezTo>
                  <a:pt x="12" y="452"/>
                  <a:pt x="24" y="904"/>
                  <a:pt x="480" y="912"/>
                </a:cubicBezTo>
                <a:cubicBezTo>
                  <a:pt x="936" y="920"/>
                  <a:pt x="1836" y="484"/>
                  <a:pt x="2736" y="48"/>
                </a:cubicBezTo>
              </a:path>
            </a:pathLst>
          </a:custGeom>
          <a:noFill/>
          <a:ln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086600" y="2209680"/>
            <a:ext cx="1676520" cy="2514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952880" y="2362320"/>
            <a:ext cx="1905120" cy="2438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590920" y="2438280"/>
            <a:ext cx="193824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44956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小霞有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件衣服，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条裤子 ，她最多能搭配出几套不同的穿法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4724280" y="304920"/>
            <a:ext cx="2036520" cy="5943600"/>
            <a:chOff x="4724280" y="304920"/>
            <a:chExt cx="2036520" cy="594360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4724280" y="3581640"/>
              <a:ext cx="203652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4724280" y="1524240"/>
              <a:ext cx="1947600" cy="22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4803120" y="304920"/>
              <a:ext cx="1899720" cy="132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6858000" y="304920"/>
            <a:ext cx="2057040" cy="6019200"/>
            <a:chOff x="6858000" y="304920"/>
            <a:chExt cx="2057040" cy="6019200"/>
          </a:xfrm>
        </p:grpSpPr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>
              <a:off x="6858000" y="3581280"/>
              <a:ext cx="1862280" cy="27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5"/>
            <a:stretch/>
          </p:blipFill>
          <p:spPr>
            <a:xfrm>
              <a:off x="6858000" y="1523880"/>
              <a:ext cx="1946520" cy="22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6"/>
            <a:stretch/>
          </p:blipFill>
          <p:spPr>
            <a:xfrm>
              <a:off x="7016400" y="304920"/>
              <a:ext cx="1898640" cy="132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152280" y="228600"/>
            <a:ext cx="1981080" cy="6019920"/>
            <a:chOff x="152280" y="228600"/>
            <a:chExt cx="1981080" cy="6019920"/>
          </a:xfrm>
        </p:grpSpPr>
        <p:pic>
          <p:nvPicPr>
            <p:cNvPr id="100" name="" descr=""/>
            <p:cNvPicPr/>
            <p:nvPr/>
          </p:nvPicPr>
          <p:blipFill>
            <a:blip r:embed="rId7"/>
            <a:stretch/>
          </p:blipFill>
          <p:spPr>
            <a:xfrm>
              <a:off x="152280" y="1447920"/>
              <a:ext cx="1905120" cy="23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8"/>
            <a:stretch/>
          </p:blipFill>
          <p:spPr>
            <a:xfrm>
              <a:off x="152280" y="3657600"/>
              <a:ext cx="19051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9"/>
            <a:stretch/>
          </p:blipFill>
          <p:spPr>
            <a:xfrm>
              <a:off x="304560" y="228600"/>
              <a:ext cx="1828800" cy="132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2514600" y="228600"/>
            <a:ext cx="2008080" cy="6248520"/>
            <a:chOff x="2514600" y="228600"/>
            <a:chExt cx="2008080" cy="6248520"/>
          </a:xfrm>
        </p:grpSpPr>
        <p:pic>
          <p:nvPicPr>
            <p:cNvPr id="104" name="" descr=""/>
            <p:cNvPicPr/>
            <p:nvPr/>
          </p:nvPicPr>
          <p:blipFill>
            <a:blip r:embed="rId10"/>
            <a:stretch/>
          </p:blipFill>
          <p:spPr>
            <a:xfrm>
              <a:off x="2514600" y="3657600"/>
              <a:ext cx="184464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11"/>
            <a:stretch/>
          </p:blipFill>
          <p:spPr>
            <a:xfrm>
              <a:off x="2541600" y="1447920"/>
              <a:ext cx="1905120" cy="23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12"/>
            <a:stretch/>
          </p:blipFill>
          <p:spPr>
            <a:xfrm>
              <a:off x="2693880" y="228600"/>
              <a:ext cx="1828800" cy="1324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4920" y="549360"/>
            <a:ext cx="80629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教学目标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通过观察、猜测、操作等活动，找出最简单的事物的组合数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经历探索简单事物组合规律的过程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培养学生有顺序地全面地思考问题的意识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感受数学与生活的紧密联系，激发学生学好数学的信心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600720" cy="5334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609480"/>
            <a:ext cx="3565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066680"/>
            <a:ext cx="373392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ff"/>
                </a:solidFill>
                <a:latin typeface="黑体"/>
                <a:ea typeface="黑体"/>
              </a:rPr>
              <a:t>12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1066680"/>
            <a:ext cx="3276720" cy="70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ff"/>
                </a:solidFill>
                <a:latin typeface="黑体"/>
                <a:ea typeface="黑体"/>
              </a:rPr>
              <a:t>21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2675160" cy="3962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394000" cy="3962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324480" y="914400"/>
            <a:ext cx="2265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304920"/>
            <a:ext cx="2590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18720" y="3276720"/>
            <a:ext cx="2926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0000"/>
                </a:solidFill>
                <a:latin typeface="黑体"/>
                <a:ea typeface="黑体"/>
              </a:rPr>
              <a:t>13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81680" y="304920"/>
            <a:ext cx="2926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6600ff"/>
                </a:solidFill>
                <a:latin typeface="黑体"/>
                <a:ea typeface="黑体"/>
              </a:rPr>
              <a:t>21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81680" y="3276720"/>
            <a:ext cx="2926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6600ff"/>
                </a:solidFill>
                <a:latin typeface="黑体"/>
                <a:ea typeface="黑体"/>
              </a:rPr>
              <a:t>23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59960" y="304920"/>
            <a:ext cx="2926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6600"/>
                </a:solidFill>
                <a:latin typeface="黑体"/>
                <a:ea typeface="黑体"/>
              </a:rPr>
              <a:t>31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53480" y="3276720"/>
            <a:ext cx="2926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6600"/>
                </a:solidFill>
                <a:latin typeface="黑体"/>
                <a:ea typeface="黑体"/>
              </a:rPr>
              <a:t>32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304920"/>
            <a:ext cx="25905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3333cc"/>
                </a:solidFill>
                <a:latin typeface="黑体"/>
                <a:ea typeface="黑体"/>
              </a:rPr>
              <a:t>12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429000"/>
            <a:ext cx="25905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3333cc"/>
                </a:solidFill>
                <a:latin typeface="黑体"/>
                <a:ea typeface="黑体"/>
              </a:rPr>
              <a:t>21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304920"/>
            <a:ext cx="25905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990033"/>
                </a:solidFill>
                <a:latin typeface="黑体"/>
                <a:ea typeface="黑体"/>
              </a:rPr>
              <a:t>13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3429000"/>
            <a:ext cx="2590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990033"/>
                </a:solidFill>
                <a:latin typeface="黑体"/>
                <a:ea typeface="黑体"/>
              </a:rPr>
              <a:t>31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304920"/>
            <a:ext cx="2590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808000"/>
                </a:solidFill>
                <a:latin typeface="黑体"/>
                <a:ea typeface="黑体"/>
              </a:rPr>
              <a:t>23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429000"/>
            <a:ext cx="2590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808000"/>
                </a:solidFill>
                <a:latin typeface="黑体"/>
                <a:ea typeface="黑体"/>
              </a:rPr>
              <a:t>32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2590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猜一猜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609480"/>
            <a:ext cx="8077320" cy="3200400"/>
          </a:xfrm>
          <a:prstGeom prst="cloudCallout">
            <a:avLst>
              <a:gd name="adj1" fmla="val 25490"/>
              <a:gd name="adj2" fmla="val 68402"/>
            </a:avLst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066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Times New Roman"/>
              </a:rPr>
              <a:t>我家的门牌号码是由</a:t>
            </a:r>
            <a:r>
              <a:rPr b="0" i="1" lang="zh-CN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zh-CN" sz="36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0" i="1" lang="zh-CN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zh-CN" sz="36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0" i="1" lang="zh-CN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i="1" lang="zh-CN" sz="3600" spc="-1" strike="noStrike">
                <a:solidFill>
                  <a:srgbClr val="0000ff"/>
                </a:solidFill>
                <a:latin typeface="Times New Roman"/>
              </a:rPr>
              <a:t>这三个数字组成的一个三位数，请你猜一猜我家的门牌号码可能是多少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58160" y="4191120"/>
            <a:ext cx="1552320" cy="2346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510552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066680" y="152280"/>
            <a:ext cx="289584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8000"/>
                </a:solidFill>
                <a:latin typeface="Times New Roman"/>
              </a:rPr>
              <a:t>123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152280"/>
            <a:ext cx="28954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8000"/>
                </a:solidFill>
                <a:latin typeface="Times New Roman"/>
              </a:rPr>
              <a:t>132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2438280"/>
            <a:ext cx="28954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8000"/>
                </a:solidFill>
                <a:latin typeface="Times New Roman"/>
              </a:rPr>
              <a:t>213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2362320"/>
            <a:ext cx="28954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8000"/>
                </a:solidFill>
                <a:latin typeface="Times New Roman"/>
              </a:rPr>
              <a:t>231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4572000"/>
            <a:ext cx="28954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8000"/>
                </a:solidFill>
                <a:latin typeface="Times New Roman"/>
              </a:rPr>
              <a:t>312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4572000"/>
            <a:ext cx="28954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8000"/>
                </a:solidFill>
                <a:latin typeface="Times New Roman"/>
              </a:rPr>
              <a:t>321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2:13:38Z</dcterms:created>
  <dc:creator>client</dc:creator>
  <dc:description/>
  <dc:language>en-US</dc:language>
  <cp:lastModifiedBy>lzj</cp:lastModifiedBy>
  <dcterms:modified xsi:type="dcterms:W3CDTF">2008-12-24T06:41:40Z</dcterms:modified>
  <cp:revision>30</cp:revision>
  <dc:subject/>
  <dc:title>PowerPoint 演示文稿</dc:title>
</cp:coreProperties>
</file>