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whoosh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390-AED9-413B-B875-22ECFC5F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840-D37B-4811-AC33-3DDAC7F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173-8779-40DC-8617-68221D3C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720-9C21-451B-A5F4-28D1E735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29F-9E39-4DED-BC9E-6666CA8B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617-9BEC-4327-AF68-52B255FB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388-5DBB-46F2-9CE9-95D359EB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EFE-40E1-48E9-BF14-03E2C74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19C-3FD0-4FA3-BF6A-8C8975B4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D0F-06F6-4BAD-AF53-D283CC1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104-CAD2-4280-8EF6-DFDB701D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29B-73DA-40AE-9C4D-3FD44FC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B988-97BC-4CBF-9A6D-55B8AAEC44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nscwp.com/jiaoan/shxu/two/200704/20451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38360" y="2400480"/>
            <a:ext cx="5867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宋体"/>
              </a:rPr>
              <a:t>时间的计算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5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人教新课标版三年级数学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197000"/>
            <a:ext cx="7315200" cy="5661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8800" y="2286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算一算经过的时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79280" y="1573200"/>
            <a:ext cx="12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56320" y="5638680"/>
            <a:ext cx="12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533520"/>
            <a:ext cx="8610480" cy="3276360"/>
          </a:xfrm>
          <a:prstGeom prst="cloudCallout">
            <a:avLst>
              <a:gd name="adj1" fmla="val -51069"/>
              <a:gd name="adj2" fmla="val 7906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13716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你会计算经过的时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问题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81960" y="5257800"/>
            <a:ext cx="64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：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到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，经过多少时间 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7160" y="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考考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01600"/>
            <a:ext cx="7772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惠川超市营业时间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上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0~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晚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惠川超市每天营业多少时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89880" y="3657600"/>
            <a:ext cx="61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-8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34000" y="4572000"/>
            <a:ext cx="69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+9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=1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4080" y="5486400"/>
            <a:ext cx="56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答：惠川超市每天营业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小时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77160" y="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考考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858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一只蜗牛从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厘米高的杯子底部往上爬，它每爬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厘米要用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分钟，然后休息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分钟。它爬到杯口要用多长时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8862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爬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4×3=1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分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0400" y="5867280"/>
            <a:ext cx="39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答：它爬到杯口要用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4956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休息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3×2=6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分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1814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2+6=18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分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200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2÷3=4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次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77160" y="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考考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040" y="10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858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一只虫子从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71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厘米高的小树树根往上爬，它每分钟爬上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厘米又要向下滑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厘米。它爬到树尖要用多长时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8862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71-8=63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厘米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0400" y="5867280"/>
            <a:ext cx="39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答：它爬到树尖要用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分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449568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63÷7=9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分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51814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9+1=1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分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3276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8-1=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厘米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72240" y="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考考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4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9144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小冬从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楼到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楼共用了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用同样的速度，从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楼到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楼要多长时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1240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0 ÷ 2=1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秒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09160" y="5410080"/>
            <a:ext cx="492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答：他从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楼到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楼要用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50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2670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8-3=5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2670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0×5=5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秒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1240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4-2=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（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286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填上合适的时间单位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95280"/>
            <a:ext cx="855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我每天晚上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   ）睡觉，大约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      ），早上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     ）就起床，起床、穿衣、吃饭大约要花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40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   ），在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   ）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40(     )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我就出门上学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做一次深呼吸要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一节课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40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048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69800" y="1828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6480" y="184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72120" y="243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8000" y="3048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24200" y="4267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1720" y="5486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0760" y="306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44792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秒     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分     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秒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2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）时   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6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秒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）分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8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）时   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4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秒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）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840" y="137160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5560" y="14479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840" y="28195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5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5560" y="28195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236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1720" y="4191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2360" y="5486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1720" y="5486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286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填    一   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808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44792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5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秒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 ）秒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5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秒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）分（    ）秒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4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0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）时（   ）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5160" y="14479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2360" y="2819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5360" y="28195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840" y="411480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2360" y="5486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5360" y="54864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808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填    一   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90720" y="13716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+4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 ）时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58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-3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 ）分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46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-28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4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秒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-19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秒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6240" y="1371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480" y="2743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4480" y="40384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4480" y="5410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8088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填    一   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43200" y="2286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填    一   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95280"/>
            <a:ext cx="9677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秒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×4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 ）秒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分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+25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 ）分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0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+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5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）时（  ）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4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+19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分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（    ）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2520" y="1295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21360" y="1295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7440" y="26668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240" y="3962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4000" y="39625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8680" y="53341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2240" y="5334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66880" y="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比   一    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219320"/>
            <a:ext cx="861048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240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秒（    ）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时（    ）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800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26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（    ）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260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秒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76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（    ）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35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+27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（   ）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时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86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+34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分（  ）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时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7960" y="1103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2057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7080" y="2895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7080" y="3733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0960" y="4572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2520" y="54450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rcRect l="-628" t="-2174" r="75324" b="13170"/>
          <a:stretch/>
        </p:blipFill>
        <p:spPr>
          <a:xfrm>
            <a:off x="0" y="609480"/>
            <a:ext cx="3200400" cy="3100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24684" t="0" r="50004" b="13170"/>
          <a:stretch/>
        </p:blipFill>
        <p:spPr>
          <a:xfrm>
            <a:off x="5715000" y="609480"/>
            <a:ext cx="3200400" cy="3098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74060" t="0" r="1264" b="13170"/>
          <a:stretch/>
        </p:blipFill>
        <p:spPr>
          <a:xfrm>
            <a:off x="5715000" y="3429000"/>
            <a:ext cx="32004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0" y="3505320"/>
            <a:ext cx="3276720" cy="3352320"/>
            <a:chOff x="0" y="3505320"/>
            <a:chExt cx="3276720" cy="335232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rcRect l="49368" t="0" r="25948" b="13170"/>
            <a:stretch/>
          </p:blipFill>
          <p:spPr>
            <a:xfrm>
              <a:off x="0" y="3505320"/>
              <a:ext cx="3276720" cy="33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71600" y="5190840"/>
              <a:ext cx="609480" cy="75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124080" y="2590920"/>
            <a:ext cx="2743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5715000"/>
            <a:ext cx="2819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0292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过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6760" y="1905120"/>
            <a:ext cx="21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过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60400" y="190512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9000" y="502920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算一算经过的时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56474" b="0"/>
          <a:stretch/>
        </p:blipFill>
        <p:spPr>
          <a:xfrm>
            <a:off x="457200" y="3962520"/>
            <a:ext cx="2362320" cy="225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58829" t="0" r="0" b="0"/>
          <a:stretch/>
        </p:blipFill>
        <p:spPr>
          <a:xfrm>
            <a:off x="6095880" y="3962520"/>
            <a:ext cx="228780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66996" t="0" r="0" b="51113"/>
          <a:stretch/>
        </p:blipFill>
        <p:spPr>
          <a:xfrm>
            <a:off x="304920" y="68580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66996" t="50330" r="0" b="0"/>
          <a:stretch/>
        </p:blipFill>
        <p:spPr>
          <a:xfrm>
            <a:off x="6095880" y="685800"/>
            <a:ext cx="2590920" cy="263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43200" y="274320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4480" y="1905120"/>
            <a:ext cx="21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过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4080" y="190512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79132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0520" y="502920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过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02360" y="502920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算一算经过的时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3:22:48Z</dcterms:created>
  <dc:creator>dzs</dc:creator>
  <dc:description/>
  <dc:language>en-US</dc:language>
  <cp:lastModifiedBy>lzj</cp:lastModifiedBy>
  <dcterms:modified xsi:type="dcterms:W3CDTF">2008-12-08T02:45:55Z</dcterms:modified>
  <cp:revision>9</cp:revision>
  <dc:subject/>
  <dc:title>PowerPoint 演示文稿</dc:title>
</cp:coreProperties>
</file>