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projctor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D61A-1957-4F65-9A6D-406B5C33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F92E-AD84-4389-AED5-8ABE865F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A71D-6584-4332-854F-16540FB0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1739-1BCF-4EAE-8B5C-1D5EC148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3DBD-03BB-43EC-93E8-65CD9E7C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AAC-9EA4-469D-B637-8EBF7412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2094-B106-4B8C-AC2E-4B5A2234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2040-C744-40A6-A83C-BE8F16D4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AFF6-F5C3-481C-800D-2AFB4188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EC90-6B6E-4956-8C62-4366DBEA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944B-49F0-4207-B370-AFB785D5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638-37A9-4996-9851-60F55D3B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4D52-3C0D-4A04-87E9-C112550081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63640" y="2276640"/>
            <a:ext cx="741672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可能性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/>
          <p:nvPr/>
        </p:nvSpPr>
        <p:spPr>
          <a:xfrm>
            <a:off x="1258920" y="620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人教新课标版三年级数学上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113200" y="1989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武汉很少下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08160" y="4365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海南不可能下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57960" y="31384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哈尔滨一定下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教学目标 </a:t>
            </a:r>
            <a:br>
              <a:rPr sz="4400"/>
            </a:b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使学生初步体验有些事情的发生是确定的，有些则是不确定的。 </a:t>
            </a:r>
            <a:br>
              <a:rPr sz="2800"/>
            </a:b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使学生能够列出简单试验中所有可能的结果。 </a:t>
            </a:r>
            <a:br>
              <a:rPr sz="2800"/>
            </a:b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初步使学生感受事件发生的可能性有大有小，能对一些简单的事件发生的可能性作描述，并和同伴交换思想。 </a:t>
            </a:r>
            <a:br>
              <a:rPr sz="2800"/>
            </a:b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630072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天，阿凡提牵着自己心爱的小毛驴，背着一袋金币往家赶。刚到村口，就碰到那个贪财、吝啬的大财主。他看到阿凡提手里的一袋金币就眼红。眼珠转了转，对阿凡提说：“如果你能把口袋里的金币往空中一抛，落下后个个都是正面朝上，那么这些金币就是你的了。如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，哼！哼！那它就是我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156000" y="1052280"/>
            <a:ext cx="331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看！！</a:t>
            </a:r>
            <a:br>
              <a:rPr sz="4000"/>
            </a:b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是谁来了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227640" y="3141720"/>
            <a:ext cx="216072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50000">
              <a:srgbClr val="ffffff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258920" y="1125360"/>
            <a:ext cx="2735280" cy="2160360"/>
            <a:chOff x="1258920" y="1125360"/>
            <a:chExt cx="2735280" cy="2160360"/>
          </a:xfrm>
        </p:grpSpPr>
        <p:sp>
          <p:nvSpPr>
            <p:cNvPr id="48" name=""/>
            <p:cNvSpPr/>
            <p:nvPr/>
          </p:nvSpPr>
          <p:spPr>
            <a:xfrm>
              <a:off x="1258920" y="1125360"/>
              <a:ext cx="2735280" cy="216036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74560" y="1917360"/>
              <a:ext cx="1729080" cy="1008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ff"/>
                  </a:solidFill>
                  <a:latin typeface="Times New Roman"/>
                </a:rPr>
                <a:t>12</a:t>
              </a:r>
              <a:r>
                <a:rPr b="1" lang="zh-CN" sz="2800" spc="-1" strike="noStrike">
                  <a:solidFill>
                    <a:srgbClr val="0066ff"/>
                  </a:solidFill>
                  <a:latin typeface="Times New Roman"/>
                </a:rPr>
                <a:t>个白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50920" y="1271520"/>
              <a:ext cx="1079640" cy="28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2077200" y="3898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一定是白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148360" y="1052640"/>
            <a:ext cx="2735280" cy="2160360"/>
            <a:chOff x="5148360" y="1052640"/>
            <a:chExt cx="2735280" cy="2160360"/>
          </a:xfrm>
        </p:grpSpPr>
        <p:sp>
          <p:nvSpPr>
            <p:cNvPr id="53" name=""/>
            <p:cNvSpPr/>
            <p:nvPr/>
          </p:nvSpPr>
          <p:spPr>
            <a:xfrm>
              <a:off x="5148360" y="1052640"/>
              <a:ext cx="2735280" cy="2160360"/>
            </a:xfrm>
            <a:prstGeom prst="cube">
              <a:avLst>
                <a:gd name="adj" fmla="val 2500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64000" y="1844640"/>
              <a:ext cx="1729080" cy="100800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10</a:t>
              </a: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个红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40360" y="1198800"/>
              <a:ext cx="1079640" cy="28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5895000" y="3860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定是红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71000" y="4508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不可能是白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50000">
              <a:srgbClr val="ffffff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2411280" y="836640"/>
            <a:ext cx="3742920" cy="2518920"/>
            <a:chOff x="2411280" y="836640"/>
            <a:chExt cx="3742920" cy="2518920"/>
          </a:xfrm>
        </p:grpSpPr>
        <p:sp>
          <p:nvSpPr>
            <p:cNvPr id="59" name=""/>
            <p:cNvSpPr/>
            <p:nvPr/>
          </p:nvSpPr>
          <p:spPr>
            <a:xfrm>
              <a:off x="2411280" y="836640"/>
              <a:ext cx="3742920" cy="251892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06120" y="1760040"/>
              <a:ext cx="2365920" cy="1175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ff"/>
                  </a:solidFill>
                  <a:latin typeface="Times New Roman"/>
                </a:rPr>
                <a:t>12</a:t>
              </a:r>
              <a:r>
                <a:rPr b="1" lang="zh-CN" sz="2800" spc="-1" strike="noStrike">
                  <a:solidFill>
                    <a:srgbClr val="0066ff"/>
                  </a:solidFill>
                  <a:latin typeface="Times New Roman"/>
                </a:rPr>
                <a:t>个白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10</a:t>
              </a: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个红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94880" y="1006920"/>
              <a:ext cx="1477440" cy="334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605680" y="39337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可能是白球，也可能是红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471040" y="765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9900"/>
                </a:solidFill>
                <a:latin typeface="Times New Roman"/>
              </a:rPr>
              <a:t>小组合作，摸球游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177336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小组内准备一个黑袋，装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个白球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个黄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每人轮换摸球，把结果记录在课本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8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页“摸一摸”表格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开展游戏遵守规则，游戏结束，组内成员交流想法，填写在课本“填一填”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838080"/>
            <a:ext cx="68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幼圆"/>
              </a:rPr>
              <a:t>每次口袋里该放什么球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9051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）任意摸一个，不可能是绿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4038480"/>
            <a:ext cx="739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）任意摸一个，一定是绿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29718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）任意摸一个，可能是绿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95280" y="1355760"/>
            <a:ext cx="27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幼圆"/>
              </a:rPr>
              <a:t>考考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2286000"/>
            <a:ext cx="63248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太阳（       ）从东方升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今天老师（       ）要表扬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时间永远（         ）停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22543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一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320040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3092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可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39337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不可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下面的五个箱子里，分别摸出一个球，结果是哪个？连一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3033720" y="1652760"/>
            <a:ext cx="3770280" cy="4927320"/>
            <a:chOff x="3033720" y="1652760"/>
            <a:chExt cx="3770280" cy="4927320"/>
          </a:xfrm>
        </p:grpSpPr>
        <p:grpSp>
          <p:nvGrpSpPr>
            <p:cNvPr id="78" name=""/>
            <p:cNvGrpSpPr/>
            <p:nvPr/>
          </p:nvGrpSpPr>
          <p:grpSpPr>
            <a:xfrm>
              <a:off x="3048120" y="1652760"/>
              <a:ext cx="3352320" cy="600120"/>
              <a:chOff x="3048120" y="1652760"/>
              <a:chExt cx="3352320" cy="600120"/>
            </a:xfrm>
          </p:grpSpPr>
          <p:sp>
            <p:nvSpPr>
              <p:cNvPr id="79" name=""/>
              <p:cNvSpPr/>
              <p:nvPr/>
            </p:nvSpPr>
            <p:spPr>
              <a:xfrm>
                <a:off x="3048120" y="1652760"/>
                <a:ext cx="3352320" cy="56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429360" y="1732320"/>
                <a:ext cx="2742840" cy="5205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Arial"/>
                  </a:rPr>
                  <a:t>    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Arial"/>
                  </a:rPr>
                  <a:t>可 能 是 白  球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097080" y="2708280"/>
              <a:ext cx="3419640" cy="561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48000" y="2787480"/>
              <a:ext cx="295128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一  定  是  白  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38400" y="3789360"/>
              <a:ext cx="3530520" cy="64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3868560"/>
              <a:ext cx="302436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一 定 不 是 白 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59280" y="4941720"/>
              <a:ext cx="3584520" cy="560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87880" y="5021280"/>
              <a:ext cx="301284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很  可 能 是 白 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33720" y="5979960"/>
              <a:ext cx="3770280" cy="559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19640" y="6059520"/>
              <a:ext cx="324000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白球的可能性很小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2195640" y="3068640"/>
            <a:ext cx="936360" cy="2089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050920" y="1989000"/>
            <a:ext cx="1657440" cy="216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24000" y="5734080"/>
            <a:ext cx="1511280" cy="35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084360" y="3789360"/>
            <a:ext cx="1295640" cy="287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227280" y="3141720"/>
            <a:ext cx="1297080" cy="2303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03:02:13Z</dcterms:created>
  <dc:creator>陈泽滨</dc:creator>
  <dc:description/>
  <dc:language>en-US</dc:language>
  <cp:lastModifiedBy>lzj</cp:lastModifiedBy>
  <dcterms:modified xsi:type="dcterms:W3CDTF">2008-12-24T05:22:36Z</dcterms:modified>
  <cp:revision>32</cp:revision>
  <dc:subject/>
  <dc:title>PowerPoint 演示文稿</dc:title>
</cp:coreProperties>
</file>