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8F9-2B1C-495B-80C9-1F37CE91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999-66AB-4043-AB42-5A00693E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418-961D-41DE-9B25-4E0FC01B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A10-406A-4978-A912-0090C255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FB5-A288-45EE-943A-2E24E10E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EF4-1451-4A86-8974-EF5497A3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6C1-D53C-4FC8-8AB1-A70F6455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883-E6FF-4EA2-B262-162BC15D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EA9-BE4C-4AE8-883D-9854940F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8F6-9BA6-4CE0-832D-9CD4C663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D81-D67B-47B8-90EC-FC96CD03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708-EADD-4792-AF39-192208BA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546D-DDCA-43BC-800E-FF23DD7087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00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11480" y="114300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除数是整数的小数除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除数是整数的小数除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20040" y="3048120"/>
            <a:ext cx="375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做作业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认真仔细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21480" y="990720"/>
            <a:ext cx="37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独立完成“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练习十二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5---7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3624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52280"/>
            <a:ext cx="1067040" cy="1067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840" y="250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45720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89520" y="152280"/>
            <a:ext cx="620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1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除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各是多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计算器计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观察小数点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变化情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79400" y="213372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1.5 ÷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3440" y="358128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1.5 ÷ 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3440" y="495288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1.5 ÷ 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2040" y="21337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6960" y="3581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2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560" y="49528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2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32920" y="2743200"/>
            <a:ext cx="86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数点向左移动了一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7760" y="4114800"/>
            <a:ext cx="32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数点向左移动了 两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89920" y="5638680"/>
            <a:ext cx="31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数点向左移动了三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143000"/>
            <a:ext cx="8229600" cy="192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个小数除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只要把这个小数的小数点向左移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位、两位、三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4640" y="4508640"/>
            <a:ext cx="833472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数的小数点向左移动一位、两位、三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是把这个小数乘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360600" y="380880"/>
            <a:ext cx="42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面是几种交通工具的行驶速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1219320"/>
          <a:ext cx="9144000" cy="1279440"/>
        </p:xfrm>
        <a:graphic>
          <a:graphicData uri="http://schemas.openxmlformats.org/drawingml/2006/table">
            <a:tbl>
              <a:tblPr/>
              <a:tblGrid>
                <a:gridCol w="2971800"/>
                <a:gridCol w="2514600"/>
                <a:gridCol w="251460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通工具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喷气式飞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磁悬浮列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轿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速度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米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秒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20968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8769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00 ÷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       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3840" y="5791320"/>
            <a:ext cx="45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小数点向左移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39560" y="3962520"/>
            <a:ext cx="402984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是怎样想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小组里交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0"/>
            <a:ext cx="106704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304920"/>
            <a:ext cx="685800" cy="685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467480" y="4038480"/>
          <a:ext cx="12193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038480"/>
                    <a:ext cx="1219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705720" y="4724280"/>
          <a:ext cx="59040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724280"/>
                    <a:ext cx="590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821600" y="2590920"/>
            <a:ext cx="40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喷气式飞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秒飞行多少千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2560" y="32767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 0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5 0 0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 0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.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.0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.5 0 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0.5 0 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724280"/>
            <a:ext cx="571500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0.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4952880"/>
            <a:ext cx="563868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00÷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   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2560" y="4724280"/>
            <a:ext cx="1323720" cy="1008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0.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60600" y="380880"/>
            <a:ext cx="42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面是几种交通工具的行驶速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219320"/>
          <a:ext cx="9144000" cy="1279440"/>
        </p:xfrm>
        <a:graphic>
          <a:graphicData uri="http://schemas.openxmlformats.org/drawingml/2006/table">
            <a:tbl>
              <a:tblPr/>
              <a:tblGrid>
                <a:gridCol w="2971800"/>
                <a:gridCol w="2514600"/>
                <a:gridCol w="251460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通工具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喷气式飞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磁悬浮列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轿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速度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米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秒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2021760" y="5791320"/>
            <a:ext cx="45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小数点向左移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781680" y="3276720"/>
          <a:ext cx="1219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27672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821600" y="2590920"/>
            <a:ext cx="40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喷气式飞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秒行驶多少千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3960" y="4876920"/>
            <a:ext cx="12096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8480" y="2590920"/>
            <a:ext cx="155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磁悬浮列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3960" y="327672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876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0"/>
          <a:ext cx="2286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533520" y="228600"/>
            <a:ext cx="16761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360600" y="380880"/>
            <a:ext cx="42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面是几种交通工具的行驶速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219320"/>
          <a:ext cx="9144000" cy="1279440"/>
        </p:xfrm>
        <a:graphic>
          <a:graphicData uri="http://schemas.openxmlformats.org/drawingml/2006/table">
            <a:tbl>
              <a:tblPr/>
              <a:tblGrid>
                <a:gridCol w="2971800"/>
                <a:gridCol w="2514600"/>
                <a:gridCol w="251460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通工具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喷气式飞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磁悬浮列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轿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速度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米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秒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013840" y="5791320"/>
            <a:ext cx="42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小数点向左移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320040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81680" y="3276720"/>
          <a:ext cx="12193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27672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685800" y="25621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磁悬浮列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每秒行驶多少千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3960" y="4876920"/>
            <a:ext cx="9810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590920"/>
            <a:ext cx="2361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轿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960" y="32767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4876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2286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33520" y="228600"/>
            <a:ext cx="16761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11200" y="22860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填写下表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51000" y="3657600"/>
            <a:ext cx="51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先填上合适的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再说说你是怎样想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343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2.2÷(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42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0"/>
          <a:ext cx="22860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2286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62120" y="228600"/>
            <a:ext cx="16761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05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0"/>
          <a:ext cx="7621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762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0880" y="1143000"/>
          <a:ext cx="8457840" cy="2558880"/>
        </p:xfrm>
        <a:graphic>
          <a:graphicData uri="http://schemas.openxmlformats.org/drawingml/2006/table">
            <a:tbl>
              <a:tblPr/>
              <a:tblGrid>
                <a:gridCol w="1914840"/>
                <a:gridCol w="1595880"/>
                <a:gridCol w="1755360"/>
                <a:gridCol w="1516320"/>
                <a:gridCol w="1675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.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÷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÷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÷ 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2516040" y="152280"/>
            <a:ext cx="5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8640" y="3657600"/>
            <a:ext cx="5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43434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2.2÷( 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1022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50292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17÷(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0217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50292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÷(      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1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7913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48÷(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348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57913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40÷(        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54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9720" y="17524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5.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9720" y="2438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5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3760" y="30481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15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2560" y="17524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2560" y="2438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3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9920" y="30481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3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5040" y="17524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2760" y="24382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6440" y="30481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5600" y="1752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97880" y="23623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5240" y="3048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2000" y="4343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2000" y="50292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2000" y="5791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4000" y="4343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9080" y="50292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7680" y="57913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90760" y="190512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直接说出得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960" y="369396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066680"/>
            <a:ext cx="16765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05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609480"/>
          <a:ext cx="762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62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8640" y="1828800"/>
            <a:ext cx="5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5910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000" y="2514600"/>
            <a:ext cx="26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6.3 ÷ 1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320" y="312408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6.5 ÷ 10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8320" y="373392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0 ÷ 100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65400" y="251460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0.03 ÷ 1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65400" y="31240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4 ÷ 10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67200" y="37339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8.9 ÷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5520" y="25146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312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16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1840" y="37339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6640" y="25146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6640" y="31240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8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68920" y="37339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.02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1600200"/>
            <a:ext cx="8458200" cy="192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个小数除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只要把这个小数的小数点向左移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位、两位、三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292640"/>
            <a:ext cx="8534160" cy="131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数的小数点向左移动一位、两位、三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是把这个小数乘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8600"/>
            <a:ext cx="2514600" cy="9144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28600"/>
            <a:ext cx="6019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62080" y="304920"/>
            <a:ext cx="39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这节课你又知道了什么呢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1:26:56Z</dcterms:created>
  <dc:creator>wx</dc:creator>
  <dc:description/>
  <dc:language>en-US</dc:language>
  <cp:lastModifiedBy>lzj</cp:lastModifiedBy>
  <dcterms:modified xsi:type="dcterms:W3CDTF">2008-11-04T06:59:53Z</dcterms:modified>
  <cp:revision>27</cp:revision>
  <dc:subject/>
  <dc:title>PowerPoint 演示文稿</dc:title>
</cp:coreProperties>
</file>