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gif" ContentType="image/gif"/>
  <Override PartName="/ppt/media/image9.gif" ContentType="image/gif"/>
  <Override PartName="/ppt/media/chimes.wav" ContentType="audio/x-wav"/>
  <Override PartName="/ppt/media/wind.wav" ContentType="audio/x-wav"/>
  <Override PartName="/ppt/media/image7.png" ContentType="image/png"/>
  <Override PartName="/ppt/media/camera.wav" ContentType="audio/x-wav"/>
  <Override PartName="/ppt/media/image17.gif" ContentType="image/gif"/>
  <Override PartName="/ppt/media/image6.png" ContentType="image/png"/>
  <Override PartName="/ppt/media/image16.gif" ContentType="image/gif"/>
  <Override PartName="/ppt/media/image2.png" ContentType="image/png"/>
  <Override PartName="/ppt/media/image15.gif" ContentType="image/gif"/>
  <Override PartName="/ppt/media/image1.png" ContentType="image/png"/>
  <Override PartName="/ppt/media/image13.jpeg" ContentType="image/jpeg"/>
  <Override PartName="/ppt/media/image4.png" ContentType="image/png"/>
  <Override PartName="/ppt/media/image14.gif" ContentType="image/gif"/>
  <Override PartName="/ppt/media/type.wav" ContentType="audio/x-wav"/>
  <Override PartName="/ppt/media/image12.gif" ContentType="image/gif"/>
  <Override PartName="/ppt/media/image11.jpeg" ContentType="image/jpeg"/>
  <Override PartName="/ppt/media/image3.png" ContentType="image/png"/>
  <Override PartName="/ppt/media/image8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5D38-213E-47E5-B15C-3766FD19C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474B-B15C-4223-A44A-F9C26EBEF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1250-B8E7-4B6A-8F4E-2538CE1A3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41F0-4F73-453C-8FFF-73198E510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0CD07-372C-4ED1-9BC9-B2D152D27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D704E-C0EF-4E6B-BA58-12D0C07C0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C8163-F138-486D-B462-E326880E7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A2A1D-6343-4040-95DE-E0EA76294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24814-271F-4E3A-8EAF-EF0DC8FB3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DFE84-8A52-4C94-835E-4FAB961AB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8F4E6-D706-40AE-B97D-DC6429320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829D-0AF8-41B5-A056-8F41FFC56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14F6A-143E-4367-854D-A6A3183D5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C6382-56F3-44C7-82F4-631C330A8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70370-AB57-41EB-A430-E7038A93B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6C2BE-0059-45A7-99B5-7A7C53CBD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98542-A544-4A9D-B084-75404B008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9116-6BB9-4A08-8666-3E6454E69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CF2B-76AA-4DA2-8BAD-2F1A9F6B4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C2E8-6D97-4A01-949B-E7ABAC717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4DB7-0574-481F-99B8-CD4221570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F021-F3FF-4F5A-B5FD-6EF3C0E9C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BBBB-4A4B-47D4-97C0-9CF03F924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52F4-8343-4035-A716-19982E21B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442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" descr=""/>
            <p:cNvPicPr/>
            <p:nvPr/>
          </p:nvPicPr>
          <p:blipFill>
            <a:blip r:embed="rId4"/>
            <a:stretch/>
          </p:blipFill>
          <p:spPr>
            <a:xfrm>
              <a:off x="439560" y="0"/>
              <a:ext cx="8271000" cy="38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" name="" descr=""/>
            <p:cNvPicPr/>
            <p:nvPr/>
          </p:nvPicPr>
          <p:blipFill>
            <a:blip r:embed="rId5"/>
            <a:stretch/>
          </p:blipFill>
          <p:spPr>
            <a:xfrm>
              <a:off x="8702640" y="0"/>
              <a:ext cx="44136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" name="" descr=""/>
            <p:cNvPicPr/>
            <p:nvPr/>
          </p:nvPicPr>
          <p:blipFill>
            <a:blip r:embed="rId6"/>
            <a:stretch/>
          </p:blipFill>
          <p:spPr>
            <a:xfrm>
              <a:off x="419040" y="6454800"/>
              <a:ext cx="8285400" cy="40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93122-07AF-4A73-92B2-5E59C8255CE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7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442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" descr=""/>
            <p:cNvPicPr/>
            <p:nvPr/>
          </p:nvPicPr>
          <p:blipFill>
            <a:blip r:embed="rId4"/>
            <a:stretch/>
          </p:blipFill>
          <p:spPr>
            <a:xfrm>
              <a:off x="439560" y="0"/>
              <a:ext cx="8271000" cy="38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" descr=""/>
            <p:cNvPicPr/>
            <p:nvPr/>
          </p:nvPicPr>
          <p:blipFill>
            <a:blip r:embed="rId5"/>
            <a:stretch/>
          </p:blipFill>
          <p:spPr>
            <a:xfrm>
              <a:off x="8702640" y="0"/>
              <a:ext cx="44136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" descr=""/>
            <p:cNvPicPr/>
            <p:nvPr/>
          </p:nvPicPr>
          <p:blipFill>
            <a:blip r:embed="rId6"/>
            <a:stretch/>
          </p:blipFill>
          <p:spPr>
            <a:xfrm>
              <a:off x="419040" y="6454800"/>
              <a:ext cx="8285400" cy="403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1" name="" descr=""/>
          <p:cNvPicPr/>
          <p:nvPr/>
        </p:nvPicPr>
        <p:blipFill>
          <a:blip r:embed="rId7"/>
          <a:stretch/>
        </p:blipFill>
        <p:spPr>
          <a:xfrm>
            <a:off x="914400" y="685800"/>
            <a:ext cx="7316640" cy="548784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5C051-82C3-44C2-8DC0-1323A09222A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himes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audio" Target="../media/camera.wav"/><Relationship Id="rId12" Type="http://schemas.openxmlformats.org/officeDocument/2006/relationships/audio" Target="../media/camera.wav"/><Relationship Id="rId13" Type="http://schemas.openxmlformats.org/officeDocument/2006/relationships/audio" Target="../media/chimes.wav"/><Relationship Id="rId14" Type="http://schemas.openxmlformats.org/officeDocument/2006/relationships/audio" Target="../media/camera.wav"/><Relationship Id="rId15" Type="http://schemas.openxmlformats.org/officeDocument/2006/relationships/audio" Target="../media/chimes.wav"/><Relationship Id="rId16" Type="http://schemas.openxmlformats.org/officeDocument/2006/relationships/audio" Target="../media/camera.wav"/><Relationship Id="rId17" Type="http://schemas.openxmlformats.org/officeDocument/2006/relationships/audio" Target="../media/camera.wav"/><Relationship Id="rId18" Type="http://schemas.openxmlformats.org/officeDocument/2006/relationships/audio" Target="../media/camera.wav"/><Relationship Id="rId19" Type="http://schemas.openxmlformats.org/officeDocument/2006/relationships/audio" Target="../media/camera.wav"/><Relationship Id="rId20" Type="http://schemas.openxmlformats.org/officeDocument/2006/relationships/audio" Target="../media/chimes.wav"/><Relationship Id="rId21" Type="http://schemas.openxmlformats.org/officeDocument/2006/relationships/audio" Target="../media/camera.wav"/><Relationship Id="rId22" Type="http://schemas.openxmlformats.org/officeDocument/2006/relationships/audio" Target="../media/camera.wav"/><Relationship Id="rId23" Type="http://schemas.openxmlformats.org/officeDocument/2006/relationships/audio" Target="../media/camera.wav"/><Relationship Id="rId24" Type="http://schemas.openxmlformats.org/officeDocument/2006/relationships/audio" Target="../media/chimes.wav"/><Relationship Id="rId25" Type="http://schemas.openxmlformats.org/officeDocument/2006/relationships/audio" Target="../media/camera.wav"/><Relationship Id="rId26" Type="http://schemas.openxmlformats.org/officeDocument/2006/relationships/audio" Target="../media/chimes.wav"/><Relationship Id="rId27" Type="http://schemas.openxmlformats.org/officeDocument/2006/relationships/audio" Target="../media/chimes.wav"/><Relationship Id="rId28" Type="http://schemas.openxmlformats.org/officeDocument/2006/relationships/audio" Target="../media/camera.wav"/><Relationship Id="rId29" Type="http://schemas.openxmlformats.org/officeDocument/2006/relationships/audio" Target="../media/chimes.wav"/><Relationship Id="rId30" Type="http://schemas.openxmlformats.org/officeDocument/2006/relationships/audio" Target="../media/camera.wav"/><Relationship Id="rId3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gif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amera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amera.wav"/><Relationship Id="rId13" Type="http://schemas.openxmlformats.org/officeDocument/2006/relationships/audio" Target="../media/chimes.wav"/><Relationship Id="rId14" Type="http://schemas.openxmlformats.org/officeDocument/2006/relationships/audio" Target="../media/chimes.wav"/><Relationship Id="rId15" Type="http://schemas.openxmlformats.org/officeDocument/2006/relationships/audio" Target="../media/camera.wav"/><Relationship Id="rId16" Type="http://schemas.openxmlformats.org/officeDocument/2006/relationships/audio" Target="../media/chimes.wav"/><Relationship Id="rId17" Type="http://schemas.openxmlformats.org/officeDocument/2006/relationships/audio" Target="../media/chimes.wav"/><Relationship Id="rId18" Type="http://schemas.openxmlformats.org/officeDocument/2006/relationships/audio" Target="../media/camera.wav"/><Relationship Id="rId19" Type="http://schemas.openxmlformats.org/officeDocument/2006/relationships/audio" Target="../media/camera.wav"/><Relationship Id="rId20" Type="http://schemas.openxmlformats.org/officeDocument/2006/relationships/audio" Target="../media/camera.wav"/><Relationship Id="rId21" Type="http://schemas.openxmlformats.org/officeDocument/2006/relationships/audio" Target="../media/camera.wav"/><Relationship Id="rId22" Type="http://schemas.openxmlformats.org/officeDocument/2006/relationships/audio" Target="../media/camera.wav"/><Relationship Id="rId23" Type="http://schemas.openxmlformats.org/officeDocument/2006/relationships/audio" Target="../media/chimes.wav"/><Relationship Id="rId2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gif"/><Relationship Id="rId3" Type="http://schemas.openxmlformats.org/officeDocument/2006/relationships/image" Target="../media/image10.gif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gif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gif"/><Relationship Id="rId3" Type="http://schemas.openxmlformats.org/officeDocument/2006/relationships/audio" Target="../media/chimes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gif"/><Relationship Id="rId3" Type="http://schemas.openxmlformats.org/officeDocument/2006/relationships/image" Target="../media/image17.gif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" Target="slide6.xm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wind.wav"/><Relationship Id="rId3" Type="http://schemas.openxmlformats.org/officeDocument/2006/relationships/audio" Target="../media/wind.wav"/><Relationship Id="rId4" Type="http://schemas.openxmlformats.org/officeDocument/2006/relationships/audio" Target="../media/wind.wav"/><Relationship Id="rId5" Type="http://schemas.openxmlformats.org/officeDocument/2006/relationships/audio" Target="../media/wind.wav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amera.wav"/><Relationship Id="rId11" Type="http://schemas.openxmlformats.org/officeDocument/2006/relationships/audio" Target="../media/chimes.wav"/><Relationship Id="rId12" Type="http://schemas.openxmlformats.org/officeDocument/2006/relationships/audio" Target="../media/camera.wav"/><Relationship Id="rId13" Type="http://schemas.openxmlformats.org/officeDocument/2006/relationships/audio" Target="../media/chimes.wav"/><Relationship Id="rId1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audio" Target="../media/camera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1714680" y="3657600"/>
            <a:ext cx="57150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13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隶书"/>
              </a:rPr>
              <a:t>平行四边形面积的计算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2627280" y="1916280"/>
            <a:ext cx="36003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小学数学第九册</a:t>
            </a:r>
            <a:endParaRPr b="0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</p:spTree>
  </p:cSld>
  <p:transition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1752480" y="762120"/>
            <a:ext cx="5943600" cy="8794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隶书"/>
              </a:rPr>
              <a:t>动手操作　验证猜想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2971800" y="4572000"/>
            <a:ext cx="2666880" cy="1219320"/>
          </a:xfrm>
          <a:prstGeom prst="parallelogram">
            <a:avLst>
              <a:gd name="adj" fmla="val 546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3352680" y="4571640"/>
            <a:ext cx="1981080" cy="1219680"/>
            <a:chOff x="3352680" y="4571640"/>
            <a:chExt cx="1981080" cy="1219680"/>
          </a:xfrm>
        </p:grpSpPr>
        <p:grpSp>
          <p:nvGrpSpPr>
            <p:cNvPr id="237" name=""/>
            <p:cNvGrpSpPr/>
            <p:nvPr/>
          </p:nvGrpSpPr>
          <p:grpSpPr>
            <a:xfrm>
              <a:off x="3352680" y="4572000"/>
              <a:ext cx="304920" cy="1219320"/>
              <a:chOff x="3352680" y="4572000"/>
              <a:chExt cx="304920" cy="1219320"/>
            </a:xfrm>
          </p:grpSpPr>
          <p:sp>
            <p:nvSpPr>
              <p:cNvPr id="238" name=""/>
              <p:cNvSpPr/>
              <p:nvPr/>
            </p:nvSpPr>
            <p:spPr>
              <a:xfrm>
                <a:off x="3352680" y="4572000"/>
                <a:ext cx="0" cy="121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3352680" y="5791320"/>
                <a:ext cx="30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028840" y="4571640"/>
              <a:ext cx="304920" cy="1219320"/>
              <a:chOff x="5028840" y="4571640"/>
              <a:chExt cx="304920" cy="1219320"/>
            </a:xfrm>
          </p:grpSpPr>
          <p:sp>
            <p:nvSpPr>
              <p:cNvPr id="241" name=""/>
              <p:cNvSpPr/>
              <p:nvPr/>
            </p:nvSpPr>
            <p:spPr>
              <a:xfrm flipV="1">
                <a:off x="5333760" y="4571640"/>
                <a:ext cx="0" cy="121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flipH="1">
                <a:off x="5028840" y="4571640"/>
                <a:ext cx="30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3" name=""/>
          <p:cNvSpPr/>
          <p:nvPr/>
        </p:nvSpPr>
        <p:spPr>
          <a:xfrm flipH="1" flipV="1">
            <a:off x="2971800" y="4571280"/>
            <a:ext cx="380880" cy="685800"/>
          </a:xfrm>
          <a:prstGeom prst="rtTriangle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95480" y="5029200"/>
            <a:ext cx="304920" cy="762120"/>
          </a:xfrm>
          <a:custGeom>
            <a:avLst/>
            <a:gdLst>
              <a:gd name="textAreaLeft" fmla="*/ 40680 w 304920"/>
              <a:gd name="textAreaRight" fmla="*/ 264240 w 304920"/>
              <a:gd name="textAreaTop" fmla="*/ 133200 h 762120"/>
              <a:gd name="textAreaBottom" fmla="*/ 55260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flipV="1">
            <a:off x="5562720" y="4799880"/>
            <a:ext cx="304560" cy="762120"/>
          </a:xfrm>
          <a:custGeom>
            <a:avLst/>
            <a:gdLst>
              <a:gd name="textAreaLeft" fmla="*/ 40680 w 304560"/>
              <a:gd name="textAreaRight" fmla="*/ 263880 w 304560"/>
              <a:gd name="textAreaTop" fmla="*/ 132480 h 762120"/>
              <a:gd name="textAreaBottom" fmla="*/ 55440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38" stAng="-5400000" swAng="-5400000"/>
                <a:lnTo>
                  <a:pt x="0" y="11948"/>
                </a:lnTo>
                <a:arcTo wR="21600" hR="7538" stAng="10800000" swAng="-2677514"/>
                <a:lnTo>
                  <a:pt x="14400" y="21169"/>
                </a:lnTo>
                <a:lnTo>
                  <a:pt x="21600" y="17280"/>
                </a:lnTo>
                <a:lnTo>
                  <a:pt x="14400" y="12529"/>
                </a:lnTo>
                <a:lnTo>
                  <a:pt x="14400" y="14644"/>
                </a:lnTo>
                <a:arcTo wR="21600" hR="7538" stAng="8122486" swAng="2311908"/>
                <a:lnTo>
                  <a:pt x="945" y="9743"/>
                </a:lnTo>
                <a:arcTo wR="21600" hR="7538" stAng="-10434394" swAng="5034394"/>
                <a:close/>
              </a:path>
              <a:path fill="darkenLess" w="21600" h="21600">
                <a:moveTo>
                  <a:pt x="21600" y="0"/>
                </a:moveTo>
                <a:arcTo wR="21600" hR="7538" stAng="-5400000" swAng="-5400000"/>
                <a:lnTo>
                  <a:pt x="0" y="7538"/>
                </a:lnTo>
                <a:arcTo wR="21600" hR="7538" stAng="10800000" swAng="-365606"/>
                <a:lnTo>
                  <a:pt x="945" y="9743"/>
                </a:lnTo>
                <a:arcTo wR="21600" hR="7538" stAng="-10434394" swAng="5034394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334120" y="5257800"/>
            <a:ext cx="304560" cy="533520"/>
          </a:xfrm>
          <a:prstGeom prst="rtTriangle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2971800" y="4571280"/>
            <a:ext cx="380880" cy="685800"/>
          </a:xfrm>
          <a:prstGeom prst="rtTriangle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352680" y="5257800"/>
            <a:ext cx="304920" cy="533520"/>
          </a:xfrm>
          <a:prstGeom prst="rtTriangle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334120" y="5257800"/>
            <a:ext cx="304560" cy="533520"/>
          </a:xfrm>
          <a:prstGeom prst="rtTriangle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 flipV="1">
            <a:off x="4952160" y="4571280"/>
            <a:ext cx="381240" cy="685800"/>
          </a:xfrm>
          <a:prstGeom prst="rtTriangle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352680" y="4572000"/>
            <a:ext cx="1981440" cy="12193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 flipV="1">
            <a:off x="5791320" y="2761560"/>
            <a:ext cx="203040" cy="571320"/>
          </a:xfrm>
          <a:custGeom>
            <a:avLst/>
            <a:gdLst>
              <a:gd name="textAreaLeft" fmla="*/ 27000 w 203040"/>
              <a:gd name="textAreaRight" fmla="*/ 176040 w 203040"/>
              <a:gd name="textAreaTop" fmla="*/ 99360 h 571320"/>
              <a:gd name="textAreaBottom" fmla="*/ 414000 h 571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72200" y="3048120"/>
            <a:ext cx="406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3733200" y="2511360"/>
            <a:ext cx="2106360" cy="1071720"/>
          </a:xfrm>
          <a:prstGeom prst="parallelogram">
            <a:avLst>
              <a:gd name="adj" fmla="val 4913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581280" y="2940120"/>
            <a:ext cx="203400" cy="571320"/>
          </a:xfrm>
          <a:custGeom>
            <a:avLst/>
            <a:gdLst>
              <a:gd name="textAreaLeft" fmla="*/ 27000 w 203400"/>
              <a:gd name="textAreaRight" fmla="*/ 176400 w 203400"/>
              <a:gd name="textAreaTop" fmla="*/ 99720 h 571320"/>
              <a:gd name="textAreaBottom" fmla="*/ 414360 h 571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H="1" flipV="1">
            <a:off x="3733920" y="2516040"/>
            <a:ext cx="271440" cy="571680"/>
          </a:xfrm>
          <a:prstGeom prst="rtTriangle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562720" y="3048120"/>
            <a:ext cx="271440" cy="571320"/>
          </a:xfrm>
          <a:prstGeom prst="rtTriangle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114800" y="182880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剪、旋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086600" y="182880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5181480"/>
            <a:ext cx="76320" cy="76320"/>
          </a:xfrm>
          <a:prstGeom prst="flowChartConnector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257800" y="5181480"/>
            <a:ext cx="76320" cy="76320"/>
          </a:xfrm>
          <a:prstGeom prst="flowChartConnector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914400" y="2514600"/>
            <a:ext cx="2106720" cy="1071720"/>
          </a:xfrm>
          <a:prstGeom prst="parallelogram">
            <a:avLst>
              <a:gd name="adj" fmla="val 4914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219320" y="2513160"/>
            <a:ext cx="0" cy="53496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743200" y="3048120"/>
            <a:ext cx="0" cy="53316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371600" y="182880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073320" y="3048120"/>
            <a:ext cx="406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H="1" flipV="1">
            <a:off x="3733920" y="2514600"/>
            <a:ext cx="195120" cy="533520"/>
          </a:xfrm>
          <a:prstGeom prst="rtTriangle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638680" y="3048120"/>
            <a:ext cx="228600" cy="533160"/>
          </a:xfrm>
          <a:prstGeom prst="rtTriangle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562720" y="3048120"/>
            <a:ext cx="0" cy="53316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38480" y="2513160"/>
            <a:ext cx="0" cy="53496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6781680" y="2514600"/>
            <a:ext cx="1698840" cy="1143000"/>
            <a:chOff x="6781680" y="2514600"/>
            <a:chExt cx="1698840" cy="1143000"/>
          </a:xfrm>
        </p:grpSpPr>
        <p:grpSp>
          <p:nvGrpSpPr>
            <p:cNvPr id="272" name=""/>
            <p:cNvGrpSpPr/>
            <p:nvPr/>
          </p:nvGrpSpPr>
          <p:grpSpPr>
            <a:xfrm>
              <a:off x="6781680" y="2514600"/>
              <a:ext cx="1698840" cy="1143000"/>
              <a:chOff x="6781680" y="2514600"/>
              <a:chExt cx="1698840" cy="1143000"/>
            </a:xfrm>
          </p:grpSpPr>
          <p:sp>
            <p:nvSpPr>
              <p:cNvPr id="273" name=""/>
              <p:cNvSpPr/>
              <p:nvPr/>
            </p:nvSpPr>
            <p:spPr>
              <a:xfrm>
                <a:off x="6781680" y="3086280"/>
                <a:ext cx="271440" cy="571320"/>
              </a:xfrm>
              <a:prstGeom prst="rtTriangle">
                <a:avLst/>
              </a:prstGeom>
              <a:solidFill>
                <a:srgbClr val="ff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6781680" y="2514600"/>
                <a:ext cx="1698840" cy="11430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5" name=""/>
            <p:cNvSpPr/>
            <p:nvPr/>
          </p:nvSpPr>
          <p:spPr>
            <a:xfrm flipH="1" flipV="1">
              <a:off x="8152560" y="2514600"/>
              <a:ext cx="304920" cy="533520"/>
            </a:xfrm>
            <a:prstGeom prst="rtTriangle">
              <a:avLst/>
            </a:prstGeom>
            <a:solidFill>
              <a:srgbClr val="ff3399"/>
            </a:solidFill>
            <a:ln w="1908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blinds dir="vert"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1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500"/>
                            </p:stCondLst>
                            <p:childTnLst>
                              <p:par>
                                <p:cTn id="23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5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000"/>
                            </p:stCondLst>
                            <p:childTnLst>
                              <p:par>
                                <p:cTn id="23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9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4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7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1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7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9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6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1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500"/>
                            </p:stCondLst>
                            <p:childTnLst>
                              <p:par>
                                <p:cTn id="3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1000"/>
                            </p:stCondLst>
                            <p:childTnLst>
                              <p:par>
                                <p:cTn id="3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3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3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1500"/>
                            </p:stCondLst>
                            <p:childTnLst>
                              <p:par>
                                <p:cTn id="3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500"/>
                            </p:stCondLst>
                            <p:childTnLst>
                              <p:par>
                                <p:cTn id="348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50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3000"/>
                            </p:stCondLst>
                            <p:childTnLst>
                              <p:par>
                                <p:cTn id="3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3500"/>
                            </p:stCondLst>
                            <p:childTnLst>
                              <p:par>
                                <p:cTn id="3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2438280" y="3581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419720" y="3581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38680" y="3581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05720" y="3505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1447920" y="1066680"/>
            <a:ext cx="6172200" cy="1828800"/>
            <a:chOff x="1447920" y="1066680"/>
            <a:chExt cx="6172200" cy="1828800"/>
          </a:xfrm>
        </p:grpSpPr>
        <p:grpSp>
          <p:nvGrpSpPr>
            <p:cNvPr id="281" name=""/>
            <p:cNvGrpSpPr/>
            <p:nvPr/>
          </p:nvGrpSpPr>
          <p:grpSpPr>
            <a:xfrm>
              <a:off x="1517760" y="1066680"/>
              <a:ext cx="6102000" cy="438120"/>
              <a:chOff x="1517760" y="1066680"/>
              <a:chExt cx="6102000" cy="438120"/>
            </a:xfrm>
          </p:grpSpPr>
          <p:sp>
            <p:nvSpPr>
              <p:cNvPr id="282" name=""/>
              <p:cNvSpPr/>
              <p:nvPr/>
            </p:nvSpPr>
            <p:spPr>
              <a:xfrm>
                <a:off x="1517760" y="1066680"/>
                <a:ext cx="1663920" cy="438120"/>
              </a:xfrm>
              <a:prstGeom prst="parallelogram">
                <a:avLst>
                  <a:gd name="adj" fmla="val 9494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3251160" y="1322280"/>
                <a:ext cx="484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875400" y="1066680"/>
                <a:ext cx="1663920" cy="438120"/>
              </a:xfrm>
              <a:prstGeom prst="parallelogram">
                <a:avLst>
                  <a:gd name="adj" fmla="val 9494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4291560" y="1066680"/>
                <a:ext cx="0" cy="438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flipH="1">
                <a:off x="3874680" y="1066680"/>
                <a:ext cx="415800" cy="438120"/>
              </a:xfrm>
              <a:prstGeom prst="rtTriangle">
                <a:avLst/>
              </a:prstGeom>
              <a:solidFill>
                <a:srgbClr val="ff0066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5608800" y="1322280"/>
                <a:ext cx="485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6302160" y="1066680"/>
                <a:ext cx="1317600" cy="438120"/>
              </a:xfrm>
              <a:prstGeom prst="parallelogram">
                <a:avLst>
                  <a:gd name="adj" fmla="val 1573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flipH="1">
                <a:off x="7203240" y="1066680"/>
                <a:ext cx="415800" cy="438120"/>
              </a:xfrm>
              <a:prstGeom prst="rtTriangle">
                <a:avLst/>
              </a:prstGeom>
              <a:solidFill>
                <a:srgbClr val="ff0066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933560" y="1066680"/>
                <a:ext cx="0" cy="438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1" name=""/>
            <p:cNvGrpSpPr/>
            <p:nvPr/>
          </p:nvGrpSpPr>
          <p:grpSpPr>
            <a:xfrm>
              <a:off x="1447920" y="1724040"/>
              <a:ext cx="6172200" cy="438120"/>
              <a:chOff x="1447920" y="1724040"/>
              <a:chExt cx="6172200" cy="438120"/>
            </a:xfrm>
          </p:grpSpPr>
          <p:grpSp>
            <p:nvGrpSpPr>
              <p:cNvPr id="292" name=""/>
              <p:cNvGrpSpPr/>
              <p:nvPr/>
            </p:nvGrpSpPr>
            <p:grpSpPr>
              <a:xfrm>
                <a:off x="1447920" y="1724040"/>
                <a:ext cx="6172200" cy="438120"/>
                <a:chOff x="1447920" y="1724040"/>
                <a:chExt cx="6172200" cy="438120"/>
              </a:xfrm>
            </p:grpSpPr>
            <p:grpSp>
              <p:nvGrpSpPr>
                <p:cNvPr id="293" name=""/>
                <p:cNvGrpSpPr/>
                <p:nvPr/>
              </p:nvGrpSpPr>
              <p:grpSpPr>
                <a:xfrm>
                  <a:off x="1447920" y="1724040"/>
                  <a:ext cx="6172200" cy="438120"/>
                  <a:chOff x="1447920" y="1724040"/>
                  <a:chExt cx="6172200" cy="438120"/>
                </a:xfrm>
              </p:grpSpPr>
              <p:grpSp>
                <p:nvGrpSpPr>
                  <p:cNvPr id="294" name=""/>
                  <p:cNvGrpSpPr/>
                  <p:nvPr/>
                </p:nvGrpSpPr>
                <p:grpSpPr>
                  <a:xfrm>
                    <a:off x="1447920" y="1724040"/>
                    <a:ext cx="1913400" cy="438120"/>
                    <a:chOff x="1447920" y="1724040"/>
                    <a:chExt cx="1913400" cy="438120"/>
                  </a:xfrm>
                </p:grpSpPr>
                <p:sp>
                  <p:nvSpPr>
                    <p:cNvPr id="295" name=""/>
                    <p:cNvSpPr/>
                    <p:nvPr/>
                  </p:nvSpPr>
                  <p:spPr>
                    <a:xfrm>
                      <a:off x="1447920" y="1724040"/>
                      <a:ext cx="1913400" cy="438120"/>
                    </a:xfrm>
                    <a:prstGeom prst="parallelogram">
                      <a:avLst>
                        <a:gd name="adj" fmla="val 109182"/>
                      </a:avLst>
                    </a:prstGeom>
                    <a:noFill/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6" name=""/>
                    <p:cNvSpPr/>
                    <p:nvPr/>
                  </p:nvSpPr>
                  <p:spPr>
                    <a:xfrm>
                      <a:off x="2435400" y="1724040"/>
                      <a:ext cx="0" cy="43812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97" name=""/>
                  <p:cNvSpPr/>
                  <p:nvPr/>
                </p:nvSpPr>
                <p:spPr>
                  <a:xfrm>
                    <a:off x="3361320" y="1957680"/>
                    <a:ext cx="4320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8" name=""/>
                  <p:cNvSpPr/>
                  <p:nvPr/>
                </p:nvSpPr>
                <p:spPr>
                  <a:xfrm>
                    <a:off x="5645160" y="1957680"/>
                    <a:ext cx="4316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" name=""/>
                  <p:cNvSpPr/>
                  <p:nvPr/>
                </p:nvSpPr>
                <p:spPr>
                  <a:xfrm>
                    <a:off x="6262200" y="1724040"/>
                    <a:ext cx="1357920" cy="43812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00" name=""/>
                  <p:cNvGrpSpPr/>
                  <p:nvPr/>
                </p:nvGrpSpPr>
                <p:grpSpPr>
                  <a:xfrm>
                    <a:off x="3731400" y="1724040"/>
                    <a:ext cx="1913400" cy="438120"/>
                    <a:chOff x="3731400" y="1724040"/>
                    <a:chExt cx="1913400" cy="438120"/>
                  </a:xfrm>
                </p:grpSpPr>
                <p:sp>
                  <p:nvSpPr>
                    <p:cNvPr id="301" name=""/>
                    <p:cNvSpPr/>
                    <p:nvPr/>
                  </p:nvSpPr>
                  <p:spPr>
                    <a:xfrm>
                      <a:off x="3731400" y="1724040"/>
                      <a:ext cx="1913400" cy="438120"/>
                    </a:xfrm>
                    <a:prstGeom prst="parallelogram">
                      <a:avLst>
                        <a:gd name="adj" fmla="val 109182"/>
                      </a:avLst>
                    </a:prstGeom>
                    <a:noFill/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2" name=""/>
                    <p:cNvSpPr/>
                    <p:nvPr/>
                  </p:nvSpPr>
                  <p:spPr>
                    <a:xfrm>
                      <a:off x="4718880" y="1724040"/>
                      <a:ext cx="0" cy="43812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03" name=""/>
                  <p:cNvGrpSpPr/>
                  <p:nvPr/>
                </p:nvGrpSpPr>
                <p:grpSpPr>
                  <a:xfrm>
                    <a:off x="3731040" y="1724040"/>
                    <a:ext cx="987480" cy="438120"/>
                    <a:chOff x="3731040" y="1724040"/>
                    <a:chExt cx="987480" cy="438120"/>
                  </a:xfrm>
                </p:grpSpPr>
                <p:sp>
                  <p:nvSpPr>
                    <p:cNvPr id="304" name=""/>
                    <p:cNvSpPr/>
                    <p:nvPr/>
                  </p:nvSpPr>
                  <p:spPr>
                    <a:xfrm>
                      <a:off x="4224960" y="1724040"/>
                      <a:ext cx="493560" cy="438120"/>
                    </a:xfrm>
                    <a:prstGeom prst="rect">
                      <a:avLst/>
                    </a:prstGeom>
                    <a:solidFill>
                      <a:srgbClr val="0000ff"/>
                    </a:solidFill>
                    <a:ln w="1260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5" name=""/>
                    <p:cNvSpPr/>
                    <p:nvPr/>
                  </p:nvSpPr>
                  <p:spPr>
                    <a:xfrm flipH="1">
                      <a:off x="3730680" y="1724040"/>
                      <a:ext cx="493560" cy="438120"/>
                    </a:xfrm>
                    <a:prstGeom prst="rtTriangle">
                      <a:avLst/>
                    </a:prstGeom>
                    <a:solidFill>
                      <a:srgbClr val="0000ff"/>
                    </a:solidFill>
                    <a:ln w="1260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06" name=""/>
                  <p:cNvGrpSpPr/>
                  <p:nvPr/>
                </p:nvGrpSpPr>
                <p:grpSpPr>
                  <a:xfrm>
                    <a:off x="6631920" y="1724040"/>
                    <a:ext cx="987480" cy="438120"/>
                    <a:chOff x="6631920" y="1724040"/>
                    <a:chExt cx="987480" cy="438120"/>
                  </a:xfrm>
                </p:grpSpPr>
                <p:sp>
                  <p:nvSpPr>
                    <p:cNvPr id="307" name=""/>
                    <p:cNvSpPr/>
                    <p:nvPr/>
                  </p:nvSpPr>
                  <p:spPr>
                    <a:xfrm>
                      <a:off x="7125840" y="1724040"/>
                      <a:ext cx="493560" cy="438120"/>
                    </a:xfrm>
                    <a:prstGeom prst="rect">
                      <a:avLst/>
                    </a:prstGeom>
                    <a:solidFill>
                      <a:srgbClr val="0000ff"/>
                    </a:solidFill>
                    <a:ln w="1260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8" name=""/>
                    <p:cNvSpPr/>
                    <p:nvPr/>
                  </p:nvSpPr>
                  <p:spPr>
                    <a:xfrm flipH="1">
                      <a:off x="6631560" y="1724040"/>
                      <a:ext cx="493560" cy="438120"/>
                    </a:xfrm>
                    <a:prstGeom prst="rtTriangle">
                      <a:avLst/>
                    </a:prstGeom>
                    <a:solidFill>
                      <a:srgbClr val="0000ff"/>
                    </a:solidFill>
                    <a:ln w="1260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309" name=""/>
                <p:cNvGrpSpPr/>
                <p:nvPr/>
              </p:nvGrpSpPr>
              <p:grpSpPr>
                <a:xfrm>
                  <a:off x="1447920" y="1724040"/>
                  <a:ext cx="1913400" cy="438120"/>
                  <a:chOff x="1447920" y="1724040"/>
                  <a:chExt cx="1913400" cy="438120"/>
                </a:xfrm>
              </p:grpSpPr>
              <p:sp>
                <p:nvSpPr>
                  <p:cNvPr id="310" name=""/>
                  <p:cNvSpPr/>
                  <p:nvPr/>
                </p:nvSpPr>
                <p:spPr>
                  <a:xfrm>
                    <a:off x="1447920" y="1724040"/>
                    <a:ext cx="1913400" cy="438120"/>
                  </a:xfrm>
                  <a:prstGeom prst="parallelogram">
                    <a:avLst>
                      <a:gd name="adj" fmla="val 109182"/>
                    </a:avLst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2435400" y="1724040"/>
                    <a:ext cx="0" cy="4381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2" name=""/>
                <p:cNvSpPr/>
                <p:nvPr/>
              </p:nvSpPr>
              <p:spPr>
                <a:xfrm>
                  <a:off x="3361320" y="1957680"/>
                  <a:ext cx="432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5645160" y="1957680"/>
                  <a:ext cx="431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6262200" y="1724040"/>
                  <a:ext cx="1357920" cy="43812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15" name=""/>
                <p:cNvGrpSpPr/>
                <p:nvPr/>
              </p:nvGrpSpPr>
              <p:grpSpPr>
                <a:xfrm>
                  <a:off x="3731400" y="1724040"/>
                  <a:ext cx="1913400" cy="438120"/>
                  <a:chOff x="3731400" y="1724040"/>
                  <a:chExt cx="1913400" cy="438120"/>
                </a:xfrm>
              </p:grpSpPr>
              <p:sp>
                <p:nvSpPr>
                  <p:cNvPr id="316" name=""/>
                  <p:cNvSpPr/>
                  <p:nvPr/>
                </p:nvSpPr>
                <p:spPr>
                  <a:xfrm>
                    <a:off x="3731400" y="1724040"/>
                    <a:ext cx="1913400" cy="438120"/>
                  </a:xfrm>
                  <a:prstGeom prst="parallelogram">
                    <a:avLst>
                      <a:gd name="adj" fmla="val 109182"/>
                    </a:avLst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4718880" y="1724040"/>
                    <a:ext cx="0" cy="4381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8" name=""/>
                <p:cNvGrpSpPr/>
                <p:nvPr/>
              </p:nvGrpSpPr>
              <p:grpSpPr>
                <a:xfrm>
                  <a:off x="3731040" y="1724040"/>
                  <a:ext cx="987480" cy="438120"/>
                  <a:chOff x="3731040" y="1724040"/>
                  <a:chExt cx="987480" cy="438120"/>
                </a:xfrm>
              </p:grpSpPr>
              <p:sp>
                <p:nvSpPr>
                  <p:cNvPr id="319" name=""/>
                  <p:cNvSpPr/>
                  <p:nvPr/>
                </p:nvSpPr>
                <p:spPr>
                  <a:xfrm>
                    <a:off x="4224960" y="1724040"/>
                    <a:ext cx="493560" cy="438120"/>
                  </a:xfrm>
                  <a:prstGeom prst="rect">
                    <a:avLst/>
                  </a:prstGeom>
                  <a:solidFill>
                    <a:srgbClr val="0000ff"/>
                  </a:solidFill>
                  <a:ln w="1260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0" name=""/>
                  <p:cNvSpPr/>
                  <p:nvPr/>
                </p:nvSpPr>
                <p:spPr>
                  <a:xfrm flipH="1">
                    <a:off x="3730680" y="1724040"/>
                    <a:ext cx="493560" cy="438120"/>
                  </a:xfrm>
                  <a:prstGeom prst="rtTriangle">
                    <a:avLst/>
                  </a:prstGeom>
                  <a:solidFill>
                    <a:srgbClr val="0000ff"/>
                  </a:solidFill>
                  <a:ln w="1260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21" name=""/>
                <p:cNvGrpSpPr/>
                <p:nvPr/>
              </p:nvGrpSpPr>
              <p:grpSpPr>
                <a:xfrm>
                  <a:off x="6631920" y="1724040"/>
                  <a:ext cx="987480" cy="438120"/>
                  <a:chOff x="6631920" y="1724040"/>
                  <a:chExt cx="987480" cy="438120"/>
                </a:xfrm>
              </p:grpSpPr>
              <p:sp>
                <p:nvSpPr>
                  <p:cNvPr id="322" name=""/>
                  <p:cNvSpPr/>
                  <p:nvPr/>
                </p:nvSpPr>
                <p:spPr>
                  <a:xfrm>
                    <a:off x="7125840" y="1724040"/>
                    <a:ext cx="493560" cy="438120"/>
                  </a:xfrm>
                  <a:prstGeom prst="rect">
                    <a:avLst/>
                  </a:prstGeom>
                  <a:solidFill>
                    <a:srgbClr val="0000ff"/>
                  </a:solidFill>
                  <a:ln w="1260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3" name=""/>
                  <p:cNvSpPr/>
                  <p:nvPr/>
                </p:nvSpPr>
                <p:spPr>
                  <a:xfrm flipH="1">
                    <a:off x="6631560" y="1724040"/>
                    <a:ext cx="493560" cy="438120"/>
                  </a:xfrm>
                  <a:prstGeom prst="rtTriangle">
                    <a:avLst/>
                  </a:prstGeom>
                  <a:solidFill>
                    <a:srgbClr val="0000ff"/>
                  </a:solidFill>
                  <a:ln w="1260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24" name=""/>
              <p:cNvGrpSpPr/>
              <p:nvPr/>
            </p:nvGrpSpPr>
            <p:grpSpPr>
              <a:xfrm>
                <a:off x="1447920" y="1724040"/>
                <a:ext cx="6172200" cy="438120"/>
                <a:chOff x="1447920" y="1724040"/>
                <a:chExt cx="6172200" cy="43812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1447920" y="1724040"/>
                  <a:ext cx="1913400" cy="438120"/>
                  <a:chOff x="1447920" y="1724040"/>
                  <a:chExt cx="1913400" cy="43812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1447920" y="1724040"/>
                    <a:ext cx="1913400" cy="438120"/>
                  </a:xfrm>
                  <a:prstGeom prst="parallelogram">
                    <a:avLst>
                      <a:gd name="adj" fmla="val 109182"/>
                    </a:avLst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2435400" y="1724040"/>
                    <a:ext cx="0" cy="4381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8" name=""/>
                <p:cNvSpPr/>
                <p:nvPr/>
              </p:nvSpPr>
              <p:spPr>
                <a:xfrm>
                  <a:off x="3361320" y="1957680"/>
                  <a:ext cx="432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5645160" y="1957680"/>
                  <a:ext cx="431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6262200" y="1724040"/>
                  <a:ext cx="1357920" cy="43812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31" name=""/>
                <p:cNvGrpSpPr/>
                <p:nvPr/>
              </p:nvGrpSpPr>
              <p:grpSpPr>
                <a:xfrm>
                  <a:off x="3731400" y="1724040"/>
                  <a:ext cx="1913400" cy="438120"/>
                  <a:chOff x="3731400" y="1724040"/>
                  <a:chExt cx="1913400" cy="438120"/>
                </a:xfrm>
              </p:grpSpPr>
              <p:sp>
                <p:nvSpPr>
                  <p:cNvPr id="332" name=""/>
                  <p:cNvSpPr/>
                  <p:nvPr/>
                </p:nvSpPr>
                <p:spPr>
                  <a:xfrm>
                    <a:off x="3731400" y="1724040"/>
                    <a:ext cx="1913400" cy="438120"/>
                  </a:xfrm>
                  <a:prstGeom prst="parallelogram">
                    <a:avLst>
                      <a:gd name="adj" fmla="val 109182"/>
                    </a:avLst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3" name=""/>
                  <p:cNvSpPr/>
                  <p:nvPr/>
                </p:nvSpPr>
                <p:spPr>
                  <a:xfrm>
                    <a:off x="4718880" y="1724040"/>
                    <a:ext cx="0" cy="4381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4" name=""/>
                <p:cNvGrpSpPr/>
                <p:nvPr/>
              </p:nvGrpSpPr>
              <p:grpSpPr>
                <a:xfrm>
                  <a:off x="3731040" y="1724040"/>
                  <a:ext cx="987480" cy="438120"/>
                  <a:chOff x="3731040" y="1724040"/>
                  <a:chExt cx="987480" cy="438120"/>
                </a:xfrm>
              </p:grpSpPr>
              <p:sp>
                <p:nvSpPr>
                  <p:cNvPr id="335" name=""/>
                  <p:cNvSpPr/>
                  <p:nvPr/>
                </p:nvSpPr>
                <p:spPr>
                  <a:xfrm>
                    <a:off x="4224960" y="1724040"/>
                    <a:ext cx="493560" cy="438120"/>
                  </a:xfrm>
                  <a:prstGeom prst="rect">
                    <a:avLst/>
                  </a:prstGeom>
                  <a:solidFill>
                    <a:srgbClr val="0000ff"/>
                  </a:solidFill>
                  <a:ln w="1260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6" name=""/>
                  <p:cNvSpPr/>
                  <p:nvPr/>
                </p:nvSpPr>
                <p:spPr>
                  <a:xfrm flipH="1">
                    <a:off x="3730680" y="1724040"/>
                    <a:ext cx="493560" cy="438120"/>
                  </a:xfrm>
                  <a:prstGeom prst="rtTriangle">
                    <a:avLst/>
                  </a:prstGeom>
                  <a:solidFill>
                    <a:srgbClr val="0000ff"/>
                  </a:solidFill>
                  <a:ln w="1260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7" name=""/>
                <p:cNvGrpSpPr/>
                <p:nvPr/>
              </p:nvGrpSpPr>
              <p:grpSpPr>
                <a:xfrm>
                  <a:off x="6631920" y="1724040"/>
                  <a:ext cx="987480" cy="438120"/>
                  <a:chOff x="6631920" y="1724040"/>
                  <a:chExt cx="987480" cy="438120"/>
                </a:xfrm>
              </p:grpSpPr>
              <p:sp>
                <p:nvSpPr>
                  <p:cNvPr id="338" name=""/>
                  <p:cNvSpPr/>
                  <p:nvPr/>
                </p:nvSpPr>
                <p:spPr>
                  <a:xfrm>
                    <a:off x="7125840" y="1724040"/>
                    <a:ext cx="493560" cy="438120"/>
                  </a:xfrm>
                  <a:prstGeom prst="rect">
                    <a:avLst/>
                  </a:prstGeom>
                  <a:solidFill>
                    <a:srgbClr val="0000ff"/>
                  </a:solidFill>
                  <a:ln w="1260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 flipH="1">
                    <a:off x="6631560" y="1724040"/>
                    <a:ext cx="493560" cy="438120"/>
                  </a:xfrm>
                  <a:prstGeom prst="rtTriangle">
                    <a:avLst/>
                  </a:prstGeom>
                  <a:solidFill>
                    <a:srgbClr val="0000ff"/>
                  </a:solidFill>
                  <a:ln w="1260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40" name=""/>
              <p:cNvGrpSpPr/>
              <p:nvPr/>
            </p:nvGrpSpPr>
            <p:grpSpPr>
              <a:xfrm>
                <a:off x="1447920" y="1724040"/>
                <a:ext cx="1913400" cy="438120"/>
                <a:chOff x="1447920" y="1724040"/>
                <a:chExt cx="1913400" cy="438120"/>
              </a:xfrm>
            </p:grpSpPr>
            <p:sp>
              <p:nvSpPr>
                <p:cNvPr id="341" name=""/>
                <p:cNvSpPr/>
                <p:nvPr/>
              </p:nvSpPr>
              <p:spPr>
                <a:xfrm>
                  <a:off x="1447920" y="1724040"/>
                  <a:ext cx="1913400" cy="438120"/>
                </a:xfrm>
                <a:prstGeom prst="parallelogram">
                  <a:avLst>
                    <a:gd name="adj" fmla="val 109182"/>
                  </a:avLst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2435400" y="1724040"/>
                  <a:ext cx="0" cy="438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3" name=""/>
              <p:cNvSpPr/>
              <p:nvPr/>
            </p:nvSpPr>
            <p:spPr>
              <a:xfrm>
                <a:off x="3361320" y="1957680"/>
                <a:ext cx="432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5645160" y="1957680"/>
                <a:ext cx="431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6262200" y="1724040"/>
                <a:ext cx="1357920" cy="4381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46" name=""/>
              <p:cNvGrpSpPr/>
              <p:nvPr/>
            </p:nvGrpSpPr>
            <p:grpSpPr>
              <a:xfrm>
                <a:off x="3731400" y="1724040"/>
                <a:ext cx="1913400" cy="438120"/>
                <a:chOff x="3731400" y="1724040"/>
                <a:chExt cx="1913400" cy="438120"/>
              </a:xfrm>
            </p:grpSpPr>
            <p:sp>
              <p:nvSpPr>
                <p:cNvPr id="347" name=""/>
                <p:cNvSpPr/>
                <p:nvPr/>
              </p:nvSpPr>
              <p:spPr>
                <a:xfrm>
                  <a:off x="3731400" y="1724040"/>
                  <a:ext cx="1913400" cy="438120"/>
                </a:xfrm>
                <a:prstGeom prst="parallelogram">
                  <a:avLst>
                    <a:gd name="adj" fmla="val 109182"/>
                  </a:avLst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4718880" y="1724040"/>
                  <a:ext cx="0" cy="438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9" name=""/>
              <p:cNvGrpSpPr/>
              <p:nvPr/>
            </p:nvGrpSpPr>
            <p:grpSpPr>
              <a:xfrm>
                <a:off x="3731040" y="1724040"/>
                <a:ext cx="987480" cy="438120"/>
                <a:chOff x="3731040" y="1724040"/>
                <a:chExt cx="987480" cy="438120"/>
              </a:xfrm>
            </p:grpSpPr>
            <p:sp>
              <p:nvSpPr>
                <p:cNvPr id="350" name=""/>
                <p:cNvSpPr/>
                <p:nvPr/>
              </p:nvSpPr>
              <p:spPr>
                <a:xfrm>
                  <a:off x="4224960" y="1724040"/>
                  <a:ext cx="493560" cy="43812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 flipH="1">
                  <a:off x="3730680" y="1724040"/>
                  <a:ext cx="493560" cy="438120"/>
                </a:xfrm>
                <a:prstGeom prst="rtTriangle">
                  <a:avLst/>
                </a:prstGeom>
                <a:solidFill>
                  <a:srgbClr val="0000ff"/>
                </a:solidFill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2" name=""/>
              <p:cNvGrpSpPr/>
              <p:nvPr/>
            </p:nvGrpSpPr>
            <p:grpSpPr>
              <a:xfrm>
                <a:off x="6631920" y="1724040"/>
                <a:ext cx="987480" cy="438120"/>
                <a:chOff x="6631920" y="1724040"/>
                <a:chExt cx="987480" cy="438120"/>
              </a:xfrm>
            </p:grpSpPr>
            <p:sp>
              <p:nvSpPr>
                <p:cNvPr id="353" name=""/>
                <p:cNvSpPr/>
                <p:nvPr/>
              </p:nvSpPr>
              <p:spPr>
                <a:xfrm>
                  <a:off x="7125840" y="1724040"/>
                  <a:ext cx="493560" cy="43812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 flipH="1">
                  <a:off x="6631560" y="1724040"/>
                  <a:ext cx="493560" cy="438120"/>
                </a:xfrm>
                <a:prstGeom prst="rtTriangle">
                  <a:avLst/>
                </a:prstGeom>
                <a:solidFill>
                  <a:srgbClr val="0000ff"/>
                </a:solidFill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55" name=""/>
            <p:cNvSpPr/>
            <p:nvPr/>
          </p:nvSpPr>
          <p:spPr>
            <a:xfrm flipH="1" flipV="1">
              <a:off x="5479920" y="2479680"/>
              <a:ext cx="162000" cy="264960"/>
            </a:xfrm>
            <a:custGeom>
              <a:avLst/>
              <a:gdLst>
                <a:gd name="textAreaLeft" fmla="*/ 21600 w 162000"/>
                <a:gd name="textAreaRight" fmla="*/ 140400 w 162000"/>
                <a:gd name="textAreaTop" fmla="*/ 46080 h 264960"/>
                <a:gd name="textAreaBottom" fmla="*/ 192240 h 264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783400" y="2611440"/>
              <a:ext cx="323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H="1">
              <a:off x="3842640" y="2362320"/>
              <a:ext cx="1676520" cy="498240"/>
            </a:xfrm>
            <a:prstGeom prst="parallelogram">
              <a:avLst>
                <a:gd name="adj" fmla="val 8412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722760" y="2562120"/>
              <a:ext cx="162000" cy="265320"/>
            </a:xfrm>
            <a:custGeom>
              <a:avLst/>
              <a:gdLst>
                <a:gd name="textAreaLeft" fmla="*/ 21600 w 162000"/>
                <a:gd name="textAreaRight" fmla="*/ 140400 w 162000"/>
                <a:gd name="textAreaTop" fmla="*/ 46440 h 265320"/>
                <a:gd name="textAreaBottom" fmla="*/ 192600 h 26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299200" y="2611440"/>
              <a:ext cx="215640" cy="266760"/>
            </a:xfrm>
            <a:prstGeom prst="rtTriangle">
              <a:avLst/>
            </a:prstGeom>
            <a:solidFill>
              <a:srgbClr val="ff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>
              <a:off x="1599480" y="2362320"/>
              <a:ext cx="1676520" cy="500040"/>
            </a:xfrm>
            <a:prstGeom prst="parallelogram">
              <a:avLst>
                <a:gd name="adj" fmla="val 8381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843200" y="2362320"/>
              <a:ext cx="0" cy="24912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056040" y="2611440"/>
              <a:ext cx="0" cy="24912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17760" y="2611440"/>
              <a:ext cx="32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H="1" flipV="1">
              <a:off x="3843360" y="2363760"/>
              <a:ext cx="155520" cy="247680"/>
            </a:xfrm>
            <a:prstGeom prst="rtTriangle">
              <a:avLst/>
            </a:prstGeom>
            <a:solidFill>
              <a:srgbClr val="ff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299200" y="2611440"/>
              <a:ext cx="0" cy="24912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086360" y="2362320"/>
              <a:ext cx="0" cy="24912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7" name=""/>
            <p:cNvGrpSpPr/>
            <p:nvPr/>
          </p:nvGrpSpPr>
          <p:grpSpPr>
            <a:xfrm>
              <a:off x="6269040" y="2363400"/>
              <a:ext cx="1351080" cy="532080"/>
              <a:chOff x="6269040" y="2363400"/>
              <a:chExt cx="1351080" cy="532080"/>
            </a:xfrm>
          </p:grpSpPr>
          <p:grpSp>
            <p:nvGrpSpPr>
              <p:cNvPr id="368" name=""/>
              <p:cNvGrpSpPr/>
              <p:nvPr/>
            </p:nvGrpSpPr>
            <p:grpSpPr>
              <a:xfrm>
                <a:off x="6269040" y="2363760"/>
                <a:ext cx="1351080" cy="531720"/>
                <a:chOff x="6269040" y="2363760"/>
                <a:chExt cx="1351080" cy="531720"/>
              </a:xfrm>
            </p:grpSpPr>
            <p:sp>
              <p:nvSpPr>
                <p:cNvPr id="369" name=""/>
                <p:cNvSpPr/>
                <p:nvPr/>
              </p:nvSpPr>
              <p:spPr>
                <a:xfrm>
                  <a:off x="6269040" y="2629800"/>
                  <a:ext cx="215640" cy="265680"/>
                </a:xfrm>
                <a:prstGeom prst="rtTriangle">
                  <a:avLst/>
                </a:prstGeom>
                <a:solidFill>
                  <a:srgbClr val="ff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6269040" y="2363760"/>
                  <a:ext cx="1351080" cy="5317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71" name=""/>
              <p:cNvSpPr/>
              <p:nvPr/>
            </p:nvSpPr>
            <p:spPr>
              <a:xfrm flipH="1" flipV="1">
                <a:off x="7359120" y="2363040"/>
                <a:ext cx="242280" cy="248040"/>
              </a:xfrm>
              <a:prstGeom prst="rtTriangle">
                <a:avLst/>
              </a:prstGeom>
              <a:solidFill>
                <a:srgbClr val="ff3399"/>
              </a:solidFill>
              <a:ln w="19080">
                <a:solidFill>
                  <a:srgbClr val="ff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72" name=""/>
          <p:cNvSpPr/>
          <p:nvPr/>
        </p:nvSpPr>
        <p:spPr>
          <a:xfrm>
            <a:off x="1828800" y="304812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平行四边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905120" y="3962520"/>
            <a:ext cx="12952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长方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038480" y="2971800"/>
            <a:ext cx="68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14800" y="3962520"/>
            <a:ext cx="533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334120" y="304812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181480" y="4038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095880" y="30481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面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095880" y="3962520"/>
            <a:ext cx="1143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面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800600" y="411480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411480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724280" y="312408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91320" y="3124080"/>
            <a:ext cx="533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4" name="" descr=""/>
          <p:cNvPicPr/>
          <p:nvPr/>
        </p:nvPicPr>
        <p:blipFill>
          <a:blip r:embed="rId2"/>
          <a:stretch/>
        </p:blipFill>
        <p:spPr>
          <a:xfrm>
            <a:off x="468360" y="2924280"/>
            <a:ext cx="896760" cy="914400"/>
          </a:xfrm>
          <a:prstGeom prst="rect">
            <a:avLst/>
          </a:prstGeom>
          <a:ln w="0">
            <a:noFill/>
          </a:ln>
        </p:spPr>
      </p:pic>
      <p:sp>
        <p:nvSpPr>
          <p:cNvPr id="385" name=""/>
          <p:cNvSpPr/>
          <p:nvPr/>
        </p:nvSpPr>
        <p:spPr>
          <a:xfrm>
            <a:off x="1905120" y="380880"/>
            <a:ext cx="914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429000" y="380880"/>
            <a:ext cx="914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029200" y="380880"/>
            <a:ext cx="914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移、旋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629400" y="380880"/>
            <a:ext cx="914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4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9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9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4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9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4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9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4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9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4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9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9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54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59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64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3124080" y="838080"/>
            <a:ext cx="2743200" cy="7621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18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隶书"/>
              </a:rPr>
              <a:t>实际应用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390" name=""/>
          <p:cNvSpPr/>
          <p:nvPr/>
        </p:nvSpPr>
        <p:spPr>
          <a:xfrm>
            <a:off x="990720" y="1905120"/>
            <a:ext cx="7086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例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：一块平行四边形钢板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,(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如图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它的面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是多少？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得数保留整数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116000" y="3657600"/>
            <a:ext cx="2590920" cy="1163520"/>
          </a:xfrm>
          <a:prstGeom prst="parallelogram">
            <a:avLst>
              <a:gd name="adj" fmla="val 5567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763640" y="3657600"/>
            <a:ext cx="0" cy="116352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233440" y="4748040"/>
            <a:ext cx="68400" cy="7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097000" y="3948120"/>
            <a:ext cx="109080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3.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892160" y="4748040"/>
            <a:ext cx="7509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4.8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962520" y="3124080"/>
            <a:ext cx="36576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.8×3.5≈1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平方米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答：它的面积约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平方米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1763640" y="4653000"/>
            <a:ext cx="144360" cy="176040"/>
            <a:chOff x="1763640" y="4653000"/>
            <a:chExt cx="144360" cy="176040"/>
          </a:xfrm>
        </p:grpSpPr>
        <p:sp>
          <p:nvSpPr>
            <p:cNvPr id="398" name=""/>
            <p:cNvSpPr/>
            <p:nvPr/>
          </p:nvSpPr>
          <p:spPr>
            <a:xfrm>
              <a:off x="1763640" y="465300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908000" y="4653000"/>
              <a:ext cx="0" cy="176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blinds dir="vert"/>
  </p:transition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71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2666880" y="762120"/>
            <a:ext cx="3429000" cy="6807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巩固练习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grpSp>
        <p:nvGrpSpPr>
          <p:cNvPr id="401" name=""/>
          <p:cNvGrpSpPr/>
          <p:nvPr/>
        </p:nvGrpSpPr>
        <p:grpSpPr>
          <a:xfrm>
            <a:off x="250920" y="1052640"/>
            <a:ext cx="7162200" cy="4647960"/>
            <a:chOff x="250920" y="1052640"/>
            <a:chExt cx="7162200" cy="4647960"/>
          </a:xfrm>
        </p:grpSpPr>
        <p:sp>
          <p:nvSpPr>
            <p:cNvPr id="402" name=""/>
            <p:cNvSpPr/>
            <p:nvPr/>
          </p:nvSpPr>
          <p:spPr>
            <a:xfrm>
              <a:off x="1164960" y="1204920"/>
              <a:ext cx="6248160" cy="449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</a:t>
              </a: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、判断，对的打“√”错的打“</a:t>
              </a: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×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⑴</a:t>
              </a: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平行四边形的面积用它的高乘对应的底</a:t>
              </a: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(  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⑵</a:t>
              </a: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一个平行四边形的底是</a:t>
              </a: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7</a:t>
              </a: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分米，高是</a:t>
              </a: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4</a:t>
              </a: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分米，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 </a:t>
              </a: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面积是</a:t>
              </a: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8</a:t>
              </a: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分米。 </a:t>
              </a: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(  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　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⑶</a:t>
              </a: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把一个平行四边形割补成长方形，它们的面积相等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03" name="" descr=""/>
            <p:cNvPicPr/>
            <p:nvPr/>
          </p:nvPicPr>
          <p:blipFill>
            <a:blip r:embed="rId2"/>
            <a:stretch/>
          </p:blipFill>
          <p:spPr>
            <a:xfrm>
              <a:off x="250920" y="1052640"/>
              <a:ext cx="815760" cy="69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4" name="" descr=""/>
            <p:cNvPicPr/>
            <p:nvPr/>
          </p:nvPicPr>
          <p:blipFill>
            <a:blip r:embed="rId3"/>
            <a:stretch/>
          </p:blipFill>
          <p:spPr>
            <a:xfrm>
              <a:off x="250920" y="3414600"/>
              <a:ext cx="815760" cy="690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5" name=""/>
          <p:cNvSpPr/>
          <p:nvPr/>
        </p:nvSpPr>
        <p:spPr>
          <a:xfrm>
            <a:off x="7164360" y="3471840"/>
            <a:ext cx="68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7020000" y="4221000"/>
            <a:ext cx="609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4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9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4952880" y="457200"/>
            <a:ext cx="31626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1779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宋体"/>
              </a:rPr>
              <a:t>做一做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09" name=""/>
          <p:cNvSpPr/>
          <p:nvPr/>
        </p:nvSpPr>
        <p:spPr>
          <a:xfrm>
            <a:off x="1752480" y="1752480"/>
            <a:ext cx="7162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　　　算出下面每个平行四边形的面积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438280" y="4419720"/>
            <a:ext cx="2819520" cy="1523880"/>
          </a:xfrm>
          <a:prstGeom prst="parallelogram">
            <a:avLst>
              <a:gd name="adj" fmla="val 46256"/>
            </a:avLst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厘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124080" y="4419720"/>
            <a:ext cx="0" cy="152388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124080" y="5791320"/>
            <a:ext cx="152640" cy="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276720" y="5791320"/>
            <a:ext cx="0" cy="15228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423960" y="6060960"/>
            <a:ext cx="7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厘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rot="16200000">
            <a:off x="476280" y="4857840"/>
            <a:ext cx="1790640" cy="1218960"/>
          </a:xfrm>
          <a:prstGeom prst="parallelogram">
            <a:avLst>
              <a:gd name="adj" fmla="val 36725"/>
            </a:avLst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762120" y="5943600"/>
            <a:ext cx="121896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28600" y="4724280"/>
            <a:ext cx="457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分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925200" y="5486400"/>
            <a:ext cx="100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3.6</a:t>
            </a: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分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807960" y="4267080"/>
            <a:ext cx="81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.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7927920" y="4420080"/>
            <a:ext cx="5461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3"/>
          <a:stretch/>
        </p:blipFill>
        <p:spPr>
          <a:xfrm>
            <a:off x="304920" y="0"/>
            <a:ext cx="2971800" cy="2722680"/>
          </a:xfrm>
          <a:prstGeom prst="rect">
            <a:avLst/>
          </a:prstGeom>
          <a:ln w="0">
            <a:noFill/>
          </a:ln>
        </p:spPr>
      </p:pic>
      <p:grpSp>
        <p:nvGrpSpPr>
          <p:cNvPr id="422" name=""/>
          <p:cNvGrpSpPr/>
          <p:nvPr/>
        </p:nvGrpSpPr>
        <p:grpSpPr>
          <a:xfrm>
            <a:off x="1905120" y="5943600"/>
            <a:ext cx="75960" cy="76320"/>
            <a:chOff x="1905120" y="5943600"/>
            <a:chExt cx="75960" cy="76320"/>
          </a:xfrm>
        </p:grpSpPr>
        <p:sp>
          <p:nvSpPr>
            <p:cNvPr id="423" name=""/>
            <p:cNvSpPr/>
            <p:nvPr/>
          </p:nvSpPr>
          <p:spPr>
            <a:xfrm>
              <a:off x="1905120" y="5943600"/>
              <a:ext cx="0" cy="76320"/>
            </a:xfrm>
            <a:prstGeom prst="line">
              <a:avLst/>
            </a:prstGeom>
            <a:ln w="93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905120" y="6019920"/>
              <a:ext cx="75960" cy="0"/>
            </a:xfrm>
            <a:prstGeom prst="line">
              <a:avLst/>
            </a:prstGeom>
            <a:ln w="93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5" name=""/>
          <p:cNvSpPr/>
          <p:nvPr/>
        </p:nvSpPr>
        <p:spPr>
          <a:xfrm flipH="1" rot="5400000">
            <a:off x="6037920" y="4171680"/>
            <a:ext cx="2400480" cy="1219320"/>
          </a:xfrm>
          <a:prstGeom prst="parallelogram">
            <a:avLst>
              <a:gd name="adj" fmla="val 49218"/>
            </a:avLst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629400" y="4191120"/>
            <a:ext cx="1219320" cy="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7696080" y="4191120"/>
            <a:ext cx="152640" cy="152280"/>
            <a:chOff x="7696080" y="4191120"/>
            <a:chExt cx="152640" cy="152280"/>
          </a:xfrm>
        </p:grpSpPr>
        <p:sp>
          <p:nvSpPr>
            <p:cNvPr id="428" name=""/>
            <p:cNvSpPr/>
            <p:nvPr/>
          </p:nvSpPr>
          <p:spPr>
            <a:xfrm>
              <a:off x="7696080" y="4191120"/>
              <a:ext cx="0" cy="152280"/>
            </a:xfrm>
            <a:prstGeom prst="line">
              <a:avLst/>
            </a:prstGeom>
            <a:ln w="93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696080" y="4343400"/>
              <a:ext cx="152640" cy="0"/>
            </a:xfrm>
            <a:prstGeom prst="line">
              <a:avLst/>
            </a:prstGeom>
            <a:ln w="93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0" name=""/>
          <p:cNvSpPr/>
          <p:nvPr/>
        </p:nvSpPr>
        <p:spPr>
          <a:xfrm>
            <a:off x="5817240" y="4876920"/>
            <a:ext cx="58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u"/>
  </p:transition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0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6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500"/>
                            </p:stCondLst>
                            <p:childTnLst>
                              <p:par>
                                <p:cTn id="5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1000"/>
                            </p:stCondLst>
                            <p:childTnLst>
                              <p:par>
                                <p:cTn id="5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1500"/>
                            </p:stCondLst>
                            <p:childTnLst>
                              <p:par>
                                <p:cTn id="5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2000"/>
                            </p:stCondLst>
                            <p:childTnLst>
                              <p:par>
                                <p:cTn id="5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2500"/>
                            </p:stCondLst>
                            <p:childTnLst>
                              <p:par>
                                <p:cTn id="5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3000"/>
                            </p:stCondLst>
                            <p:childTnLst>
                              <p:par>
                                <p:cTn id="5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3500"/>
                            </p:stCondLst>
                            <p:childTnLst>
                              <p:par>
                                <p:cTn id="5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4000"/>
                            </p:stCondLst>
                            <p:childTnLst>
                              <p:par>
                                <p:cTn id="5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4500"/>
                            </p:stCondLst>
                            <p:childTnLst>
                              <p:par>
                                <p:cTn id="5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5000"/>
                            </p:stCondLst>
                            <p:childTnLst>
                              <p:par>
                                <p:cTn id="5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5500"/>
                            </p:stCondLst>
                            <p:childTnLst>
                              <p:par>
                                <p:cTn id="5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6000"/>
                            </p:stCondLst>
                            <p:childTnLst>
                              <p:par>
                                <p:cTn id="5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6500"/>
                            </p:stCondLst>
                            <p:childTnLst>
                              <p:par>
                                <p:cTn id="5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7000"/>
                            </p:stCondLst>
                            <p:childTnLst>
                              <p:par>
                                <p:cTn id="5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7500"/>
                            </p:stCondLst>
                            <p:childTnLst>
                              <p:par>
                                <p:cTn id="5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8000"/>
                            </p:stCondLst>
                            <p:childTnLst>
                              <p:par>
                                <p:cTn id="5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432" name=""/>
          <p:cNvSpPr/>
          <p:nvPr/>
        </p:nvSpPr>
        <p:spPr>
          <a:xfrm>
            <a:off x="990720" y="3962520"/>
            <a:ext cx="4964040" cy="1912680"/>
          </a:xfrm>
          <a:custGeom>
            <a:avLst/>
            <a:gdLst/>
            <a:ahLst/>
            <a:rect l="l" t="t" r="r" b="b"/>
            <a:pathLst>
              <a:path w="3127" h="1205">
                <a:moveTo>
                  <a:pt x="788" y="176"/>
                </a:moveTo>
                <a:cubicBezTo>
                  <a:pt x="659" y="187"/>
                  <a:pt x="645" y="159"/>
                  <a:pt x="611" y="258"/>
                </a:cubicBezTo>
                <a:cubicBezTo>
                  <a:pt x="620" y="311"/>
                  <a:pt x="630" y="360"/>
                  <a:pt x="647" y="411"/>
                </a:cubicBezTo>
                <a:cubicBezTo>
                  <a:pt x="643" y="435"/>
                  <a:pt x="656" y="470"/>
                  <a:pt x="635" y="482"/>
                </a:cubicBezTo>
                <a:cubicBezTo>
                  <a:pt x="607" y="497"/>
                  <a:pt x="573" y="470"/>
                  <a:pt x="541" y="470"/>
                </a:cubicBezTo>
                <a:cubicBezTo>
                  <a:pt x="474" y="470"/>
                  <a:pt x="408" y="478"/>
                  <a:pt x="341" y="482"/>
                </a:cubicBezTo>
                <a:cubicBezTo>
                  <a:pt x="312" y="566"/>
                  <a:pt x="356" y="624"/>
                  <a:pt x="423" y="670"/>
                </a:cubicBezTo>
                <a:cubicBezTo>
                  <a:pt x="415" y="693"/>
                  <a:pt x="408" y="717"/>
                  <a:pt x="400" y="740"/>
                </a:cubicBezTo>
                <a:cubicBezTo>
                  <a:pt x="395" y="754"/>
                  <a:pt x="377" y="758"/>
                  <a:pt x="364" y="764"/>
                </a:cubicBezTo>
                <a:cubicBezTo>
                  <a:pt x="318" y="785"/>
                  <a:pt x="283" y="789"/>
                  <a:pt x="235" y="799"/>
                </a:cubicBezTo>
                <a:cubicBezTo>
                  <a:pt x="223" y="807"/>
                  <a:pt x="209" y="811"/>
                  <a:pt x="200" y="822"/>
                </a:cubicBezTo>
                <a:cubicBezTo>
                  <a:pt x="192" y="832"/>
                  <a:pt x="191" y="846"/>
                  <a:pt x="188" y="858"/>
                </a:cubicBezTo>
                <a:cubicBezTo>
                  <a:pt x="167" y="941"/>
                  <a:pt x="177" y="1040"/>
                  <a:pt x="82" y="1069"/>
                </a:cubicBezTo>
                <a:cubicBezTo>
                  <a:pt x="42" y="1097"/>
                  <a:pt x="16" y="1116"/>
                  <a:pt x="0" y="1163"/>
                </a:cubicBezTo>
                <a:cubicBezTo>
                  <a:pt x="9" y="1169"/>
                  <a:pt x="54" y="1205"/>
                  <a:pt x="71" y="1199"/>
                </a:cubicBezTo>
                <a:cubicBezTo>
                  <a:pt x="98" y="1190"/>
                  <a:pt x="114" y="1161"/>
                  <a:pt x="141" y="1152"/>
                </a:cubicBezTo>
                <a:cubicBezTo>
                  <a:pt x="190" y="1135"/>
                  <a:pt x="166" y="1147"/>
                  <a:pt x="212" y="1116"/>
                </a:cubicBezTo>
                <a:cubicBezTo>
                  <a:pt x="249" y="1125"/>
                  <a:pt x="267" y="1124"/>
                  <a:pt x="294" y="1152"/>
                </a:cubicBezTo>
                <a:cubicBezTo>
                  <a:pt x="346" y="1205"/>
                  <a:pt x="284" y="1176"/>
                  <a:pt x="353" y="1199"/>
                </a:cubicBezTo>
                <a:cubicBezTo>
                  <a:pt x="374" y="1195"/>
                  <a:pt x="432" y="1189"/>
                  <a:pt x="458" y="1175"/>
                </a:cubicBezTo>
                <a:cubicBezTo>
                  <a:pt x="519" y="1141"/>
                  <a:pt x="568" y="1104"/>
                  <a:pt x="635" y="1081"/>
                </a:cubicBezTo>
                <a:cubicBezTo>
                  <a:pt x="719" y="1093"/>
                  <a:pt x="732" y="1096"/>
                  <a:pt x="788" y="1152"/>
                </a:cubicBezTo>
                <a:cubicBezTo>
                  <a:pt x="884" y="1128"/>
                  <a:pt x="983" y="1114"/>
                  <a:pt x="1081" y="1105"/>
                </a:cubicBezTo>
                <a:cubicBezTo>
                  <a:pt x="1128" y="1119"/>
                  <a:pt x="1148" y="1128"/>
                  <a:pt x="1164" y="1175"/>
                </a:cubicBezTo>
                <a:cubicBezTo>
                  <a:pt x="1207" y="1171"/>
                  <a:pt x="1252" y="1175"/>
                  <a:pt x="1293" y="1163"/>
                </a:cubicBezTo>
                <a:cubicBezTo>
                  <a:pt x="1332" y="1152"/>
                  <a:pt x="1361" y="1117"/>
                  <a:pt x="1399" y="1105"/>
                </a:cubicBezTo>
                <a:cubicBezTo>
                  <a:pt x="1481" y="1110"/>
                  <a:pt x="1653" y="1119"/>
                  <a:pt x="1740" y="1128"/>
                </a:cubicBezTo>
                <a:cubicBezTo>
                  <a:pt x="1839" y="1139"/>
                  <a:pt x="1934" y="1165"/>
                  <a:pt x="2034" y="1175"/>
                </a:cubicBezTo>
                <a:cubicBezTo>
                  <a:pt x="2091" y="1155"/>
                  <a:pt x="2133" y="1122"/>
                  <a:pt x="2175" y="1081"/>
                </a:cubicBezTo>
                <a:cubicBezTo>
                  <a:pt x="2251" y="1094"/>
                  <a:pt x="2252" y="1107"/>
                  <a:pt x="2316" y="1128"/>
                </a:cubicBezTo>
                <a:cubicBezTo>
                  <a:pt x="2320" y="1140"/>
                  <a:pt x="2317" y="1158"/>
                  <a:pt x="2328" y="1163"/>
                </a:cubicBezTo>
                <a:cubicBezTo>
                  <a:pt x="2337" y="1166"/>
                  <a:pt x="2398" y="1144"/>
                  <a:pt x="2410" y="1140"/>
                </a:cubicBezTo>
                <a:cubicBezTo>
                  <a:pt x="2427" y="1091"/>
                  <a:pt x="2434" y="1074"/>
                  <a:pt x="2422" y="1022"/>
                </a:cubicBezTo>
                <a:cubicBezTo>
                  <a:pt x="2426" y="987"/>
                  <a:pt x="2422" y="950"/>
                  <a:pt x="2433" y="917"/>
                </a:cubicBezTo>
                <a:cubicBezTo>
                  <a:pt x="2471" y="803"/>
                  <a:pt x="2590" y="803"/>
                  <a:pt x="2692" y="764"/>
                </a:cubicBezTo>
                <a:cubicBezTo>
                  <a:pt x="2729" y="726"/>
                  <a:pt x="2757" y="720"/>
                  <a:pt x="2774" y="670"/>
                </a:cubicBezTo>
                <a:cubicBezTo>
                  <a:pt x="2766" y="617"/>
                  <a:pt x="2751" y="569"/>
                  <a:pt x="2774" y="517"/>
                </a:cubicBezTo>
                <a:cubicBezTo>
                  <a:pt x="2781" y="502"/>
                  <a:pt x="2798" y="495"/>
                  <a:pt x="2809" y="482"/>
                </a:cubicBezTo>
                <a:cubicBezTo>
                  <a:pt x="2850" y="433"/>
                  <a:pt x="2811" y="453"/>
                  <a:pt x="2868" y="435"/>
                </a:cubicBezTo>
                <a:cubicBezTo>
                  <a:pt x="2965" y="371"/>
                  <a:pt x="3086" y="330"/>
                  <a:pt x="3127" y="211"/>
                </a:cubicBezTo>
                <a:cubicBezTo>
                  <a:pt x="3036" y="151"/>
                  <a:pt x="3084" y="169"/>
                  <a:pt x="2986" y="152"/>
                </a:cubicBezTo>
                <a:cubicBezTo>
                  <a:pt x="2974" y="160"/>
                  <a:pt x="2962" y="167"/>
                  <a:pt x="2951" y="176"/>
                </a:cubicBezTo>
                <a:cubicBezTo>
                  <a:pt x="2938" y="187"/>
                  <a:pt x="2932" y="209"/>
                  <a:pt x="2915" y="211"/>
                </a:cubicBezTo>
                <a:cubicBezTo>
                  <a:pt x="2887" y="214"/>
                  <a:pt x="2807" y="175"/>
                  <a:pt x="2774" y="164"/>
                </a:cubicBezTo>
                <a:cubicBezTo>
                  <a:pt x="2703" y="140"/>
                  <a:pt x="2775" y="164"/>
                  <a:pt x="2704" y="141"/>
                </a:cubicBezTo>
                <a:cubicBezTo>
                  <a:pt x="2692" y="137"/>
                  <a:pt x="2668" y="129"/>
                  <a:pt x="2668" y="129"/>
                </a:cubicBezTo>
                <a:cubicBezTo>
                  <a:pt x="2621" y="133"/>
                  <a:pt x="2574" y="135"/>
                  <a:pt x="2527" y="141"/>
                </a:cubicBezTo>
                <a:cubicBezTo>
                  <a:pt x="2515" y="143"/>
                  <a:pt x="2500" y="161"/>
                  <a:pt x="2492" y="152"/>
                </a:cubicBezTo>
                <a:cubicBezTo>
                  <a:pt x="2483" y="143"/>
                  <a:pt x="2516" y="113"/>
                  <a:pt x="2504" y="117"/>
                </a:cubicBezTo>
                <a:cubicBezTo>
                  <a:pt x="2483" y="124"/>
                  <a:pt x="2475" y="151"/>
                  <a:pt x="2457" y="164"/>
                </a:cubicBezTo>
                <a:cubicBezTo>
                  <a:pt x="2447" y="171"/>
                  <a:pt x="2434" y="172"/>
                  <a:pt x="2422" y="176"/>
                </a:cubicBezTo>
                <a:cubicBezTo>
                  <a:pt x="2225" y="165"/>
                  <a:pt x="2029" y="142"/>
                  <a:pt x="1834" y="117"/>
                </a:cubicBezTo>
                <a:cubicBezTo>
                  <a:pt x="1760" y="142"/>
                  <a:pt x="1754" y="223"/>
                  <a:pt x="1681" y="246"/>
                </a:cubicBezTo>
                <a:cubicBezTo>
                  <a:pt x="1583" y="242"/>
                  <a:pt x="1463" y="285"/>
                  <a:pt x="1387" y="223"/>
                </a:cubicBezTo>
                <a:cubicBezTo>
                  <a:pt x="1312" y="163"/>
                  <a:pt x="1418" y="206"/>
                  <a:pt x="1328" y="176"/>
                </a:cubicBezTo>
                <a:cubicBezTo>
                  <a:pt x="1300" y="134"/>
                  <a:pt x="1272" y="113"/>
                  <a:pt x="1234" y="82"/>
                </a:cubicBezTo>
                <a:cubicBezTo>
                  <a:pt x="1221" y="72"/>
                  <a:pt x="1213" y="55"/>
                  <a:pt x="1199" y="47"/>
                </a:cubicBezTo>
                <a:cubicBezTo>
                  <a:pt x="1166" y="29"/>
                  <a:pt x="1128" y="23"/>
                  <a:pt x="1093" y="11"/>
                </a:cubicBezTo>
                <a:cubicBezTo>
                  <a:pt x="1081" y="7"/>
                  <a:pt x="1058" y="0"/>
                  <a:pt x="1058" y="0"/>
                </a:cubicBezTo>
                <a:cubicBezTo>
                  <a:pt x="1028" y="5"/>
                  <a:pt x="982" y="7"/>
                  <a:pt x="952" y="23"/>
                </a:cubicBezTo>
                <a:cubicBezTo>
                  <a:pt x="868" y="66"/>
                  <a:pt x="964" y="32"/>
                  <a:pt x="882" y="58"/>
                </a:cubicBezTo>
                <a:cubicBezTo>
                  <a:pt x="860" y="73"/>
                  <a:pt x="825" y="93"/>
                  <a:pt x="811" y="117"/>
                </a:cubicBezTo>
                <a:cubicBezTo>
                  <a:pt x="753" y="218"/>
                  <a:pt x="825" y="136"/>
                  <a:pt x="788" y="176"/>
                </a:cubicBezTo>
                <a:close/>
              </a:path>
            </a:pathLst>
          </a:custGeom>
          <a:solidFill>
            <a:srgbClr val="66ff99"/>
          </a:solidFill>
          <a:ln w="1112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981080" y="685800"/>
            <a:ext cx="7162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4800" spc="-1" strike="noStrike">
                <a:solidFill>
                  <a:srgbClr val="4346ad"/>
                </a:solidFill>
                <a:latin typeface="Times New Roman"/>
              </a:rPr>
              <a:t>　一块地近似平行四边形底是</a:t>
            </a:r>
            <a:r>
              <a:rPr b="1" lang="zh-CN" sz="4800" spc="-1" strike="noStrike">
                <a:solidFill>
                  <a:srgbClr val="4346ad"/>
                </a:solidFill>
                <a:latin typeface="Times New Roman"/>
              </a:rPr>
              <a:t>43</a:t>
            </a:r>
            <a:r>
              <a:rPr b="1" lang="zh-CN" sz="4800" spc="-1" strike="noStrike">
                <a:solidFill>
                  <a:srgbClr val="4346ad"/>
                </a:solidFill>
                <a:latin typeface="Times New Roman"/>
              </a:rPr>
              <a:t>米，高是</a:t>
            </a:r>
            <a:r>
              <a:rPr b="1" lang="zh-CN" sz="4800" spc="-1" strike="noStrike">
                <a:solidFill>
                  <a:srgbClr val="4346ad"/>
                </a:solidFill>
                <a:latin typeface="Times New Roman"/>
              </a:rPr>
              <a:t>20.1</a:t>
            </a:r>
            <a:r>
              <a:rPr b="1" lang="zh-CN" sz="4800" spc="-1" strike="noStrike">
                <a:solidFill>
                  <a:srgbClr val="4346ad"/>
                </a:solidFill>
                <a:latin typeface="Times New Roman"/>
              </a:rPr>
              <a:t>米。这块地的面积是多少平方米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066680" y="4267080"/>
            <a:ext cx="4800600" cy="1524240"/>
          </a:xfrm>
          <a:prstGeom prst="parallelogram">
            <a:avLst>
              <a:gd name="adj" fmla="val 78738"/>
            </a:avLst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286000" y="4343400"/>
            <a:ext cx="0" cy="152388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2692800" y="6095880"/>
            <a:ext cx="74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276720" y="4876920"/>
            <a:ext cx="54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286800" y="4765680"/>
            <a:ext cx="97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0.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9" name="" descr=""/>
          <p:cNvPicPr/>
          <p:nvPr/>
        </p:nvPicPr>
        <p:blipFill>
          <a:blip r:embed="rId3"/>
          <a:stretch/>
        </p:blipFill>
        <p:spPr>
          <a:xfrm>
            <a:off x="304920" y="228600"/>
            <a:ext cx="2438280" cy="1981080"/>
          </a:xfrm>
          <a:prstGeom prst="rect">
            <a:avLst/>
          </a:prstGeom>
          <a:ln w="0">
            <a:noFill/>
          </a:ln>
        </p:spPr>
      </p:pic>
      <p:sp>
        <p:nvSpPr>
          <p:cNvPr id="440" name=""/>
          <p:cNvSpPr/>
          <p:nvPr/>
        </p:nvSpPr>
        <p:spPr>
          <a:xfrm>
            <a:off x="1197000" y="13716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1381f"/>
                </a:solidFill>
                <a:latin typeface="Times New Roman"/>
                <a:ea typeface="仿宋_GB2312"/>
              </a:rPr>
              <a:t>练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286000" y="56386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438280" y="5638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u"/>
  </p:transition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500"/>
                            </p:stCondLst>
                            <p:childTnLst>
                              <p:par>
                                <p:cTn id="5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500"/>
                            </p:stCondLst>
                            <p:childTnLst>
                              <p:par>
                                <p:cTn id="5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1000"/>
                            </p:stCondLst>
                            <p:childTnLst>
                              <p:par>
                                <p:cTn id="5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1500"/>
                            </p:stCondLst>
                            <p:childTnLst>
                              <p:par>
                                <p:cTn id="5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2000"/>
                            </p:stCondLst>
                            <p:childTnLst>
                              <p:par>
                                <p:cTn id="5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2500"/>
                            </p:stCondLst>
                            <p:childTnLst>
                              <p:par>
                                <p:cTn id="5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2666880" y="762120"/>
            <a:ext cx="3429000" cy="6807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巩固练习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444" name=""/>
          <p:cNvSpPr/>
          <p:nvPr/>
        </p:nvSpPr>
        <p:spPr>
          <a:xfrm>
            <a:off x="4005720" y="1628640"/>
            <a:ext cx="56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算出下面每个平行四边形的面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5" name="" descr=""/>
          <p:cNvPicPr/>
          <p:nvPr/>
        </p:nvPicPr>
        <p:blipFill>
          <a:blip r:embed="rId2"/>
          <a:stretch/>
        </p:blipFill>
        <p:spPr>
          <a:xfrm>
            <a:off x="611280" y="1268280"/>
            <a:ext cx="1143000" cy="1382760"/>
          </a:xfrm>
          <a:prstGeom prst="rect">
            <a:avLst/>
          </a:prstGeom>
          <a:ln w="0">
            <a:noFill/>
          </a:ln>
        </p:spPr>
      </p:pic>
      <p:sp>
        <p:nvSpPr>
          <p:cNvPr id="446" name=""/>
          <p:cNvSpPr/>
          <p:nvPr/>
        </p:nvSpPr>
        <p:spPr>
          <a:xfrm>
            <a:off x="1835280" y="4508640"/>
            <a:ext cx="2819160" cy="1523880"/>
          </a:xfrm>
          <a:prstGeom prst="parallelogram">
            <a:avLst>
              <a:gd name="adj" fmla="val 46250"/>
            </a:avLst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厘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rot="16200000">
            <a:off x="1693800" y="2706480"/>
            <a:ext cx="1790640" cy="1219320"/>
          </a:xfrm>
          <a:prstGeom prst="parallelogram">
            <a:avLst>
              <a:gd name="adj" fmla="val 36714"/>
            </a:avLst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H="1" rot="5400000">
            <a:off x="6573240" y="2506320"/>
            <a:ext cx="2400120" cy="1219320"/>
          </a:xfrm>
          <a:prstGeom prst="parallelogram">
            <a:avLst>
              <a:gd name="adj" fmla="val 49210"/>
            </a:avLst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403280" y="2817720"/>
            <a:ext cx="457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分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3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8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500"/>
                            </p:stCondLst>
                            <p:childTnLst>
                              <p:par>
                                <p:cTn id="6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1500"/>
                            </p:stCondLst>
                            <p:childTnLst>
                              <p:par>
                                <p:cTn id="6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2000"/>
                            </p:stCondLst>
                            <p:childTnLst>
                              <p:par>
                                <p:cTn id="6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/>
          <p:nvPr/>
        </p:nvSpPr>
        <p:spPr>
          <a:xfrm>
            <a:off x="2297520" y="692280"/>
            <a:ext cx="2469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下图中两个平行四边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面积相等吗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?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为什么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每个平行四边形的面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是多少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0" y="4343400"/>
            <a:ext cx="91440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0" y="5943600"/>
            <a:ext cx="91440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048120" y="4343400"/>
            <a:ext cx="4876560" cy="1600200"/>
          </a:xfrm>
          <a:prstGeom prst="parallelogram">
            <a:avLst>
              <a:gd name="adj" fmla="val 137954"/>
            </a:avLst>
          </a:pr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838080" y="4343400"/>
            <a:ext cx="2743200" cy="0"/>
          </a:xfrm>
          <a:prstGeom prst="line">
            <a:avLst/>
          </a:prstGeom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505320" y="4343400"/>
            <a:ext cx="2209680" cy="1600200"/>
          </a:xfrm>
          <a:prstGeom prst="line">
            <a:avLst/>
          </a:prstGeom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914400" y="4343400"/>
            <a:ext cx="2209680" cy="1600200"/>
          </a:xfrm>
          <a:prstGeom prst="line">
            <a:avLst/>
          </a:prstGeom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V="1">
            <a:off x="3124080" y="4343040"/>
            <a:ext cx="0" cy="160020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>
            <a:off x="2895120" y="4572000"/>
            <a:ext cx="2286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895480" y="4343400"/>
            <a:ext cx="0" cy="228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854800" y="5759280"/>
            <a:ext cx="2586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黑体"/>
                <a:ea typeface="黑体"/>
              </a:rPr>
              <a:t>2.5</a:t>
            </a:r>
            <a:r>
              <a:rPr b="1" lang="zh-CN" sz="6600" spc="-1" strike="noStrike">
                <a:solidFill>
                  <a:srgbClr val="000000"/>
                </a:solidFill>
                <a:latin typeface="黑体"/>
                <a:ea typeface="黑体"/>
              </a:rPr>
              <a:t>厘米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263880" y="4572000"/>
            <a:ext cx="2586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黑体"/>
                <a:ea typeface="黑体"/>
              </a:rPr>
              <a:t>1.6</a:t>
            </a:r>
            <a:r>
              <a:rPr b="1" lang="zh-CN" sz="6600" spc="-1" strike="noStrike">
                <a:solidFill>
                  <a:srgbClr val="000000"/>
                </a:solidFill>
                <a:latin typeface="黑体"/>
                <a:ea typeface="黑体"/>
              </a:rPr>
              <a:t>厘米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 txBox="1"/>
          <p:nvPr/>
        </p:nvSpPr>
        <p:spPr>
          <a:xfrm>
            <a:off x="1371600" y="990720"/>
            <a:ext cx="5867280" cy="685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求平行四边形的面积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1066680" y="2743200"/>
            <a:ext cx="2514600" cy="2590920"/>
            <a:chOff x="1066680" y="2743200"/>
            <a:chExt cx="2514600" cy="2590920"/>
          </a:xfrm>
        </p:grpSpPr>
        <p:sp>
          <p:nvSpPr>
            <p:cNvPr id="464" name=""/>
            <p:cNvSpPr/>
            <p:nvPr/>
          </p:nvSpPr>
          <p:spPr>
            <a:xfrm>
              <a:off x="1066680" y="2743200"/>
              <a:ext cx="2514600" cy="2133720"/>
            </a:xfrm>
            <a:prstGeom prst="parallelogram">
              <a:avLst>
                <a:gd name="adj" fmla="val 29463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600200" y="3124080"/>
              <a:ext cx="190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447920" y="3657600"/>
              <a:ext cx="1904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295280" y="4191120"/>
              <a:ext cx="190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676520" y="27432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600200" y="3124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7920" y="36576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1295280" y="419112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676520" y="3048120"/>
              <a:ext cx="75960" cy="75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600200" y="3581280"/>
              <a:ext cx="76320" cy="7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1447920" y="4114800"/>
              <a:ext cx="75960" cy="7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295280" y="4800600"/>
              <a:ext cx="76320" cy="7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1600200" y="2743200"/>
              <a:ext cx="6094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</a:t>
              </a: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米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600200" y="4952880"/>
              <a:ext cx="6094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0</a:t>
              </a: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米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1523880" y="3352680"/>
              <a:ext cx="6098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</a:t>
              </a: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米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1371600" y="3809880"/>
              <a:ext cx="6094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4</a:t>
              </a: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米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219320" y="4495680"/>
              <a:ext cx="6094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5</a:t>
              </a: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米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1" name=""/>
          <p:cNvSpPr/>
          <p:nvPr/>
        </p:nvSpPr>
        <p:spPr>
          <a:xfrm>
            <a:off x="3962520" y="2895480"/>
            <a:ext cx="4647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×10+3×10+4×10+5×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657600" y="4114800"/>
            <a:ext cx="4648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0×(2+3+4+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27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32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37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42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 txBox="1"/>
          <p:nvPr/>
        </p:nvSpPr>
        <p:spPr>
          <a:xfrm>
            <a:off x="2819520" y="914400"/>
            <a:ext cx="3429000" cy="685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思考题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grpSp>
        <p:nvGrpSpPr>
          <p:cNvPr id="484" name=""/>
          <p:cNvGrpSpPr/>
          <p:nvPr/>
        </p:nvGrpSpPr>
        <p:grpSpPr>
          <a:xfrm>
            <a:off x="304920" y="2209680"/>
            <a:ext cx="8229600" cy="1447920"/>
            <a:chOff x="304920" y="2209680"/>
            <a:chExt cx="8229600" cy="1447920"/>
          </a:xfrm>
        </p:grpSpPr>
        <p:sp>
          <p:nvSpPr>
            <p:cNvPr id="485" name=""/>
            <p:cNvSpPr/>
            <p:nvPr/>
          </p:nvSpPr>
          <p:spPr>
            <a:xfrm>
              <a:off x="1600200" y="2286000"/>
              <a:ext cx="6934320" cy="1371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33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、一个平行四边形和一个长方形面积都是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72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平方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厘米，长方形的长是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18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厘米，是平行四边形高的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倍，平行四边形的底是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(              )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厘米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86" name="" descr=""/>
            <p:cNvPicPr/>
            <p:nvPr/>
          </p:nvPicPr>
          <p:blipFill>
            <a:blip r:embed="rId2"/>
            <a:stretch/>
          </p:blipFill>
          <p:spPr>
            <a:xfrm>
              <a:off x="304920" y="2209680"/>
              <a:ext cx="1295280" cy="1295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87" name=""/>
          <p:cNvGrpSpPr/>
          <p:nvPr/>
        </p:nvGrpSpPr>
        <p:grpSpPr>
          <a:xfrm>
            <a:off x="457200" y="4267080"/>
            <a:ext cx="8153280" cy="1524240"/>
            <a:chOff x="457200" y="4267080"/>
            <a:chExt cx="8153280" cy="1524240"/>
          </a:xfrm>
        </p:grpSpPr>
        <p:sp>
          <p:nvSpPr>
            <p:cNvPr id="488" name=""/>
            <p:cNvSpPr/>
            <p:nvPr/>
          </p:nvSpPr>
          <p:spPr>
            <a:xfrm>
              <a:off x="1600200" y="4267080"/>
              <a:ext cx="7010280" cy="15242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、果园用一块平行四边形菜地，种苹果树，量得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块地的底是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120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米，高是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80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米，每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平方米种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棵树，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每棵平均收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150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千克苹果，这块地一共可以收多少千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克苹果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89" name="" descr=""/>
            <p:cNvPicPr/>
            <p:nvPr/>
          </p:nvPicPr>
          <p:blipFill>
            <a:blip r:embed="rId3"/>
            <a:stretch/>
          </p:blipFill>
          <p:spPr>
            <a:xfrm>
              <a:off x="457200" y="4495680"/>
              <a:ext cx="990720" cy="10670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blinds dir="vert"/>
  </p:transition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9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5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5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419640" y="2421000"/>
            <a:ext cx="2303280" cy="1368360"/>
          </a:xfrm>
          <a:prstGeom prst="rect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5280" y="4038480"/>
            <a:ext cx="79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分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416320" y="2924280"/>
            <a:ext cx="79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分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 txBox="1"/>
          <p:nvPr/>
        </p:nvSpPr>
        <p:spPr>
          <a:xfrm>
            <a:off x="2843280" y="2205000"/>
            <a:ext cx="3959280" cy="1978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隶书"/>
              </a:rPr>
              <a:t>再见</a:t>
            </a:r>
            <a:endParaRPr b="0" lang="en-US" sz="4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p:transition>
    <p:blinds dir="vert"/>
  </p:transition>
  <p:timing>
    <p:tnLst>
      <p:par>
        <p:cTn id="662" dur="indefinite" restart="never" nodeType="tmRoot">
          <p:childTnLst>
            <p:seq>
              <p:cTn id="663" dur="indefinite" nodeType="mainSeq">
                <p:childTnLst>
                  <p:par>
                    <p:cTn id="664" fill="hold">
                      <p:stCondLst>
                        <p:cond delay="0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68" dur="2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476360" y="2421000"/>
            <a:ext cx="2303640" cy="1368360"/>
          </a:xfrm>
          <a:prstGeom prst="rect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356000" y="2637000"/>
            <a:ext cx="3024360" cy="1152360"/>
          </a:xfrm>
          <a:prstGeom prst="parallelogram">
            <a:avLst>
              <a:gd name="adj" fmla="val 65612"/>
            </a:avLst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14920" y="1844640"/>
            <a:ext cx="757080" cy="432000"/>
          </a:xfrm>
          <a:custGeom>
            <a:avLst/>
            <a:gdLst>
              <a:gd name="textAreaLeft" fmla="*/ 0 w 757080"/>
              <a:gd name="textAreaRight" fmla="*/ 757440 w 757080"/>
              <a:gd name="textAreaTop" fmla="*/ 0 h 432000"/>
              <a:gd name="textAreaBottom" fmla="*/ 432360 h 432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71640" y="3645000"/>
            <a:ext cx="217440" cy="1152360"/>
          </a:xfrm>
          <a:custGeom>
            <a:avLst/>
            <a:gdLst>
              <a:gd name="textAreaLeft" fmla="*/ 29160 w 217440"/>
              <a:gd name="textAreaRight" fmla="*/ 188280 w 217440"/>
              <a:gd name="textAreaTop" fmla="*/ 201600 h 1152360"/>
              <a:gd name="textAreaBottom" fmla="*/ 83556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1067076"/>
                <a:lnTo>
                  <a:pt x="5676" y="19148"/>
                </a:lnTo>
                <a:lnTo>
                  <a:pt x="21600" y="17280"/>
                </a:lnTo>
                <a:lnTo>
                  <a:pt x="5676" y="10508"/>
                </a:lnTo>
                <a:lnTo>
                  <a:pt x="5676" y="12668"/>
                </a:lnTo>
                <a:arcTo wR="21600" hR="7560" stAng="9732924" swAng="709641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1805 3.12139E-006 L 0.36805 3.12139E-006 E">
                                      <p:cBhvr>
                                        <p:cTn id="43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752480" y="1600200"/>
            <a:ext cx="5715000" cy="3124080"/>
          </a:xfrm>
          <a:prstGeom prst="rect">
            <a:avLst/>
          </a:prstGeom>
          <a:solidFill>
            <a:srgbClr val="66ff99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439040" y="4694400"/>
            <a:ext cx="942840" cy="10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496200" y="4694400"/>
            <a:ext cx="942840" cy="10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553000" y="4694400"/>
            <a:ext cx="943200" cy="10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10160" y="4694400"/>
            <a:ext cx="942840" cy="10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666960" y="4694400"/>
            <a:ext cx="943200" cy="10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724120" y="4694400"/>
            <a:ext cx="942840" cy="10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781280" y="4694400"/>
            <a:ext cx="942840" cy="10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38080" y="4694400"/>
            <a:ext cx="943200" cy="10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439040" y="3673440"/>
            <a:ext cx="9428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496200" y="3673440"/>
            <a:ext cx="9428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553000" y="3673440"/>
            <a:ext cx="94320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610160" y="3673440"/>
            <a:ext cx="9428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66960" y="3673440"/>
            <a:ext cx="94320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724120" y="3673440"/>
            <a:ext cx="9428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781280" y="3673440"/>
            <a:ext cx="9428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38080" y="3673440"/>
            <a:ext cx="94320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439040" y="2651040"/>
            <a:ext cx="942840" cy="10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496200" y="2651040"/>
            <a:ext cx="942840" cy="10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553000" y="2651040"/>
            <a:ext cx="943200" cy="10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610160" y="2651040"/>
            <a:ext cx="942840" cy="10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666960" y="2651040"/>
            <a:ext cx="943200" cy="10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724120" y="2651040"/>
            <a:ext cx="942840" cy="10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781280" y="2651040"/>
            <a:ext cx="942840" cy="10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38080" y="2651040"/>
            <a:ext cx="943200" cy="10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439040" y="1630440"/>
            <a:ext cx="942840" cy="10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96200" y="1630440"/>
            <a:ext cx="942840" cy="10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553000" y="1630440"/>
            <a:ext cx="943200" cy="10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610160" y="1630440"/>
            <a:ext cx="942840" cy="10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666960" y="1630440"/>
            <a:ext cx="943200" cy="10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724120" y="1630440"/>
            <a:ext cx="942840" cy="10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781280" y="1630440"/>
            <a:ext cx="942840" cy="10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38080" y="1630440"/>
            <a:ext cx="943200" cy="10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439040" y="609480"/>
            <a:ext cx="9428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6200" y="609480"/>
            <a:ext cx="9428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553000" y="609480"/>
            <a:ext cx="94320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610160" y="609480"/>
            <a:ext cx="9428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666960" y="609480"/>
            <a:ext cx="94320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24120" y="609480"/>
            <a:ext cx="9428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81280" y="609480"/>
            <a:ext cx="9428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38080" y="609480"/>
            <a:ext cx="94320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38080" y="609480"/>
            <a:ext cx="7543800" cy="0"/>
          </a:xfrm>
          <a:prstGeom prst="line">
            <a:avLst/>
          </a:prstGeom>
          <a:ln w="1260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38080" y="1630440"/>
            <a:ext cx="7543800" cy="0"/>
          </a:xfrm>
          <a:prstGeom prst="line">
            <a:avLst/>
          </a:prstGeom>
          <a:ln w="1260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38080" y="2651040"/>
            <a:ext cx="7543800" cy="0"/>
          </a:xfrm>
          <a:prstGeom prst="line">
            <a:avLst/>
          </a:prstGeom>
          <a:ln w="1260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38080" y="3673440"/>
            <a:ext cx="7543800" cy="0"/>
          </a:xfrm>
          <a:prstGeom prst="line">
            <a:avLst/>
          </a:prstGeom>
          <a:ln w="1260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38080" y="4694400"/>
            <a:ext cx="7543800" cy="0"/>
          </a:xfrm>
          <a:prstGeom prst="line">
            <a:avLst/>
          </a:prstGeom>
          <a:ln w="1260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38080" y="5715000"/>
            <a:ext cx="7543800" cy="0"/>
          </a:xfrm>
          <a:prstGeom prst="line">
            <a:avLst/>
          </a:prstGeom>
          <a:ln w="1260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38080" y="609480"/>
            <a:ext cx="0" cy="5105520"/>
          </a:xfrm>
          <a:prstGeom prst="line">
            <a:avLst/>
          </a:prstGeom>
          <a:ln w="1260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81280" y="609480"/>
            <a:ext cx="0" cy="5105520"/>
          </a:xfrm>
          <a:prstGeom prst="line">
            <a:avLst/>
          </a:prstGeom>
          <a:ln w="1260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724120" y="609480"/>
            <a:ext cx="0" cy="4084920"/>
          </a:xfrm>
          <a:prstGeom prst="line">
            <a:avLst/>
          </a:prstGeom>
          <a:ln w="1260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666960" y="609480"/>
            <a:ext cx="0" cy="4084920"/>
          </a:xfrm>
          <a:prstGeom prst="line">
            <a:avLst/>
          </a:prstGeom>
          <a:ln w="1260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610160" y="609480"/>
            <a:ext cx="0" cy="4084920"/>
          </a:xfrm>
          <a:prstGeom prst="line">
            <a:avLst/>
          </a:prstGeom>
          <a:ln w="1260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553000" y="609480"/>
            <a:ext cx="0" cy="5105520"/>
          </a:xfrm>
          <a:prstGeom prst="line">
            <a:avLst/>
          </a:prstGeom>
          <a:ln w="1260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496200" y="609480"/>
            <a:ext cx="0" cy="4084920"/>
          </a:xfrm>
          <a:prstGeom prst="line">
            <a:avLst/>
          </a:prstGeom>
          <a:ln w="1260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439040" y="609480"/>
            <a:ext cx="0" cy="5105520"/>
          </a:xfrm>
          <a:prstGeom prst="line">
            <a:avLst/>
          </a:prstGeom>
          <a:ln w="1260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8381880" y="609480"/>
            <a:ext cx="0" cy="5105520"/>
          </a:xfrm>
          <a:prstGeom prst="line">
            <a:avLst/>
          </a:prstGeom>
          <a:ln w="1260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724120" y="4694400"/>
            <a:ext cx="0" cy="1020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666960" y="4694400"/>
            <a:ext cx="0" cy="1020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10160" y="4694400"/>
            <a:ext cx="0" cy="1020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496200" y="4694400"/>
            <a:ext cx="0" cy="1020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0" y="4572000"/>
            <a:ext cx="1752480" cy="2025000"/>
            <a:chOff x="0" y="4572000"/>
            <a:chExt cx="1752480" cy="2025000"/>
          </a:xfrm>
        </p:grpSpPr>
        <p:sp>
          <p:nvSpPr>
            <p:cNvPr id="163" name=""/>
            <p:cNvSpPr/>
            <p:nvPr/>
          </p:nvSpPr>
          <p:spPr>
            <a:xfrm rot="16200000">
              <a:off x="1142640" y="5409720"/>
              <a:ext cx="304920" cy="91440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33400" y="6137280"/>
              <a:ext cx="771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厘米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33520" y="4724280"/>
              <a:ext cx="304560" cy="990720"/>
            </a:xfrm>
            <a:custGeom>
              <a:avLst/>
              <a:gdLst>
                <a:gd name="textAreaLeft" fmla="*/ 194760 w 304560"/>
                <a:gd name="textAreaRight" fmla="*/ 304920 w 304560"/>
                <a:gd name="textAreaTop" fmla="*/ 25560 h 990720"/>
                <a:gd name="textAreaBottom" fmla="*/ 96516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572000"/>
              <a:ext cx="457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厘米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2365200" y="195120"/>
            <a:ext cx="4295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说出下面图形的面积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50520" y="5972040"/>
            <a:ext cx="668520" cy="647280"/>
          </a:xfrm>
          <a:prstGeom prst="rect">
            <a:avLst/>
          </a:prstGeom>
          <a:noFill/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单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340000" y="609300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df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708360" y="616572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df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1" name=""/>
          <p:cNvGraphicFramePr/>
          <p:nvPr/>
        </p:nvGraphicFramePr>
        <p:xfrm>
          <a:off x="1371600" y="2276640"/>
          <a:ext cx="6553080" cy="2138040"/>
        </p:xfrm>
        <a:graphic>
          <a:graphicData uri="http://schemas.openxmlformats.org/drawingml/2006/table">
            <a:tbl>
              <a:tblPr/>
              <a:tblGrid>
                <a:gridCol w="320760"/>
                <a:gridCol w="358560"/>
                <a:gridCol w="412920"/>
                <a:gridCol w="363600"/>
                <a:gridCol w="365040"/>
                <a:gridCol w="363600"/>
                <a:gridCol w="363600"/>
                <a:gridCol w="365040"/>
                <a:gridCol w="363600"/>
                <a:gridCol w="363240"/>
                <a:gridCol w="352440"/>
                <a:gridCol w="360360"/>
                <a:gridCol w="379440"/>
                <a:gridCol w="365400"/>
                <a:gridCol w="363240"/>
                <a:gridCol w="403560"/>
                <a:gridCol w="325440"/>
                <a:gridCol w="3632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2" name=""/>
          <p:cNvSpPr/>
          <p:nvPr/>
        </p:nvSpPr>
        <p:spPr>
          <a:xfrm>
            <a:off x="5003640" y="3009960"/>
            <a:ext cx="2232360" cy="106668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722160" y="3009960"/>
            <a:ext cx="609480" cy="1066680"/>
            <a:chOff x="722160" y="3009960"/>
            <a:chExt cx="609480" cy="1066680"/>
          </a:xfrm>
        </p:grpSpPr>
        <p:sp>
          <p:nvSpPr>
            <p:cNvPr id="174" name=""/>
            <p:cNvSpPr/>
            <p:nvPr/>
          </p:nvSpPr>
          <p:spPr>
            <a:xfrm>
              <a:off x="1179360" y="3009960"/>
              <a:ext cx="152280" cy="106668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27720 h 1066680"/>
                <a:gd name="textAreaBottom" fmla="*/ 103896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22160" y="3009960"/>
              <a:ext cx="457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厘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米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1692000" y="4484520"/>
            <a:ext cx="2231640" cy="815760"/>
            <a:chOff x="1692000" y="4484520"/>
            <a:chExt cx="2231640" cy="815760"/>
          </a:xfrm>
        </p:grpSpPr>
        <p:sp>
          <p:nvSpPr>
            <p:cNvPr id="177" name=""/>
            <p:cNvSpPr/>
            <p:nvPr/>
          </p:nvSpPr>
          <p:spPr>
            <a:xfrm rot="5400000">
              <a:off x="2622240" y="3553920"/>
              <a:ext cx="370800" cy="2231640"/>
            </a:xfrm>
            <a:custGeom>
              <a:avLst/>
              <a:gdLst>
                <a:gd name="textAreaLeft" fmla="*/ 0 w 370800"/>
                <a:gd name="textAreaRight" fmla="*/ 133920 w 370800"/>
                <a:gd name="textAreaTop" fmla="*/ 57960 h 2231640"/>
                <a:gd name="textAreaBottom" fmla="*/ 2173680 h 223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851840" y="4855320"/>
              <a:ext cx="1992240" cy="44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6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厘米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7956360" y="3009960"/>
            <a:ext cx="609480" cy="1066680"/>
            <a:chOff x="7956360" y="3009960"/>
            <a:chExt cx="609480" cy="1066680"/>
          </a:xfrm>
        </p:grpSpPr>
        <p:sp>
          <p:nvSpPr>
            <p:cNvPr id="180" name=""/>
            <p:cNvSpPr/>
            <p:nvPr/>
          </p:nvSpPr>
          <p:spPr>
            <a:xfrm flipH="1">
              <a:off x="7956000" y="3009960"/>
              <a:ext cx="152280" cy="1066680"/>
            </a:xfrm>
            <a:custGeom>
              <a:avLst/>
              <a:gdLst>
                <a:gd name="textAreaLeft" fmla="*/ 96840 w 152280"/>
                <a:gd name="textAreaRight" fmla="*/ 152280 w 152280"/>
                <a:gd name="textAreaTop" fmla="*/ 27720 h 1066680"/>
                <a:gd name="textAreaBottom" fmla="*/ 103896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8108640" y="3009960"/>
              <a:ext cx="457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厘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米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5003640" y="4437000"/>
            <a:ext cx="2234880" cy="863280"/>
            <a:chOff x="5003640" y="4437000"/>
            <a:chExt cx="2234880" cy="863280"/>
          </a:xfrm>
        </p:grpSpPr>
        <p:sp>
          <p:nvSpPr>
            <p:cNvPr id="183" name=""/>
            <p:cNvSpPr/>
            <p:nvPr/>
          </p:nvSpPr>
          <p:spPr>
            <a:xfrm rot="5400000">
              <a:off x="5924880" y="3515760"/>
              <a:ext cx="392400" cy="2234880"/>
            </a:xfrm>
            <a:custGeom>
              <a:avLst/>
              <a:gdLst>
                <a:gd name="textAreaLeft" fmla="*/ 0 w 392400"/>
                <a:gd name="textAreaRight" fmla="*/ 141480 w 392400"/>
                <a:gd name="textAreaTop" fmla="*/ 57960 h 2234880"/>
                <a:gd name="textAreaBottom" fmla="*/ 2176920 h 2234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163120" y="4829400"/>
              <a:ext cx="1995840" cy="47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6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厘米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2556000" y="33577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18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平方厘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900000" y="981000"/>
            <a:ext cx="777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图中每个方格代表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平方厘米，请你用数方格的方法，求出它们的面积是多少。（不满一格的，都按半格计算。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580000" y="328464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18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平方厘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484360" y="2997360"/>
            <a:ext cx="0" cy="1079280"/>
          </a:xfrm>
          <a:prstGeom prst="line">
            <a:avLst/>
          </a:prstGeom>
          <a:ln w="414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692360" y="2997360"/>
            <a:ext cx="2950920" cy="1079280"/>
          </a:xfrm>
          <a:prstGeom prst="parallelogram">
            <a:avLst>
              <a:gd name="adj" fmla="val 68354"/>
            </a:avLst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5003640" y="3009960"/>
            <a:ext cx="2232360" cy="106668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92360" y="3009960"/>
            <a:ext cx="2585880" cy="1066680"/>
          </a:xfrm>
          <a:prstGeom prst="parallelogram">
            <a:avLst>
              <a:gd name="adj" fmla="val 33670"/>
            </a:avLst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692360" y="4076640"/>
            <a:ext cx="2158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1752480" y="762120"/>
            <a:ext cx="5943600" cy="8794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隶书"/>
              </a:rPr>
              <a:t>动手操作　验证猜想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94" name=""/>
          <p:cNvSpPr/>
          <p:nvPr/>
        </p:nvSpPr>
        <p:spPr>
          <a:xfrm>
            <a:off x="838080" y="2743200"/>
            <a:ext cx="2362320" cy="1143000"/>
          </a:xfrm>
          <a:prstGeom prst="parallelogram">
            <a:avLst>
              <a:gd name="adj" fmla="val 51669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057400" y="274320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200400" y="33526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19920" y="335268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81680" y="2743200"/>
            <a:ext cx="1676520" cy="1143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3657600" y="2743200"/>
            <a:ext cx="2362320" cy="1143000"/>
            <a:chOff x="3657600" y="2743200"/>
            <a:chExt cx="2362320" cy="1143000"/>
          </a:xfrm>
        </p:grpSpPr>
        <p:sp>
          <p:nvSpPr>
            <p:cNvPr id="200" name=""/>
            <p:cNvSpPr/>
            <p:nvPr/>
          </p:nvSpPr>
          <p:spPr>
            <a:xfrm>
              <a:off x="3657600" y="2743200"/>
              <a:ext cx="2362320" cy="1143000"/>
            </a:xfrm>
            <a:prstGeom prst="parallelogram">
              <a:avLst>
                <a:gd name="adj" fmla="val 51669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876920" y="2743200"/>
              <a:ext cx="0" cy="114300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3580920" y="2743200"/>
            <a:ext cx="1219320" cy="1143000"/>
            <a:chOff x="3580920" y="2743200"/>
            <a:chExt cx="1219320" cy="1143000"/>
          </a:xfrm>
        </p:grpSpPr>
        <p:sp>
          <p:nvSpPr>
            <p:cNvPr id="203" name=""/>
            <p:cNvSpPr/>
            <p:nvPr/>
          </p:nvSpPr>
          <p:spPr>
            <a:xfrm>
              <a:off x="4190760" y="2743200"/>
              <a:ext cx="609480" cy="114300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>
              <a:off x="3580560" y="2743200"/>
              <a:ext cx="609480" cy="1143000"/>
            </a:xfrm>
            <a:prstGeom prst="rtTriangl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7235640" y="4724280"/>
            <a:ext cx="1219320" cy="1143000"/>
            <a:chOff x="7235640" y="4724280"/>
            <a:chExt cx="1219320" cy="1143000"/>
          </a:xfrm>
        </p:grpSpPr>
        <p:sp>
          <p:nvSpPr>
            <p:cNvPr id="206" name=""/>
            <p:cNvSpPr/>
            <p:nvPr/>
          </p:nvSpPr>
          <p:spPr>
            <a:xfrm>
              <a:off x="7845480" y="4724280"/>
              <a:ext cx="609480" cy="114300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>
              <a:off x="7235280" y="4724280"/>
              <a:ext cx="609480" cy="1143000"/>
            </a:xfrm>
            <a:prstGeom prst="rtTriangl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8" name=""/>
          <p:cNvSpPr/>
          <p:nvPr/>
        </p:nvSpPr>
        <p:spPr>
          <a:xfrm>
            <a:off x="1752480" y="1981080"/>
            <a:ext cx="838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00600" y="198108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391520" y="1981080"/>
            <a:ext cx="761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移、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3657240" y="2743200"/>
            <a:ext cx="1219320" cy="1143000"/>
            <a:chOff x="3657240" y="2743200"/>
            <a:chExt cx="1219320" cy="1143000"/>
          </a:xfrm>
        </p:grpSpPr>
        <p:sp>
          <p:nvSpPr>
            <p:cNvPr id="212" name=""/>
            <p:cNvSpPr/>
            <p:nvPr/>
          </p:nvSpPr>
          <p:spPr>
            <a:xfrm>
              <a:off x="4267080" y="2743200"/>
              <a:ext cx="609480" cy="114300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>
              <a:off x="3656880" y="2743200"/>
              <a:ext cx="609480" cy="1143000"/>
            </a:xfrm>
            <a:prstGeom prst="rtTriangl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3657600" y="2743200"/>
            <a:ext cx="1219320" cy="1143000"/>
            <a:chOff x="3657600" y="2743200"/>
            <a:chExt cx="1219320" cy="1143000"/>
          </a:xfrm>
        </p:grpSpPr>
        <p:sp>
          <p:nvSpPr>
            <p:cNvPr id="215" name=""/>
            <p:cNvSpPr/>
            <p:nvPr/>
          </p:nvSpPr>
          <p:spPr>
            <a:xfrm>
              <a:off x="4267080" y="2743200"/>
              <a:ext cx="609840" cy="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657600" y="3886200"/>
              <a:ext cx="1219320" cy="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blinds dir="vert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1042920" y="2430360"/>
            <a:ext cx="2362320" cy="1143000"/>
          </a:xfrm>
          <a:prstGeom prst="parallelogram">
            <a:avLst>
              <a:gd name="adj" fmla="val 5166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262240" y="242712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2262240" y="2427120"/>
            <a:ext cx="1143000" cy="1143000"/>
            <a:chOff x="2262240" y="2427120"/>
            <a:chExt cx="1143000" cy="1143000"/>
          </a:xfrm>
        </p:grpSpPr>
        <p:grpSp>
          <p:nvGrpSpPr>
            <p:cNvPr id="220" name=""/>
            <p:cNvGrpSpPr/>
            <p:nvPr/>
          </p:nvGrpSpPr>
          <p:grpSpPr>
            <a:xfrm>
              <a:off x="2262240" y="2427120"/>
              <a:ext cx="1143000" cy="1143000"/>
              <a:chOff x="2262240" y="2427120"/>
              <a:chExt cx="1143000" cy="1143000"/>
            </a:xfrm>
          </p:grpSpPr>
          <p:sp>
            <p:nvSpPr>
              <p:cNvPr id="221" name=""/>
              <p:cNvSpPr/>
              <p:nvPr/>
            </p:nvSpPr>
            <p:spPr>
              <a:xfrm>
                <a:off x="2262240" y="2427120"/>
                <a:ext cx="114300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2262240" y="2427120"/>
                <a:ext cx="0" cy="114300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2262240" y="3570120"/>
                <a:ext cx="53316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 flipH="1">
              <a:off x="2795400" y="2427120"/>
              <a:ext cx="609840" cy="11430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1042560" y="2430360"/>
            <a:ext cx="1219320" cy="1143000"/>
            <a:chOff x="1042560" y="2430360"/>
            <a:chExt cx="1219320" cy="1143000"/>
          </a:xfrm>
        </p:grpSpPr>
        <p:sp>
          <p:nvSpPr>
            <p:cNvPr id="226" name=""/>
            <p:cNvSpPr/>
            <p:nvPr/>
          </p:nvSpPr>
          <p:spPr>
            <a:xfrm>
              <a:off x="1652400" y="2430360"/>
              <a:ext cx="609480" cy="114300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1042200" y="2430360"/>
              <a:ext cx="609480" cy="1143000"/>
            </a:xfrm>
            <a:prstGeom prst="rtTriangl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042560" y="2430360"/>
            <a:ext cx="1219320" cy="1143000"/>
            <a:chOff x="1042560" y="2430360"/>
            <a:chExt cx="1219320" cy="1143000"/>
          </a:xfrm>
        </p:grpSpPr>
        <p:sp>
          <p:nvSpPr>
            <p:cNvPr id="229" name=""/>
            <p:cNvSpPr/>
            <p:nvPr/>
          </p:nvSpPr>
          <p:spPr>
            <a:xfrm>
              <a:off x="1652400" y="2430360"/>
              <a:ext cx="609480" cy="1143000"/>
            </a:xfrm>
            <a:prstGeom prst="rect">
              <a:avLst/>
            </a:prstGeom>
            <a:noFill/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>
              <a:off x="1042200" y="2430360"/>
              <a:ext cx="609480" cy="1143000"/>
            </a:xfrm>
            <a:prstGeom prst="rtTriangle">
              <a:avLst/>
            </a:prstGeom>
            <a:noFill/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2795400" y="2427120"/>
            <a:ext cx="1219320" cy="1143000"/>
            <a:chOff x="2795400" y="2427120"/>
            <a:chExt cx="1219320" cy="1143000"/>
          </a:xfrm>
        </p:grpSpPr>
        <p:sp>
          <p:nvSpPr>
            <p:cNvPr id="232" name=""/>
            <p:cNvSpPr/>
            <p:nvPr/>
          </p:nvSpPr>
          <p:spPr>
            <a:xfrm>
              <a:off x="3405240" y="2427120"/>
              <a:ext cx="609480" cy="114300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2795040" y="2427120"/>
              <a:ext cx="609480" cy="1143000"/>
            </a:xfrm>
            <a:prstGeom prst="rtTriangl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blinds dir="vert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8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5" dur="3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6T13:21:03Z</dcterms:created>
  <dc:creator>孙辉</dc:creator>
  <dc:description/>
  <dc:language>en-US</dc:language>
  <cp:lastModifiedBy>雨林木风</cp:lastModifiedBy>
  <dcterms:modified xsi:type="dcterms:W3CDTF">2009-03-14T07:25:39Z</dcterms:modified>
  <cp:revision>41</cp:revision>
  <dc:subject/>
  <dc:title>平行四边形面积的计算</dc:title>
</cp:coreProperties>
</file>