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0F1-2433-4CC8-BFEE-014310A2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943-4CE7-4F03-9021-3DD89DD8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29D-0775-4C8D-B63B-614EE34D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383-AF25-4F73-801C-4B940484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7AB-7112-4AB3-A99A-E2644E57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D8C-7012-4A7B-A4C2-98D7492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926-506B-4C9E-AFB4-F41B9F5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744-BC17-4571-A48E-9E7C2767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EBA-736B-47EA-A1B0-90B468ED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426-B4D6-4E98-A0FB-21A86CC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94E-F59F-44CD-8711-C96CB46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931-D611-40D2-92AD-58EB23B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322B-999C-4F10-B6A4-C0E28679B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066680"/>
            <a:ext cx="56390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平行四边形的面积</a:t>
            </a:r>
            <a:endParaRPr b="0" lang="en-US" sz="40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952880"/>
            <a:ext cx="3352680" cy="1371600"/>
          </a:xfrm>
          <a:prstGeom prst="flowChartInputOutput">
            <a:avLst/>
          </a:prstGeom>
          <a:solidFill>
            <a:srgbClr val="ff99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410080"/>
            <a:ext cx="1904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执教：牛宝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2009.11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0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义务教育课程标准实验教材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FOfficeDoc1"/>
          <p:cNvGraphicFramePr/>
          <p:nvPr/>
        </p:nvGraphicFramePr>
        <p:xfrm>
          <a:off x="304920" y="2743200"/>
          <a:ext cx="45720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743200"/>
                    <a:ext cx="4572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4647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457200"/>
          <a:ext cx="4032000" cy="25876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  <a:gridCol w="503280"/>
                <a:gridCol w="503280"/>
                <a:gridCol w="504720"/>
                <a:gridCol w="50328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654440" y="457200"/>
          <a:ext cx="4032000" cy="25876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  <a:gridCol w="503280"/>
                <a:gridCol w="503280"/>
                <a:gridCol w="504720"/>
                <a:gridCol w="50328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5159520" y="990720"/>
            <a:ext cx="3024000" cy="20574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60480"/>
            <a:ext cx="4032360" cy="2087640"/>
          </a:xfrm>
          <a:prstGeom prst="parallelogram">
            <a:avLst>
              <a:gd name="adj" fmla="val 49281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3657600"/>
          <a:ext cx="6257880" cy="1581120"/>
        </p:xfrm>
        <a:graphic>
          <a:graphicData uri="http://schemas.openxmlformats.org/drawingml/2006/table">
            <a:tbl>
              <a:tblPr/>
              <a:tblGrid>
                <a:gridCol w="1563480"/>
                <a:gridCol w="1563840"/>
                <a:gridCol w="1565280"/>
                <a:gridCol w="15652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平行四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面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长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楷体_GB2312"/>
                        </a:rPr>
                        <a:t>面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15000" y="533520"/>
            <a:ext cx="1676520" cy="990360"/>
          </a:xfrm>
          <a:custGeom>
            <a:avLst/>
            <a:gdLst/>
            <a:ahLst/>
            <a:rect l="l" t="t" r="r" b="b"/>
            <a:pathLst>
              <a:path w="1056" h="720">
                <a:moveTo>
                  <a:pt x="0" y="720"/>
                </a:moveTo>
                <a:lnTo>
                  <a:pt x="0" y="0"/>
                </a:lnTo>
                <a:lnTo>
                  <a:pt x="1056" y="0"/>
                </a:lnTo>
                <a:lnTo>
                  <a:pt x="672" y="720"/>
                </a:lnTo>
                <a:lnTo>
                  <a:pt x="0" y="720"/>
                </a:lnTo>
                <a:close/>
              </a:path>
            </a:pathLst>
          </a:custGeom>
          <a:solidFill>
            <a:srgbClr val="ccff99"/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99480" y="533520"/>
            <a:ext cx="609480" cy="990360"/>
          </a:xfrm>
          <a:prstGeom prst="rtTriangle">
            <a:avLst/>
          </a:prstGeom>
          <a:solidFill>
            <a:srgbClr val="99ff33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33520"/>
            <a:ext cx="1676520" cy="990360"/>
          </a:xfrm>
          <a:custGeom>
            <a:avLst/>
            <a:gdLst/>
            <a:ahLst/>
            <a:rect l="l" t="t" r="r" b="b"/>
            <a:pathLst>
              <a:path w="1056" h="720">
                <a:moveTo>
                  <a:pt x="0" y="720"/>
                </a:moveTo>
                <a:lnTo>
                  <a:pt x="0" y="0"/>
                </a:lnTo>
                <a:lnTo>
                  <a:pt x="1056" y="0"/>
                </a:lnTo>
                <a:lnTo>
                  <a:pt x="672" y="720"/>
                </a:lnTo>
                <a:lnTo>
                  <a:pt x="0" y="720"/>
                </a:lnTo>
                <a:close/>
              </a:path>
            </a:pathLst>
          </a:custGeom>
          <a:solidFill>
            <a:srgbClr val="ccff99"/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797040"/>
            <a:ext cx="304920" cy="528480"/>
          </a:xfrm>
          <a:custGeom>
            <a:avLst/>
            <a:gdLst>
              <a:gd name="textAreaLeft" fmla="*/ 57960 w 304920"/>
              <a:gd name="textAreaRight" fmla="*/ 246960 w 304920"/>
              <a:gd name="textAreaTop" fmla="*/ 152640 h 528480"/>
              <a:gd name="textAreaBottom" fmla="*/ 375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6244"/>
                </a:moveTo>
                <a:lnTo>
                  <a:pt x="11850" y="6244"/>
                </a:lnTo>
                <a:lnTo>
                  <a:pt x="11850" y="0"/>
                </a:lnTo>
                <a:lnTo>
                  <a:pt x="21600" y="10800"/>
                </a:lnTo>
                <a:lnTo>
                  <a:pt x="11850" y="21600"/>
                </a:lnTo>
                <a:lnTo>
                  <a:pt x="11850" y="15356"/>
                </a:lnTo>
                <a:lnTo>
                  <a:pt x="0" y="15356"/>
                </a:lnTo>
                <a:lnTo>
                  <a:pt x="4113" y="10800"/>
                </a:lnTo>
                <a:lnTo>
                  <a:pt x="0" y="6244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2a6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33720" y="1457280"/>
            <a:ext cx="75960" cy="66600"/>
            <a:chOff x="2133720" y="1457280"/>
            <a:chExt cx="75960" cy="66600"/>
          </a:xfrm>
        </p:grpSpPr>
        <p:sp>
          <p:nvSpPr>
            <p:cNvPr id="60" name=""/>
            <p:cNvSpPr/>
            <p:nvPr/>
          </p:nvSpPr>
          <p:spPr>
            <a:xfrm>
              <a:off x="2133720" y="1457280"/>
              <a:ext cx="7596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720" y="1457280"/>
              <a:ext cx="0" cy="666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09680" y="533520"/>
            <a:ext cx="0" cy="990360"/>
          </a:xfrm>
          <a:prstGeom prst="line">
            <a:avLst/>
          </a:prstGeom>
          <a:ln w="1908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09680" y="533160"/>
            <a:ext cx="0" cy="99036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1905120"/>
            <a:ext cx="106704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720"/>
                </a:moveTo>
                <a:lnTo>
                  <a:pt x="384" y="0"/>
                </a:lnTo>
                <a:lnTo>
                  <a:pt x="672" y="0"/>
                </a:lnTo>
                <a:lnTo>
                  <a:pt x="672" y="720"/>
                </a:lnTo>
                <a:lnTo>
                  <a:pt x="0" y="720"/>
                </a:lnTo>
                <a:close/>
              </a:path>
            </a:pathLst>
          </a:custGeom>
          <a:solidFill>
            <a:srgbClr val="fff86d"/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1905120"/>
            <a:ext cx="1218960" cy="1143000"/>
          </a:xfrm>
          <a:custGeom>
            <a:avLst/>
            <a:gdLst/>
            <a:ahLst/>
            <a:rect l="l" t="t" r="r" b="b"/>
            <a:pathLst>
              <a:path w="768" h="720">
                <a:moveTo>
                  <a:pt x="0" y="720"/>
                </a:moveTo>
                <a:lnTo>
                  <a:pt x="0" y="0"/>
                </a:lnTo>
                <a:lnTo>
                  <a:pt x="768" y="0"/>
                </a:lnTo>
                <a:lnTo>
                  <a:pt x="384" y="720"/>
                </a:lnTo>
                <a:lnTo>
                  <a:pt x="0" y="720"/>
                </a:lnTo>
                <a:close/>
              </a:path>
            </a:pathLst>
          </a:custGeom>
          <a:solidFill>
            <a:srgbClr val="f98e0d"/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209680"/>
            <a:ext cx="304920" cy="609840"/>
          </a:xfrm>
          <a:custGeom>
            <a:avLst/>
            <a:gdLst>
              <a:gd name="textAreaLeft" fmla="*/ 57960 w 304920"/>
              <a:gd name="textAreaRight" fmla="*/ 246960 w 304920"/>
              <a:gd name="textAreaTop" fmla="*/ 176040 h 609840"/>
              <a:gd name="textAreaBottom" fmla="*/ 4338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6244"/>
                </a:moveTo>
                <a:lnTo>
                  <a:pt x="11850" y="6244"/>
                </a:lnTo>
                <a:lnTo>
                  <a:pt x="11850" y="0"/>
                </a:lnTo>
                <a:lnTo>
                  <a:pt x="21600" y="10800"/>
                </a:lnTo>
                <a:lnTo>
                  <a:pt x="11850" y="21600"/>
                </a:lnTo>
                <a:lnTo>
                  <a:pt x="11850" y="15356"/>
                </a:lnTo>
                <a:lnTo>
                  <a:pt x="0" y="15356"/>
                </a:lnTo>
                <a:lnTo>
                  <a:pt x="4113" y="10800"/>
                </a:lnTo>
                <a:lnTo>
                  <a:pt x="0" y="6244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2a6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971800"/>
            <a:ext cx="7632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971800"/>
            <a:ext cx="0" cy="7632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1905120"/>
            <a:ext cx="0" cy="114300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1981080"/>
            <a:ext cx="1219320" cy="1143000"/>
          </a:xfrm>
          <a:custGeom>
            <a:avLst/>
            <a:gdLst/>
            <a:ahLst/>
            <a:rect l="l" t="t" r="r" b="b"/>
            <a:pathLst>
              <a:path w="768" h="720">
                <a:moveTo>
                  <a:pt x="0" y="720"/>
                </a:moveTo>
                <a:lnTo>
                  <a:pt x="0" y="0"/>
                </a:lnTo>
                <a:lnTo>
                  <a:pt x="768" y="0"/>
                </a:lnTo>
                <a:lnTo>
                  <a:pt x="384" y="720"/>
                </a:lnTo>
                <a:lnTo>
                  <a:pt x="0" y="720"/>
                </a:lnTo>
                <a:close/>
              </a:path>
            </a:pathLst>
          </a:custGeom>
          <a:solidFill>
            <a:srgbClr val="f98e0d"/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105160" y="533520"/>
            <a:ext cx="609840" cy="990360"/>
            <a:chOff x="5105160" y="533520"/>
            <a:chExt cx="609840" cy="990360"/>
          </a:xfrm>
        </p:grpSpPr>
        <p:sp>
          <p:nvSpPr>
            <p:cNvPr id="73" name=""/>
            <p:cNvSpPr/>
            <p:nvPr/>
          </p:nvSpPr>
          <p:spPr>
            <a:xfrm flipH="1">
              <a:off x="5104800" y="533520"/>
              <a:ext cx="609480" cy="990360"/>
            </a:xfrm>
            <a:prstGeom prst="rtTriangle">
              <a:avLst/>
            </a:prstGeom>
            <a:solidFill>
              <a:srgbClr val="99ff33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639040" y="1447920"/>
              <a:ext cx="75960" cy="66600"/>
              <a:chOff x="5639040" y="1447920"/>
              <a:chExt cx="75960" cy="66600"/>
            </a:xfrm>
          </p:grpSpPr>
          <p:sp>
            <p:nvSpPr>
              <p:cNvPr id="75" name=""/>
              <p:cNvSpPr/>
              <p:nvPr/>
            </p:nvSpPr>
            <p:spPr>
              <a:xfrm>
                <a:off x="5639040" y="1447920"/>
                <a:ext cx="7596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639040" y="1447920"/>
                <a:ext cx="0" cy="666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533520" y="3657600"/>
            <a:ext cx="815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长方形的面积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=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长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X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平行四边形的面积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=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底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X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48240" y="5559480"/>
            <a:ext cx="50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    =        a        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8320" y="1981080"/>
            <a:ext cx="1066680" cy="1143000"/>
            <a:chOff x="4648320" y="1981080"/>
            <a:chExt cx="1066680" cy="1143000"/>
          </a:xfrm>
        </p:grpSpPr>
        <p:sp>
          <p:nvSpPr>
            <p:cNvPr id="80" name=""/>
            <p:cNvSpPr/>
            <p:nvPr/>
          </p:nvSpPr>
          <p:spPr>
            <a:xfrm>
              <a:off x="4648320" y="1981080"/>
              <a:ext cx="1066680" cy="114300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720"/>
                  </a:moveTo>
                  <a:lnTo>
                    <a:pt x="384" y="0"/>
                  </a:lnTo>
                  <a:lnTo>
                    <a:pt x="672" y="0"/>
                  </a:lnTo>
                  <a:lnTo>
                    <a:pt x="672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f86d"/>
            </a:solidFill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5638680" y="3048120"/>
              <a:ext cx="76320" cy="75960"/>
              <a:chOff x="5638680" y="3048120"/>
              <a:chExt cx="76320" cy="75960"/>
            </a:xfrm>
          </p:grpSpPr>
          <p:sp>
            <p:nvSpPr>
              <p:cNvPr id="82" name=""/>
              <p:cNvSpPr/>
              <p:nvPr/>
            </p:nvSpPr>
            <p:spPr>
              <a:xfrm>
                <a:off x="5638680" y="3048120"/>
                <a:ext cx="7632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638680" y="3048120"/>
                <a:ext cx="0" cy="7596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0021E-006 L 0.18334 -1.70021E-006 E">
                                      <p:cBhvr>
                                        <p:cTn id="1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1.70021E-006 L 0.18333 1.70021E-006 E">
                                      <p:cBhvr>
                                        <p:cTn id="1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平行四边形花坛的底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，高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的面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219320"/>
            <a:ext cx="3429000" cy="1828800"/>
          </a:xfrm>
          <a:prstGeom prst="parallelogram">
            <a:avLst>
              <a:gd name="adj" fmla="val 4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81760" y="1219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45840" y="30481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26760" y="18288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32080" y="1600200"/>
            <a:ext cx="442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＝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平方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答：它的面积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平方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3960" y="472428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×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6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7720" y="481968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×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00d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30800" y="4743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×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36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09680" y="914400"/>
            <a:ext cx="4114800" cy="1905120"/>
          </a:xfrm>
          <a:prstGeom prst="parallelogram">
            <a:avLst>
              <a:gd name="adj" fmla="val 5399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990720"/>
            <a:ext cx="0" cy="1904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914400"/>
            <a:ext cx="2361960" cy="1295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819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1676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990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5909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590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334120" y="1904760"/>
            <a:ext cx="759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19051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352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下面求平行四边形的面积的方法哪种是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18480" y="139680"/>
            <a:ext cx="1614240" cy="1231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304920"/>
            <a:ext cx="2376360" cy="792000"/>
          </a:xfrm>
          <a:prstGeom prst="ellipse">
            <a:avLst/>
          </a:prstGeom>
          <a:solidFill>
            <a:srgbClr val="00ff00">
              <a:alpha val="39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7920" y="4495680"/>
            <a:ext cx="33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12×8 </a:t>
            </a:r>
            <a:r>
              <a:rPr b="1" lang="zh-CN" sz="4400" spc="-1" strike="noStrike">
                <a:solidFill>
                  <a:srgbClr val="008000"/>
                </a:solidFill>
                <a:latin typeface="幼圆"/>
                <a:ea typeface="幼圆"/>
              </a:rPr>
              <a:t>〖  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44956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12×9.6</a:t>
            </a:r>
            <a:r>
              <a:rPr b="1" lang="zh-CN" sz="4400" spc="-1" strike="noStrike">
                <a:solidFill>
                  <a:srgbClr val="008000"/>
                </a:solidFill>
                <a:latin typeface="幼圆"/>
                <a:ea typeface="幼圆"/>
              </a:rPr>
              <a:t>〖  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257800"/>
            <a:ext cx="33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10×8 </a:t>
            </a:r>
            <a:r>
              <a:rPr b="1" lang="zh-CN" sz="4400" spc="-1" strike="noStrike">
                <a:solidFill>
                  <a:srgbClr val="008000"/>
                </a:solidFill>
                <a:latin typeface="幼圆"/>
                <a:ea typeface="幼圆"/>
              </a:rPr>
              <a:t>〖  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2578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10×9.6</a:t>
            </a:r>
            <a:r>
              <a:rPr b="1" lang="zh-CN" sz="4400" spc="-1" strike="noStrike">
                <a:solidFill>
                  <a:srgbClr val="008000"/>
                </a:solidFill>
                <a:latin typeface="幼圆"/>
                <a:ea typeface="幼圆"/>
              </a:rPr>
              <a:t>〖  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64680" y="4618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79480" y="53341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7840" y="54100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45720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362320"/>
            <a:ext cx="91440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02480" y="1783440"/>
            <a:ext cx="6393600" cy="3637080"/>
            <a:chOff x="1302480" y="1783440"/>
            <a:chExt cx="6393600" cy="3637080"/>
          </a:xfrm>
        </p:grpSpPr>
        <p:sp>
          <p:nvSpPr>
            <p:cNvPr id="121" name=""/>
            <p:cNvSpPr/>
            <p:nvPr/>
          </p:nvSpPr>
          <p:spPr>
            <a:xfrm rot="3858000">
              <a:off x="911520" y="2961000"/>
              <a:ext cx="3419640" cy="1281240"/>
            </a:xfrm>
            <a:prstGeom prst="parallelogram">
              <a:avLst>
                <a:gd name="adj" fmla="val 48647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2362320"/>
              <a:ext cx="2362320" cy="2514600"/>
            </a:xfrm>
            <a:prstGeom prst="parallelogram">
              <a:avLst>
                <a:gd name="adj" fmla="val 44565"/>
              </a:avLst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4600" y="2362320"/>
              <a:ext cx="5181480" cy="2514600"/>
            </a:xfrm>
            <a:prstGeom prst="parallelogram">
              <a:avLst>
                <a:gd name="adj" fmla="val 153635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H="1">
            <a:off x="3809880" y="2362320"/>
            <a:ext cx="1067040" cy="2514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362320"/>
            <a:ext cx="1143000" cy="25146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302400" y="2895480"/>
            <a:ext cx="9118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4876920"/>
            <a:ext cx="129528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5880" y="491796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320" y="838080"/>
            <a:ext cx="7619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幼圆"/>
              </a:rPr>
              <a:t>下面哪个平行四边形的面积大呢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幼圆"/>
              <a:ea typeface="幼圆"/>
            </a:endParaRPr>
          </a:p>
        </p:txBody>
      </p:sp>
      <p:sp>
        <p:nvSpPr>
          <p:cNvPr id="132" name=""/>
          <p:cNvSpPr/>
          <p:nvPr/>
        </p:nvSpPr>
        <p:spPr>
          <a:xfrm>
            <a:off x="212760" y="0"/>
            <a:ext cx="26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猪猪猫.CN</cp:lastModifiedBy>
  <dcterms:modified xsi:type="dcterms:W3CDTF">2009-11-17T06:44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