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1DF-9B82-4D10-A7FC-0B05FE0B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BCA-9870-4A48-BDF7-9094066E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975-0FFC-4F5B-BA10-58A551A5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1DE-3116-460E-8F4A-434E4ED1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BEB-81A0-45B4-ABEC-B06DB96E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D37-D72B-4126-8EB1-69CFC51F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0CA-5539-4C18-9187-C39AA6A8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2F8-DCE5-480A-82F0-667EC520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750-5ED9-44C7-B892-FF871BA3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D52-1A4E-4181-8193-5AF52264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AA4-44E8-43AB-BCE9-42ADE2B2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4A3-B4B8-4E58-AA8A-A9694A01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0DCB-F5B4-41AD-826E-4E8E09F9F3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560" y="16002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非谓语动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50652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词组搭配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形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家常做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home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8380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候诊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waiting 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8380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起居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sitting 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83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割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cutting 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676520"/>
            <a:ext cx="206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起跑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starting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1676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终点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finishing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6765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购物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shopp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16765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购物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shopping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5146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购物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shopping bas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5146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阅览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reading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146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有立足之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standing room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4290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禁止吸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No sm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3505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禁止停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No pa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5053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游泳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swimming le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42670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餐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dining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434340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植树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Tree Planting D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25146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毛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writing br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334120"/>
            <a:ext cx="83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swimm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hiking ,   fishing,    skating ,   shopp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34290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潜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scuba d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9436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om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cooking,  reading, washing, cleaning, shopp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57200"/>
            <a:ext cx="29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动词原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914400"/>
            <a:ext cx="49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使役动词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et . make  .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5909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句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12408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y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no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原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don’t  yo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原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ou’d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bet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原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ou’d  better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n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原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)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Will you ple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原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ll you please 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n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原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71600"/>
            <a:ext cx="57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.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beg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Don’t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m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baby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c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He always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ch hous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10520" y="1522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四、过去分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87000" y="685800"/>
            <a:ext cx="449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hav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sth 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don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让别人做某事，表示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动作由别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完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 will 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hav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y hair 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cut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h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my  bad tooth 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pul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765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常见短语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 boy 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cal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Jim    a man 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nam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John      get lost     get 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d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giv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name      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man-ma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satellite     a 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worrie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ther     a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 brok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g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五、感观动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2280" y="428472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感观动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93920" y="39625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96880" y="4665600"/>
            <a:ext cx="9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动词原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02120" y="394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动作正在进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13200" y="472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动作的全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41148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9800" y="3290760"/>
            <a:ext cx="45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常见感观动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see , watch, hear, feel ,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222880"/>
            <a:ext cx="76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se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ly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ound on her way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the classroom jus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、下列动词既可接不定式又可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式，但意义有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7621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s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066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to do s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停止原来的事开始干另一件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0920" y="407880"/>
            <a:ext cx="30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doin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停止正在做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1911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for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038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to do 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doing 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438280"/>
            <a:ext cx="12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g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666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to do 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doing 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68580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426708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438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9960" y="146844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4619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by is sleeping , please don’t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top sin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 long walk ,  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opped 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2240" y="2816280"/>
            <a:ext cx="244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165480"/>
            <a:ext cx="95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went on wor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e finished his homework , 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went on to re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5070600"/>
            <a:ext cx="94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rget to turn o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light when you leave the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remembered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teacher before, he worked in the l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228600"/>
            <a:ext cx="9144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 Thank you for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us so well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 to teach   B. te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taught    D.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   I often do some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 washed   B. to w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washing  D. w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   The boy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Jack in Class One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 call           B. to be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calling     D.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  It often takes me half an hour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 Walking      B. to wal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walked         D. w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   Don’t forget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er clean water every da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 to give     B. g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given        D. g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533520"/>
            <a:ext cx="73152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I think it is important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English well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 learning   B.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to learn   D. lear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   The funny story made us all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ar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 laugh    B. to la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laughing  D. laug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.   Our teacher told us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ard at our lesson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 to work  B.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working  D. wor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45720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uld you tell me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his newspap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 read how          B. how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    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hat to read         D. what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don’t know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ex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  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hat to do  B. what to do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  C. how to do   D. to how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hair is too long , so I must have it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this aftern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cut  B. cuts  C. cutting  D. cu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member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last for class agai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   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t to           B. be no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   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t to be     D. not to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r Smith asked the m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he queu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   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t jump             B. didn’t ju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   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t to jump         D. to not jump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2120" y="568440"/>
            <a:ext cx="784836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hy not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with us ? You see , it’s very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 ; interested          B. go;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 go ; interested      D. going ;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.– What about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 the cinema tonigh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That’s a good idea. I’d like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with you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ing ; going         B. to go ; to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ing ; to go          D. go ;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6.Everyone here is busy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read for the coming                                                               entrance   test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et    B. to get    C. getting      D. 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304920"/>
            <a:ext cx="87631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.we’ve  worked for two hours . Let’s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a res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p to have       B. stop ha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 stop to have   D .stopping ha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ould you mind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me a favou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恩惠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   B. to go     C. doing      D. d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r Wang asked me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him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lp     B. helps     C. to help      D. hel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lease tell Jim not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late agai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     B. be     C. to be         D. b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648320"/>
            <a:ext cx="685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Please don’t forget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me , will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   B. writing       C.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89548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2.The boy wants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is father a question about the                                                                                                                                            mo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sking    B. to ask     C. ask      D. as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33520"/>
            <a:ext cx="72392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1.Miss Yang asked the boy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, the baby was sleeping in the room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 stop to sing    B. to stop s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stop singing       D. stop to 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30800" y="457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非谓语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447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谓语动词：也就是不能用作 谓语的动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438280"/>
            <a:ext cx="152280" cy="1752840"/>
          </a:xfrm>
          <a:custGeom>
            <a:avLst/>
            <a:gdLst>
              <a:gd name="textAreaLeft" fmla="*/ 97200 w 152280"/>
              <a:gd name="textAreaRight" fmla="*/ 152640 w 1522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5880" y="2209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动词不定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20960" y="274320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V_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32767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过去分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6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原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016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3733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278080"/>
            <a:ext cx="7467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t’s about six o’clock, Let’s — supper now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p having    B. to stop ha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p to have   D. to stop to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6.We’d better — on the road . A car may hit u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t to play     B. not p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to not play    D. don’t 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0"/>
            <a:ext cx="7315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her decided — Tom away from school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eep not    B. keep not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o keep    D. not k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05120" y="25146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35812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9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often see them — with some foreigner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lk    B. to talk    C. talking          D. talk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0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says life won’t be worth — without lov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ve     B.living      C. living           D. to l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533520"/>
            <a:ext cx="84582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u Mei helped the Turners — their tickets on the                                                              trai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ck    B. look up    C. pick up       D. look l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8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often see them — with some foreigner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lk      B. to talk     C. talking      D. talk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590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914400"/>
            <a:ext cx="81532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1.This morning I saw a man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on the street on                                                                   my way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lives ; there              B. lived ; to schoo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lying ; to school      D. to lie ;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2.He has given up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tennis since he was ill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play    B. to play     C. playing       D.pl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3. ----will you come to the net bar with m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- sorry , My mother always tells  me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r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t go     B. not to go        C. go         D. to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1295280"/>
            <a:ext cx="8534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4._ Do you still remember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e somewhere  Beijin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 Yes ,of  course . Two years ag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 to see   B. see    C. seeing    D. sa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5. Parents must warn their children —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. to play with fire    B. not to play with f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. of  playing fire      D. playing f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5335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词不定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416240" y="838080"/>
            <a:ext cx="4397040" cy="1267560"/>
            <a:chOff x="1416240" y="838080"/>
            <a:chExt cx="4397040" cy="1267560"/>
          </a:xfrm>
        </p:grpSpPr>
        <p:sp>
          <p:nvSpPr>
            <p:cNvPr id="52" name=""/>
            <p:cNvSpPr/>
            <p:nvPr/>
          </p:nvSpPr>
          <p:spPr>
            <a:xfrm>
              <a:off x="1416240" y="914400"/>
              <a:ext cx="439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肯定式： </a:t>
              </a:r>
              <a:r>
                <a:rPr b="0" lang="zh-CN" sz="2400" spc="-1" strike="noStrike">
                  <a:solidFill>
                    <a:srgbClr val="ff6600"/>
                  </a:solidFill>
                  <a:latin typeface="Times New Roman"/>
                </a:rPr>
                <a:t>to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动词原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构成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否定式： </a:t>
              </a: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</a:rPr>
                <a:t>not  to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动词原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2320" y="838080"/>
              <a:ext cx="152280" cy="12193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962520" y="838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133720"/>
            <a:ext cx="38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动词不定式的常见用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90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定式作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862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不定式作主语时，习惯上用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式主语，而将动词不定式后置，构成固定句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It’s +adj +to do s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048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o learn English  w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eas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o protect our enviro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very impor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3400" y="4994280"/>
            <a:ext cx="60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easy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o learn English  w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o protect our enviro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4572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定式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90512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只能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定式的动词及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362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要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236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i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希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362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ho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希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236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de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895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会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le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429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要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ould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895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迫不及待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can’t  wa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429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备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get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0666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op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be a do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can’t afford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buy a cam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429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负担不起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can’t af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9625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g Tao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hopes to 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cientist in the future and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wishes to vis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on by himself. 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would like to col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ictures about the moon very much, so 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learns to 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Internet and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wants to 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e Information . Then 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plans to 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computer, but 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can’t afford 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. Now 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can’t wait to look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job and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decides to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rd at it. At  the same time h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get ready to m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 dream come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85800"/>
            <a:ext cx="43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定式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宾语补足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05120"/>
            <a:ext cx="30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动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43828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、叫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告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te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wa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36232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邀请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inv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895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喜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89548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警告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w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鼓励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encou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3429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would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184400"/>
            <a:ext cx="62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mother always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li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get 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y oft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a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lea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862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day my moth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go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k, but s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r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to 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 late.My fath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Lucy,because 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a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lea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 from Lucy. 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v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me . Luc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tu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coura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p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e  English .  Sometimes s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s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t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 Chinese.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uld li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st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me  very much, so I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 wa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me outside the school gate every Satu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533520"/>
            <a:ext cx="31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定式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定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99072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熟记下列短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413000"/>
            <a:ext cx="27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1447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 d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46160"/>
            <a:ext cx="31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thing  else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1905120"/>
            <a:ext cx="25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 work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403360"/>
            <a:ext cx="32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 nice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 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124080"/>
            <a:ext cx="51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I  have  a  lot  of  homework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267080"/>
            <a:ext cx="44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Do  you  have  anything 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o  s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98960" y="23274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 housework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 to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952880"/>
            <a:ext cx="63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My father has something important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to tell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080" y="5791320"/>
            <a:ext cx="48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Would you like something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to dri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68580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定式与疑问词连用，构成不定式短语，作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7920" y="1184400"/>
            <a:ext cx="51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I   don’t    know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here  to  g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He  didn’t  know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hat  to  d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Can  you  tell  me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how  to  g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t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I  can’t   decide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hich to ch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7600" y="313848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疑问词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定式” 结构可以转换为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从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0920" y="3608280"/>
            <a:ext cx="535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here I will 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 didn’t know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hat he would 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n you tell me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how I can get the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 can’t decide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hich I will choo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0492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常见固定搭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09480"/>
            <a:ext cx="58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o  …  to 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The  desk  is  too  heavy  to  carr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The  boy  is  too  young   to  go  to  schoo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7652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e + adj + enough  to 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The  girl  is  old  enough  to  go  to 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The  ice  is  thick  enough  to  skate  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The  room  is  big  enough  for  10  people  to  live  i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124080"/>
            <a:ext cx="77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It’s  time  to  do  sth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It’s  time  for  sb  to  do  s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It’s  time  to  have  a   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It’s  time  for  us  to  play  footbal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1911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.It  takes  sb  some  time  to  do  s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t   takes  me  three  days  to  finish  the  job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952880"/>
            <a:ext cx="830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.be + adj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glad  . sorry  .sure . happy . afrai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等表情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形容词后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+ to  do  st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I’m  sorry  to  trouble  you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I’m  afraid  to  face  my  mo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-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685800"/>
            <a:ext cx="33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常见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动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676520"/>
            <a:ext cx="40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词组搭配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971800"/>
            <a:ext cx="54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词组搭配中受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介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影响需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-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193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喜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enj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219320"/>
            <a:ext cx="30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完成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114300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391520" y="1143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持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143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prac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133720"/>
            <a:ext cx="845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e  wor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doin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e bus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oin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feel lik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keep s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42900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eep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                       10) spend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e good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oing                   11) what (how)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 abou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well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i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                   12) It’s another way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op…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f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oing                13) instead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nks…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oing              14) be afraid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o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)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ithou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                    15) get ready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lp…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wi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oing                 16) prefer doing…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e used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 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doing                17) make a  contribution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d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e interested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i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          18) try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ou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7:26:24Z</dcterms:created>
  <dc:creator>Billgates</dc:creator>
  <dc:description/>
  <dc:language>en-US</dc:language>
  <cp:lastModifiedBy>jason</cp:lastModifiedBy>
  <dcterms:modified xsi:type="dcterms:W3CDTF">2009-03-25T00:44:51Z</dcterms:modified>
  <cp:revision>23</cp:revision>
  <dc:subject/>
  <dc:title>PowerPoint 演示文稿</dc:title>
</cp:coreProperties>
</file>