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447-0D1E-4C2B-A436-1F0CE707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2E8-3B76-4341-BC13-218C31BA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B0D-7C78-4CD5-A3CB-C45ED6C9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CB1-1D17-4527-93AB-4D903CBF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38F-5851-46A8-B3C0-0D509B7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57D-A75C-4992-8382-0FC46EDD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D1C-377B-4E27-A3B3-51512CB0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ADB-234A-4A74-AE5C-8868FF1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0CD-6D30-4025-A34E-DFC46FAC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E78-1C8C-484A-BD58-DD66D529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398-BE03-4BDD-AC5E-F5C04613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BDD-0054-4A91-B136-0A4C272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15C8-D4C1-4D9B-9679-749EAC497A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长的纸条，在距离一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6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的地方有一个红点，把纸条对折起来，在对准红点的地方涂一个黄点，然后打开纸条从红点的地方剪断，再把有黄点的一段对折起来，再对准黄点的地方剪一刀，使纸条断成三段，问四段纸条中最短的一段长度是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一把长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的直尺，你能不能在上面只刻上三条刻度线，使得这把直尺可以量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的所有整厘米的长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由风筝形和镖形两种不同的砖铺设而成，请仔细观察这个美丽的图案，并且回答风筝形砖的四个内角各是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两条直线相交，四个交角中的一个锐角或一个直角称为这条直线的“夹角”（见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-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，现平面上有若干条直线，它们两两相交，并且“夹角”只能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 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0 °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问：至多有多少条直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纸板上已经画出了一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 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角，请你用一个正方形的模板作工具，在纸板上画出一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5 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2209680"/>
            <a:ext cx="198108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743200"/>
            <a:ext cx="9907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2096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2767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2133720"/>
            <a:ext cx="1981080" cy="19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514600"/>
            <a:ext cx="9907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286000"/>
            <a:ext cx="114300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266688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4864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010280" y="28191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2971800"/>
            <a:ext cx="1981080" cy="2286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2895480"/>
            <a:ext cx="990720" cy="3049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666880"/>
            <a:ext cx="609480" cy="45720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372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-14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两个紧贴的转动较轮的开始位置（大胶轮上画出的一条直径为竖直线，小胶轮上画出的一条直径为水平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胶轮周长是小胶轮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，问大胶轮转过多少度后，两轮的这两条直径第一次平行？两轮的这两条直径从平行位置转到再次平行，大胶轮要转多少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-14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两个紧贴的转动较轮的开始位置（大胶轮上画出的一条直径为竖直线，小胶轮上画出的一条直径为水平线）。胶轮周长是小胶轮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，问大胶轮转过多少度后，两轮的这两条直径第一次平行？两轮的这两条直径从平行位置转到再次平行，大胶轮要转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7T14:11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