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chimes.wav" ContentType="audio/x-wav"/>
  <Override PartName="/ppt/media/image8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8B98-6309-4A45-B8A2-CCB329751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D8B3-87D9-4665-B2CD-B49C428A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40ED-F4B2-469B-A07E-743F6A8B1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1D0E-39E5-43B1-BAFD-0C9319DA9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CD8F-2664-4E0F-B5B4-79E6DC40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7A37-B530-461D-994A-F3346192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068A-99CA-41DC-950F-166E51C6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F4AF-CE04-4279-9138-DF71F0BA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7E97-4D93-4B80-939C-EA6620F7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46BE-4495-4B12-85D5-4D0CE714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8EC3-BF08-40A2-BBAD-B4F6B2FD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434B-5306-4750-B3F4-CAB5AC5E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BAF8-6FD3-46B0-8A7C-1F63A6314B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0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1.pn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2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2.png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2.png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2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6.png"/><Relationship Id="rId23" Type="http://schemas.openxmlformats.org/officeDocument/2006/relationships/slide" Target="slide2.xml"/><Relationship Id="rId2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Times New Roman"/>
              </a:rPr>
              <a:t>平面图形面积的复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7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三角形和平行四边形底相等，面积也相等，平行四边形高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c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那么三角形的高是（       ）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0cm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cm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7236000" y="1700280"/>
            <a:ext cx="1295280" cy="642600"/>
            <a:chOff x="7236000" y="1700280"/>
            <a:chExt cx="1295280" cy="642600"/>
          </a:xfrm>
        </p:grpSpPr>
        <p:sp>
          <p:nvSpPr>
            <p:cNvPr id="246" name=""/>
            <p:cNvSpPr/>
            <p:nvPr/>
          </p:nvSpPr>
          <p:spPr>
            <a:xfrm>
              <a:off x="7236000" y="170028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16880" y="1776240"/>
              <a:ext cx="456840" cy="532800"/>
            </a:xfrm>
            <a:prstGeom prst="ellipse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295280" y="990720"/>
            <a:ext cx="56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阴影部分的面积：单位（厘米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76720" y="134136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50920" y="1773360"/>
            <a:ext cx="649440" cy="1008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6720" y="1773360"/>
            <a:ext cx="934920" cy="1008000"/>
          </a:xfrm>
          <a:prstGeom prst="parallelogram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59280" y="1773360"/>
            <a:ext cx="719280" cy="934920"/>
          </a:xfrm>
          <a:custGeom>
            <a:avLst/>
            <a:gdLst>
              <a:gd name="textAreaLeft" fmla="*/ 158040 w 719280"/>
              <a:gd name="textAreaRight" fmla="*/ 561240 w 719280"/>
              <a:gd name="textAreaTop" fmla="*/ 205560 h 934920"/>
              <a:gd name="textAreaBottom" fmla="*/ 72936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372360" y="1773360"/>
            <a:ext cx="1152360" cy="93492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47640" y="177336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1547640" y="2708280"/>
            <a:ext cx="63374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19280" y="198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340000" y="27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19640" y="2781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03640" y="278136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516720" y="2781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58920" y="3429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=2×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916360" y="3141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=2×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211640" y="3573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=(3+1)×3÷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27640" y="321300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=3×4÷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个徒弟圈的土地情况，如下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87280" y="1413000"/>
            <a:ext cx="684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猪八戒                沙和尚               孙悟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763640" y="2781360"/>
            <a:ext cx="136836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067280" y="2852640"/>
            <a:ext cx="1152360" cy="10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84720" y="2708280"/>
            <a:ext cx="1513080" cy="1440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47640" y="4149720"/>
            <a:ext cx="60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果唐僧发给三个徒弟的绳子长度相等，都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，他们谁圈地的面积最大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32000" y="1844640"/>
            <a:ext cx="6264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计算：求阴影部分的面积（单位：厘米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971640" y="1197000"/>
            <a:ext cx="3384360" cy="27716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84360" y="2421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95640" y="2852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个长方形被一线段分成三角形和梯形两部分，它们的面积差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8cm²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梯形的上底长是多少厘米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411280" y="2781360"/>
            <a:ext cx="395928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411280" y="2781360"/>
            <a:ext cx="295128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364000" y="2781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24360" y="2349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43640" y="342900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82692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通过今天的整理和复习，你又有什么收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58920" y="56610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学们猜一猜，三个徒弟围的地谁围的面积最大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00000" y="549360"/>
            <a:ext cx="1994040" cy="2808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348000" y="4005360"/>
            <a:ext cx="1224000" cy="1162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348000" y="476280"/>
            <a:ext cx="1300320" cy="1368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276720" y="2133720"/>
            <a:ext cx="1224000" cy="1366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524720" y="765000"/>
            <a:ext cx="115272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96360" y="2421000"/>
            <a:ext cx="1081080" cy="10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24720" y="4076640"/>
            <a:ext cx="1366920" cy="1295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1655640" y="3968640"/>
            <a:ext cx="1511280" cy="1727280"/>
          </a:xfrm>
          <a:prstGeom prst="wedgeRectCallout">
            <a:avLst>
              <a:gd name="adj1" fmla="val -88449"/>
              <a:gd name="adj2" fmla="val 4034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三条一样长的绳子，你们自己去围一块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1268280"/>
            <a:ext cx="2735280" cy="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16360" y="2997360"/>
            <a:ext cx="2735280" cy="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16360" y="4653000"/>
            <a:ext cx="2735280" cy="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面积的意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266688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0066ff"/>
                </a:solidFill>
                <a:latin typeface="Times New Roman"/>
              </a:rPr>
              <a:t>物体的表面或围成的平面图形的大小叫做它们的面积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762120" y="2666880"/>
            <a:ext cx="5943600" cy="990720"/>
            <a:chOff x="762120" y="2666880"/>
            <a:chExt cx="5943600" cy="990720"/>
          </a:xfrm>
        </p:grpSpPr>
        <p:sp>
          <p:nvSpPr>
            <p:cNvPr id="57" name=""/>
            <p:cNvSpPr/>
            <p:nvPr/>
          </p:nvSpPr>
          <p:spPr>
            <a:xfrm>
              <a:off x="1752840" y="2666880"/>
              <a:ext cx="990360" cy="990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43200" y="2666880"/>
              <a:ext cx="990720" cy="990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62120" y="2666880"/>
              <a:ext cx="990720" cy="990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33920" y="2666880"/>
              <a:ext cx="990720" cy="990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724640" y="2666880"/>
              <a:ext cx="990360" cy="990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5000" y="2666880"/>
              <a:ext cx="990720" cy="990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762120" y="3657600"/>
            <a:ext cx="5943600" cy="990720"/>
            <a:chOff x="762120" y="3657600"/>
            <a:chExt cx="5943600" cy="990720"/>
          </a:xfrm>
        </p:grpSpPr>
        <p:sp>
          <p:nvSpPr>
            <p:cNvPr id="64" name=""/>
            <p:cNvSpPr/>
            <p:nvPr/>
          </p:nvSpPr>
          <p:spPr>
            <a:xfrm>
              <a:off x="4724640" y="3657600"/>
              <a:ext cx="990360" cy="990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2120" y="3657600"/>
              <a:ext cx="990720" cy="990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52840" y="3657600"/>
              <a:ext cx="990360" cy="990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43200" y="3657600"/>
              <a:ext cx="990720" cy="990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33920" y="3657600"/>
              <a:ext cx="990720" cy="990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15000" y="3657600"/>
              <a:ext cx="990720" cy="990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762120" y="1676520"/>
            <a:ext cx="5943600" cy="990360"/>
            <a:chOff x="762120" y="1676520"/>
            <a:chExt cx="5943600" cy="990360"/>
          </a:xfrm>
        </p:grpSpPr>
        <p:sp>
          <p:nvSpPr>
            <p:cNvPr id="71" name=""/>
            <p:cNvSpPr/>
            <p:nvPr/>
          </p:nvSpPr>
          <p:spPr>
            <a:xfrm>
              <a:off x="2743200" y="1676520"/>
              <a:ext cx="990720" cy="990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2120" y="1676520"/>
              <a:ext cx="990720" cy="990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752840" y="1676520"/>
              <a:ext cx="990360" cy="990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33920" y="1676520"/>
              <a:ext cx="990720" cy="990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4640" y="1676520"/>
              <a:ext cx="990360" cy="990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715000" y="1676520"/>
              <a:ext cx="990720" cy="990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762120" y="3657600"/>
            <a:ext cx="990360" cy="9907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1676520"/>
            <a:ext cx="990720" cy="990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2666880"/>
            <a:ext cx="990720" cy="9907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3657600"/>
            <a:ext cx="990720" cy="9907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858000" y="1676520"/>
            <a:ext cx="1082520" cy="2971800"/>
            <a:chOff x="6858000" y="1676520"/>
            <a:chExt cx="1082520" cy="2971800"/>
          </a:xfrm>
        </p:grpSpPr>
        <p:sp>
          <p:nvSpPr>
            <p:cNvPr id="82" name=""/>
            <p:cNvSpPr/>
            <p:nvPr/>
          </p:nvSpPr>
          <p:spPr>
            <a:xfrm>
              <a:off x="6858000" y="1676520"/>
              <a:ext cx="228600" cy="2971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47080" y="1828800"/>
              <a:ext cx="79344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752480" y="3657600"/>
            <a:ext cx="990720" cy="9907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3200" y="3657600"/>
            <a:ext cx="990720" cy="9907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3657600"/>
            <a:ext cx="990360" cy="9907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3657600"/>
            <a:ext cx="990720" cy="9907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15000" y="3657600"/>
            <a:ext cx="990720" cy="9907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4648320"/>
            <a:ext cx="5943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3524040" y="2152080"/>
            <a:ext cx="304920" cy="5905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53720 h 5905440"/>
              <a:gd name="textAreaBottom" fmla="*/ 5751720 h 590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08"/>
                </a:lnTo>
                <a:cubicBezTo>
                  <a:pt x="10800" y="9708"/>
                  <a:pt x="5400" y="10608"/>
                  <a:pt x="0" y="10608"/>
                </a:cubicBezTo>
                <a:cubicBezTo>
                  <a:pt x="5400" y="10608"/>
                  <a:pt x="10800" y="11508"/>
                  <a:pt x="10800" y="1240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51814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=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4648320"/>
            <a:ext cx="59436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1676520"/>
            <a:ext cx="0" cy="297180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05720" y="1676520"/>
            <a:ext cx="0" cy="297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62920" y="281952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=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6920" y="76212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S=a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9422640" y="6066000"/>
            <a:ext cx="258480" cy="372600"/>
            <a:chOff x="9422640" y="6066000"/>
            <a:chExt cx="258480" cy="372600"/>
          </a:xfrm>
        </p:grpSpPr>
        <p:sp>
          <p:nvSpPr>
            <p:cNvPr id="98" name=""/>
            <p:cNvSpPr/>
            <p:nvPr/>
          </p:nvSpPr>
          <p:spPr>
            <a:xfrm flipH="1">
              <a:off x="9422640" y="6066000"/>
              <a:ext cx="212400" cy="37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445320" y="6102000"/>
              <a:ext cx="235800" cy="29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长方形面积公式的推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2971800" y="1905120"/>
            <a:ext cx="2738160" cy="1447560"/>
            <a:chOff x="2971800" y="1905120"/>
            <a:chExt cx="2738160" cy="1447560"/>
          </a:xfrm>
        </p:grpSpPr>
        <p:sp>
          <p:nvSpPr>
            <p:cNvPr id="102" name=""/>
            <p:cNvSpPr/>
            <p:nvPr/>
          </p:nvSpPr>
          <p:spPr>
            <a:xfrm>
              <a:off x="2971800" y="1905120"/>
              <a:ext cx="2736720" cy="1439640"/>
            </a:xfrm>
            <a:custGeom>
              <a:avLst/>
              <a:gdLst/>
              <a:ahLst/>
              <a:rect l="l" t="t" r="r" b="b"/>
              <a:pathLst>
                <a:path w="1724" h="907">
                  <a:moveTo>
                    <a:pt x="545" y="907"/>
                  </a:moveTo>
                  <a:lnTo>
                    <a:pt x="1724" y="907"/>
                  </a:lnTo>
                  <a:lnTo>
                    <a:pt x="1724" y="0"/>
                  </a:lnTo>
                  <a:lnTo>
                    <a:pt x="0" y="0"/>
                  </a:lnTo>
                  <a:lnTo>
                    <a:pt x="545" y="907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09960" y="1905120"/>
              <a:ext cx="0" cy="1441080"/>
            </a:xfrm>
            <a:prstGeom prst="line">
              <a:avLst/>
            </a:prstGeom>
            <a:ln w="57240">
              <a:solidFill>
                <a:srgbClr val="cc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493600" y="3101760"/>
              <a:ext cx="214200" cy="215640"/>
            </a:xfrm>
            <a:prstGeom prst="rect">
              <a:avLst/>
            </a:prstGeom>
            <a:solidFill>
              <a:srgbClr val="0000ff"/>
            </a:solidFill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36880" y="3352680"/>
              <a:ext cx="18730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724360" y="1916280"/>
            <a:ext cx="863640" cy="1439640"/>
            <a:chOff x="5724360" y="1916280"/>
            <a:chExt cx="863640" cy="1439640"/>
          </a:xfrm>
        </p:grpSpPr>
        <p:sp>
          <p:nvSpPr>
            <p:cNvPr id="107" name=""/>
            <p:cNvSpPr/>
            <p:nvPr/>
          </p:nvSpPr>
          <p:spPr>
            <a:xfrm>
              <a:off x="5724360" y="1916280"/>
              <a:ext cx="863640" cy="1439640"/>
            </a:xfrm>
            <a:prstGeom prst="rtTriangle">
              <a:avLst/>
            </a:prstGeom>
            <a:solidFill>
              <a:srgbClr val="0000ff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24360" y="3355920"/>
              <a:ext cx="8636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715000" y="1913040"/>
            <a:ext cx="863640" cy="1439640"/>
            <a:chOff x="5715000" y="1913040"/>
            <a:chExt cx="863640" cy="1439640"/>
          </a:xfrm>
        </p:grpSpPr>
        <p:sp>
          <p:nvSpPr>
            <p:cNvPr id="110" name=""/>
            <p:cNvSpPr/>
            <p:nvPr/>
          </p:nvSpPr>
          <p:spPr>
            <a:xfrm>
              <a:off x="5715000" y="1913040"/>
              <a:ext cx="863640" cy="1439640"/>
            </a:xfrm>
            <a:prstGeom prst="rtTriangle">
              <a:avLst/>
            </a:prstGeom>
            <a:solidFill>
              <a:srgbClr val="33cccc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15000" y="3352680"/>
              <a:ext cx="8636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292720" y="1916280"/>
            <a:ext cx="863640" cy="1439640"/>
            <a:chOff x="5292720" y="1916280"/>
            <a:chExt cx="863640" cy="1439640"/>
          </a:xfrm>
        </p:grpSpPr>
        <p:sp>
          <p:nvSpPr>
            <p:cNvPr id="113" name=""/>
            <p:cNvSpPr/>
            <p:nvPr/>
          </p:nvSpPr>
          <p:spPr>
            <a:xfrm>
              <a:off x="5292720" y="1916280"/>
              <a:ext cx="863640" cy="1439640"/>
            </a:xfrm>
            <a:prstGeom prst="rtTriangle">
              <a:avLst/>
            </a:prstGeom>
            <a:solidFill>
              <a:srgbClr val="33cccc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92720" y="3355920"/>
              <a:ext cx="8636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859280" y="1916280"/>
            <a:ext cx="863640" cy="1439640"/>
            <a:chOff x="4859280" y="1916280"/>
            <a:chExt cx="863640" cy="1439640"/>
          </a:xfrm>
        </p:grpSpPr>
        <p:sp>
          <p:nvSpPr>
            <p:cNvPr id="116" name=""/>
            <p:cNvSpPr/>
            <p:nvPr/>
          </p:nvSpPr>
          <p:spPr>
            <a:xfrm>
              <a:off x="4859280" y="1916280"/>
              <a:ext cx="863640" cy="1439640"/>
            </a:xfrm>
            <a:prstGeom prst="rtTriangle">
              <a:avLst/>
            </a:prstGeom>
            <a:solidFill>
              <a:srgbClr val="33cccc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59280" y="3355920"/>
              <a:ext cx="8636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500720" y="1916280"/>
            <a:ext cx="863280" cy="1439640"/>
            <a:chOff x="4500720" y="1916280"/>
            <a:chExt cx="863280" cy="1439640"/>
          </a:xfrm>
        </p:grpSpPr>
        <p:sp>
          <p:nvSpPr>
            <p:cNvPr id="119" name=""/>
            <p:cNvSpPr/>
            <p:nvPr/>
          </p:nvSpPr>
          <p:spPr>
            <a:xfrm>
              <a:off x="4500720" y="1916280"/>
              <a:ext cx="863280" cy="1439640"/>
            </a:xfrm>
            <a:prstGeom prst="rtTriangle">
              <a:avLst/>
            </a:prstGeom>
            <a:solidFill>
              <a:srgbClr val="33cccc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00720" y="3355920"/>
              <a:ext cx="8632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140360" y="1916280"/>
            <a:ext cx="863280" cy="1439640"/>
            <a:chOff x="4140360" y="1916280"/>
            <a:chExt cx="863280" cy="1439640"/>
          </a:xfrm>
        </p:grpSpPr>
        <p:sp>
          <p:nvSpPr>
            <p:cNvPr id="122" name=""/>
            <p:cNvSpPr/>
            <p:nvPr/>
          </p:nvSpPr>
          <p:spPr>
            <a:xfrm>
              <a:off x="4140360" y="1916280"/>
              <a:ext cx="863280" cy="1439640"/>
            </a:xfrm>
            <a:prstGeom prst="rtTriangle">
              <a:avLst/>
            </a:prstGeom>
            <a:solidFill>
              <a:srgbClr val="33cccc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40360" y="3355920"/>
              <a:ext cx="8632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851280" y="1916280"/>
            <a:ext cx="863640" cy="1439640"/>
            <a:chOff x="3851280" y="1916280"/>
            <a:chExt cx="863640" cy="1439640"/>
          </a:xfrm>
        </p:grpSpPr>
        <p:sp>
          <p:nvSpPr>
            <p:cNvPr id="125" name=""/>
            <p:cNvSpPr/>
            <p:nvPr/>
          </p:nvSpPr>
          <p:spPr>
            <a:xfrm>
              <a:off x="3851280" y="1916280"/>
              <a:ext cx="863640" cy="1439640"/>
            </a:xfrm>
            <a:prstGeom prst="rtTriangle">
              <a:avLst/>
            </a:prstGeom>
            <a:solidFill>
              <a:srgbClr val="33cccc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51280" y="3355920"/>
              <a:ext cx="8636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419640" y="1916280"/>
            <a:ext cx="863280" cy="1439640"/>
            <a:chOff x="3419640" y="1916280"/>
            <a:chExt cx="863280" cy="1439640"/>
          </a:xfrm>
        </p:grpSpPr>
        <p:sp>
          <p:nvSpPr>
            <p:cNvPr id="128" name=""/>
            <p:cNvSpPr/>
            <p:nvPr/>
          </p:nvSpPr>
          <p:spPr>
            <a:xfrm>
              <a:off x="3419640" y="1916280"/>
              <a:ext cx="863280" cy="1439640"/>
            </a:xfrm>
            <a:prstGeom prst="rtTriangle">
              <a:avLst/>
            </a:prstGeom>
            <a:solidFill>
              <a:srgbClr val="33cccc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19640" y="3355920"/>
              <a:ext cx="8632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987640" y="1916280"/>
            <a:ext cx="863640" cy="1439640"/>
            <a:chOff x="2987640" y="1916280"/>
            <a:chExt cx="863640" cy="1439640"/>
          </a:xfrm>
        </p:grpSpPr>
        <p:sp>
          <p:nvSpPr>
            <p:cNvPr id="131" name=""/>
            <p:cNvSpPr/>
            <p:nvPr/>
          </p:nvSpPr>
          <p:spPr>
            <a:xfrm>
              <a:off x="2987640" y="1916280"/>
              <a:ext cx="863640" cy="1439640"/>
            </a:xfrm>
            <a:prstGeom prst="rtTriangle">
              <a:avLst/>
            </a:prstGeom>
            <a:solidFill>
              <a:srgbClr val="33cccc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987640" y="3355920"/>
              <a:ext cx="8636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平行四边形面积公式的推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4098960"/>
            <a:ext cx="449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3300"/>
                </a:solidFill>
                <a:latin typeface="Times New Roman"/>
              </a:rPr>
              <a:t>S=a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318456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10080" y="23623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15000" y="1905120"/>
            <a:ext cx="0" cy="14475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evt="end">
                                        <p:tn val="87"/>
                                      </p:cond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evt="end">
                                        <p:tn val="93"/>
                                      </p:cond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evt="end">
                                        <p:tn val="98"/>
                                      </p:cond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6" dur="1" fill="hold">
                                    <p:stCondLst>
                                      <p:cond evt="end">
                                        <p:tn val="103"/>
                                      </p:cond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evt="end">
                                        <p:tn val="108"/>
                                      </p:cond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evt="end">
                                        <p:tn val="113"/>
                                      </p:cond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evt="end">
                                        <p:tn val="118"/>
                                      </p:cond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1447920" y="1371600"/>
            <a:ext cx="2590560" cy="1907280"/>
            <a:chOff x="1447920" y="1371600"/>
            <a:chExt cx="2590560" cy="1907280"/>
          </a:xfrm>
        </p:grpSpPr>
        <p:sp>
          <p:nvSpPr>
            <p:cNvPr id="139" name=""/>
            <p:cNvSpPr/>
            <p:nvPr/>
          </p:nvSpPr>
          <p:spPr>
            <a:xfrm>
              <a:off x="1447920" y="1371600"/>
              <a:ext cx="2590560" cy="1828800"/>
            </a:xfrm>
            <a:prstGeom prst="triangle">
              <a:avLst>
                <a:gd name="adj" fmla="val 82722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3504960" y="1371600"/>
              <a:ext cx="533160" cy="1907280"/>
              <a:chOff x="3504960" y="1371600"/>
              <a:chExt cx="533160" cy="1907280"/>
            </a:xfrm>
          </p:grpSpPr>
          <p:sp>
            <p:nvSpPr>
              <p:cNvPr id="141" name=""/>
              <p:cNvSpPr/>
              <p:nvPr/>
            </p:nvSpPr>
            <p:spPr>
              <a:xfrm>
                <a:off x="3580920" y="1371600"/>
                <a:ext cx="0" cy="18288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504960" y="28191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1792800" y="317880"/>
            <a:ext cx="3158280" cy="2947320"/>
            <a:chOff x="1792800" y="317880"/>
            <a:chExt cx="3158280" cy="2947320"/>
          </a:xfrm>
        </p:grpSpPr>
        <p:sp>
          <p:nvSpPr>
            <p:cNvPr id="144" name=""/>
            <p:cNvSpPr/>
            <p:nvPr/>
          </p:nvSpPr>
          <p:spPr>
            <a:xfrm rot="1800000">
              <a:off x="2076120" y="842760"/>
              <a:ext cx="2590920" cy="1828800"/>
            </a:xfrm>
            <a:prstGeom prst="triangle">
              <a:avLst>
                <a:gd name="adj" fmla="val 82722"/>
              </a:avLst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3535560" y="1384920"/>
              <a:ext cx="1019520" cy="1880280"/>
              <a:chOff x="3535560" y="1384920"/>
              <a:chExt cx="1019520" cy="1880280"/>
            </a:xfrm>
          </p:grpSpPr>
          <p:sp>
            <p:nvSpPr>
              <p:cNvPr id="146" name=""/>
              <p:cNvSpPr/>
              <p:nvPr/>
            </p:nvSpPr>
            <p:spPr>
              <a:xfrm flipH="1">
                <a:off x="3640680" y="1384920"/>
                <a:ext cx="914400" cy="1583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800000">
                <a:off x="3614400" y="27025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" name=""/>
          <p:cNvGrpSpPr/>
          <p:nvPr/>
        </p:nvGrpSpPr>
        <p:grpSpPr>
          <a:xfrm>
            <a:off x="2670480" y="78120"/>
            <a:ext cx="2879280" cy="3197520"/>
            <a:chOff x="2670480" y="78120"/>
            <a:chExt cx="2879280" cy="3197520"/>
          </a:xfrm>
        </p:grpSpPr>
        <p:sp>
          <p:nvSpPr>
            <p:cNvPr id="149" name=""/>
            <p:cNvSpPr/>
            <p:nvPr/>
          </p:nvSpPr>
          <p:spPr>
            <a:xfrm rot="3600000">
              <a:off x="2814480" y="742680"/>
              <a:ext cx="2590920" cy="1828800"/>
            </a:xfrm>
            <a:prstGeom prst="triangle">
              <a:avLst>
                <a:gd name="adj" fmla="val 82722"/>
              </a:avLst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630960" y="1926000"/>
              <a:ext cx="1689840" cy="1349640"/>
              <a:chOff x="3630960" y="1926000"/>
              <a:chExt cx="1689840" cy="1349640"/>
            </a:xfrm>
          </p:grpSpPr>
          <p:sp>
            <p:nvSpPr>
              <p:cNvPr id="151" name=""/>
              <p:cNvSpPr/>
              <p:nvPr/>
            </p:nvSpPr>
            <p:spPr>
              <a:xfrm flipH="1">
                <a:off x="3737160" y="1926000"/>
                <a:ext cx="1583640" cy="9144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3600000">
                <a:off x="3696480" y="269964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" name=""/>
          <p:cNvGrpSpPr/>
          <p:nvPr/>
        </p:nvGrpSpPr>
        <p:grpSpPr>
          <a:xfrm>
            <a:off x="3959640" y="609480"/>
            <a:ext cx="1907280" cy="2590920"/>
            <a:chOff x="3959640" y="609480"/>
            <a:chExt cx="1907280" cy="2590920"/>
          </a:xfrm>
        </p:grpSpPr>
        <p:sp>
          <p:nvSpPr>
            <p:cNvPr id="154" name=""/>
            <p:cNvSpPr/>
            <p:nvPr/>
          </p:nvSpPr>
          <p:spPr>
            <a:xfrm rot="5400000">
              <a:off x="3657240" y="990360"/>
              <a:ext cx="2590920" cy="1828440"/>
            </a:xfrm>
            <a:prstGeom prst="triangle">
              <a:avLst>
                <a:gd name="adj" fmla="val 82722"/>
              </a:avLst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3959640" y="2666880"/>
              <a:ext cx="1907280" cy="533520"/>
              <a:chOff x="3959640" y="2666880"/>
              <a:chExt cx="1907280" cy="533520"/>
            </a:xfrm>
          </p:grpSpPr>
          <p:sp>
            <p:nvSpPr>
              <p:cNvPr id="156" name=""/>
              <p:cNvSpPr/>
              <p:nvPr/>
            </p:nvSpPr>
            <p:spPr>
              <a:xfrm flipH="1">
                <a:off x="4038120" y="2743200"/>
                <a:ext cx="18288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5400000">
                <a:off x="3922560" y="27036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" name=""/>
          <p:cNvGrpSpPr/>
          <p:nvPr/>
        </p:nvGrpSpPr>
        <p:grpSpPr>
          <a:xfrm>
            <a:off x="3974040" y="954720"/>
            <a:ext cx="2946960" cy="3157920"/>
            <a:chOff x="3974040" y="954720"/>
            <a:chExt cx="2946960" cy="3157920"/>
          </a:xfrm>
        </p:grpSpPr>
        <p:sp>
          <p:nvSpPr>
            <p:cNvPr id="159" name=""/>
            <p:cNvSpPr/>
            <p:nvPr/>
          </p:nvSpPr>
          <p:spPr>
            <a:xfrm rot="7200000">
              <a:off x="4186080" y="1618920"/>
              <a:ext cx="2590560" cy="1828800"/>
            </a:xfrm>
            <a:prstGeom prst="triangle">
              <a:avLst>
                <a:gd name="adj" fmla="val 82722"/>
              </a:avLst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3974040" y="2696760"/>
              <a:ext cx="1880280" cy="1019520"/>
              <a:chOff x="3974040" y="2696760"/>
              <a:chExt cx="1880280" cy="1019520"/>
            </a:xfrm>
          </p:grpSpPr>
          <p:sp>
            <p:nvSpPr>
              <p:cNvPr id="161" name=""/>
              <p:cNvSpPr/>
              <p:nvPr/>
            </p:nvSpPr>
            <p:spPr>
              <a:xfrm flipH="1" flipV="1">
                <a:off x="4270680" y="2801880"/>
                <a:ext cx="1583640" cy="9144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7200000">
                <a:off x="4039560" y="28126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3962880" y="1908000"/>
            <a:ext cx="3197160" cy="2879280"/>
            <a:chOff x="3962880" y="1908000"/>
            <a:chExt cx="3197160" cy="2879280"/>
          </a:xfrm>
        </p:grpSpPr>
        <p:sp>
          <p:nvSpPr>
            <p:cNvPr id="164" name=""/>
            <p:cNvSpPr/>
            <p:nvPr/>
          </p:nvSpPr>
          <p:spPr>
            <a:xfrm rot="9000000">
              <a:off x="4285440" y="2433240"/>
              <a:ext cx="2590920" cy="1828440"/>
            </a:xfrm>
            <a:prstGeom prst="triangle">
              <a:avLst>
                <a:gd name="adj" fmla="val 82722"/>
              </a:avLst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3962880" y="2868480"/>
              <a:ext cx="1349640" cy="1689840"/>
              <a:chOff x="3962880" y="2868480"/>
              <a:chExt cx="1349640" cy="1689840"/>
            </a:xfrm>
          </p:grpSpPr>
          <p:sp>
            <p:nvSpPr>
              <p:cNvPr id="166" name=""/>
              <p:cNvSpPr/>
              <p:nvPr/>
            </p:nvSpPr>
            <p:spPr>
              <a:xfrm flipH="1" flipV="1">
                <a:off x="4398120" y="2974680"/>
                <a:ext cx="914400" cy="1583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9000000">
                <a:off x="4042080" y="29710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8" name=""/>
          <p:cNvGrpSpPr/>
          <p:nvPr/>
        </p:nvGrpSpPr>
        <p:grpSpPr>
          <a:xfrm>
            <a:off x="4038120" y="3198240"/>
            <a:ext cx="2590920" cy="1907280"/>
            <a:chOff x="4038120" y="3198240"/>
            <a:chExt cx="2590920" cy="1907280"/>
          </a:xfrm>
        </p:grpSpPr>
        <p:sp>
          <p:nvSpPr>
            <p:cNvPr id="169" name=""/>
            <p:cNvSpPr/>
            <p:nvPr/>
          </p:nvSpPr>
          <p:spPr>
            <a:xfrm rot="10800000">
              <a:off x="4038120" y="3276720"/>
              <a:ext cx="2590920" cy="1828800"/>
            </a:xfrm>
            <a:prstGeom prst="triangle">
              <a:avLst>
                <a:gd name="adj" fmla="val 82722"/>
              </a:avLst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4038120" y="3198240"/>
              <a:ext cx="533520" cy="1907280"/>
              <a:chOff x="4038120" y="3198240"/>
              <a:chExt cx="533520" cy="1907280"/>
            </a:xfrm>
          </p:grpSpPr>
          <p:sp>
            <p:nvSpPr>
              <p:cNvPr id="171" name=""/>
              <p:cNvSpPr/>
              <p:nvPr/>
            </p:nvSpPr>
            <p:spPr>
              <a:xfrm flipV="1">
                <a:off x="4495320" y="3276720"/>
                <a:ext cx="0" cy="18288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0800000">
                <a:off x="4038120" y="319824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3962520" y="2816640"/>
            <a:ext cx="2590560" cy="1907280"/>
            <a:chOff x="3962520" y="2816640"/>
            <a:chExt cx="2590560" cy="1907280"/>
          </a:xfrm>
        </p:grpSpPr>
        <p:sp>
          <p:nvSpPr>
            <p:cNvPr id="174" name=""/>
            <p:cNvSpPr/>
            <p:nvPr/>
          </p:nvSpPr>
          <p:spPr>
            <a:xfrm rot="10800000">
              <a:off x="3962520" y="2895480"/>
              <a:ext cx="2590560" cy="1828440"/>
            </a:xfrm>
            <a:prstGeom prst="triangle">
              <a:avLst>
                <a:gd name="adj" fmla="val 82722"/>
              </a:avLst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3962880" y="2816640"/>
              <a:ext cx="533160" cy="1907280"/>
              <a:chOff x="3962880" y="2816640"/>
              <a:chExt cx="533160" cy="1907280"/>
            </a:xfrm>
          </p:grpSpPr>
          <p:sp>
            <p:nvSpPr>
              <p:cNvPr id="176" name=""/>
              <p:cNvSpPr/>
              <p:nvPr/>
            </p:nvSpPr>
            <p:spPr>
              <a:xfrm flipV="1">
                <a:off x="4420080" y="2895120"/>
                <a:ext cx="0" cy="18288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0800000">
                <a:off x="3962880" y="281664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3885840" y="2359440"/>
            <a:ext cx="2590920" cy="1907280"/>
            <a:chOff x="3885840" y="2359440"/>
            <a:chExt cx="2590920" cy="1907280"/>
          </a:xfrm>
        </p:grpSpPr>
        <p:sp>
          <p:nvSpPr>
            <p:cNvPr id="179" name=""/>
            <p:cNvSpPr/>
            <p:nvPr/>
          </p:nvSpPr>
          <p:spPr>
            <a:xfrm rot="10800000">
              <a:off x="3885840" y="2438280"/>
              <a:ext cx="2590920" cy="1828440"/>
            </a:xfrm>
            <a:prstGeom prst="triangle">
              <a:avLst>
                <a:gd name="adj" fmla="val 82722"/>
              </a:avLst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3885840" y="2359440"/>
              <a:ext cx="533520" cy="1907280"/>
              <a:chOff x="3885840" y="2359440"/>
              <a:chExt cx="533520" cy="1907280"/>
            </a:xfrm>
          </p:grpSpPr>
          <p:sp>
            <p:nvSpPr>
              <p:cNvPr id="181" name=""/>
              <p:cNvSpPr/>
              <p:nvPr/>
            </p:nvSpPr>
            <p:spPr>
              <a:xfrm flipV="1">
                <a:off x="4343040" y="2437920"/>
                <a:ext cx="0" cy="18288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0800000">
                <a:off x="3885840" y="235944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3733920" y="1902240"/>
            <a:ext cx="2590560" cy="1907280"/>
            <a:chOff x="3733920" y="1902240"/>
            <a:chExt cx="2590560" cy="1907280"/>
          </a:xfrm>
        </p:grpSpPr>
        <p:sp>
          <p:nvSpPr>
            <p:cNvPr id="184" name=""/>
            <p:cNvSpPr/>
            <p:nvPr/>
          </p:nvSpPr>
          <p:spPr>
            <a:xfrm rot="10800000">
              <a:off x="3733920" y="1981080"/>
              <a:ext cx="2590560" cy="1828440"/>
            </a:xfrm>
            <a:prstGeom prst="triangle">
              <a:avLst>
                <a:gd name="adj" fmla="val 82722"/>
              </a:avLst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3734280" y="1902240"/>
              <a:ext cx="533160" cy="1907280"/>
              <a:chOff x="3734280" y="1902240"/>
              <a:chExt cx="533160" cy="1907280"/>
            </a:xfrm>
          </p:grpSpPr>
          <p:sp>
            <p:nvSpPr>
              <p:cNvPr id="186" name=""/>
              <p:cNvSpPr/>
              <p:nvPr/>
            </p:nvSpPr>
            <p:spPr>
              <a:xfrm flipV="1">
                <a:off x="4191480" y="1980720"/>
                <a:ext cx="0" cy="18288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0800000">
                <a:off x="3734280" y="190224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" name=""/>
          <p:cNvGrpSpPr/>
          <p:nvPr/>
        </p:nvGrpSpPr>
        <p:grpSpPr>
          <a:xfrm>
            <a:off x="3657240" y="1598040"/>
            <a:ext cx="2590920" cy="1907280"/>
            <a:chOff x="3657240" y="1598040"/>
            <a:chExt cx="2590920" cy="1907280"/>
          </a:xfrm>
        </p:grpSpPr>
        <p:sp>
          <p:nvSpPr>
            <p:cNvPr id="189" name=""/>
            <p:cNvSpPr/>
            <p:nvPr/>
          </p:nvSpPr>
          <p:spPr>
            <a:xfrm rot="10800000">
              <a:off x="3657240" y="1676520"/>
              <a:ext cx="2590920" cy="1828800"/>
            </a:xfrm>
            <a:prstGeom prst="triangle">
              <a:avLst>
                <a:gd name="adj" fmla="val 82722"/>
              </a:avLst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3657240" y="1598040"/>
              <a:ext cx="533520" cy="1907280"/>
              <a:chOff x="3657240" y="1598040"/>
              <a:chExt cx="533520" cy="1907280"/>
            </a:xfrm>
          </p:grpSpPr>
          <p:sp>
            <p:nvSpPr>
              <p:cNvPr id="191" name=""/>
              <p:cNvSpPr/>
              <p:nvPr/>
            </p:nvSpPr>
            <p:spPr>
              <a:xfrm flipV="1">
                <a:off x="4114440" y="1676520"/>
                <a:ext cx="0" cy="18288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0800000">
                <a:off x="3657240" y="159804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 rot="10800000">
            <a:off x="3579480" y="1370160"/>
            <a:ext cx="2590920" cy="1828800"/>
          </a:xfrm>
          <a:prstGeom prst="triangle">
            <a:avLst>
              <a:gd name="adj" fmla="val 82722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79080" y="457200"/>
            <a:ext cx="11552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三角形面积公式的推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90920" y="434340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S= ah</a:t>
            </a:r>
            <a:r>
              <a:rPr b="0" lang="en-US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÷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437120" y="1356840"/>
            <a:ext cx="2612160" cy="1913400"/>
            <a:chOff x="1437120" y="1356840"/>
            <a:chExt cx="2612160" cy="1913400"/>
          </a:xfrm>
        </p:grpSpPr>
        <p:sp>
          <p:nvSpPr>
            <p:cNvPr id="197" name=""/>
            <p:cNvSpPr/>
            <p:nvPr/>
          </p:nvSpPr>
          <p:spPr>
            <a:xfrm rot="21560400">
              <a:off x="1447560" y="1371600"/>
              <a:ext cx="2590560" cy="1828800"/>
            </a:xfrm>
            <a:prstGeom prst="triangle">
              <a:avLst>
                <a:gd name="adj" fmla="val 82722"/>
              </a:avLst>
            </a:prstGeom>
            <a:solidFill>
              <a:srgbClr val="00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3510720" y="1361880"/>
              <a:ext cx="538560" cy="1908360"/>
              <a:chOff x="3510720" y="1361880"/>
              <a:chExt cx="538560" cy="1908360"/>
            </a:xfrm>
          </p:grpSpPr>
          <p:sp>
            <p:nvSpPr>
              <p:cNvPr id="199" name=""/>
              <p:cNvSpPr/>
              <p:nvPr/>
            </p:nvSpPr>
            <p:spPr>
              <a:xfrm>
                <a:off x="3569760" y="1361880"/>
                <a:ext cx="21240" cy="18288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21560400">
                <a:off x="3513240" y="28072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" name=""/>
          <p:cNvSpPr/>
          <p:nvPr/>
        </p:nvSpPr>
        <p:spPr>
          <a:xfrm>
            <a:off x="2514600" y="29718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71800" y="20574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evt="end">
                                        <p:tn val="145"/>
                                      </p:cond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evt="end">
                                        <p:tn val="151"/>
                                      </p:cond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evt="end">
                                        <p:tn val="156"/>
                                      </p:cond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evt="end">
                                        <p:tn val="161"/>
                                      </p:cond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evt="end">
                                        <p:tn val="166"/>
                                      </p:cond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4" dur="1" fill="hold">
                                    <p:stCondLst>
                                      <p:cond evt="end">
                                        <p:tn val="171"/>
                                      </p:cond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evt="end">
                                        <p:tn val="176"/>
                                      </p:cond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4" dur="1" fill="hold">
                                    <p:stCondLst>
                                      <p:cond evt="end">
                                        <p:tn val="181"/>
                                      </p:cond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9" dur="1" fill="hold">
                                    <p:stCondLst>
                                      <p:cond evt="end">
                                        <p:tn val="186"/>
                                      </p:cond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5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evt="end">
                                        <p:tn val="191"/>
                                      </p:cond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 rot="10789800">
            <a:off x="1599840" y="1905120"/>
            <a:ext cx="2057400" cy="1371600"/>
          </a:xfrm>
          <a:custGeom>
            <a:avLst/>
            <a:gdLst>
              <a:gd name="textAreaLeft" fmla="*/ 452160 w 2057400"/>
              <a:gd name="textAreaRight" fmla="*/ 1605240 w 2057400"/>
              <a:gd name="textAreaTop" fmla="*/ 301680 h 1371600"/>
              <a:gd name="textAreaBottom" fmla="*/ 10699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00200" y="1905120"/>
          <a:ext cx="2097000" cy="139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905120"/>
                    <a:ext cx="209700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154160" y="1676520"/>
          <a:ext cx="2503440" cy="3049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54160" y="1676520"/>
                    <a:ext cx="250344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395360" y="1905120"/>
          <a:ext cx="2795760" cy="394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95360" y="1905120"/>
                    <a:ext cx="2795760" cy="39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0" name="" descr=""/>
          <p:cNvPicPr/>
          <p:nvPr/>
        </p:nvPicPr>
        <p:blipFill>
          <a:blip r:embed="rId8"/>
          <a:stretch/>
        </p:blipFill>
        <p:spPr>
          <a:xfrm>
            <a:off x="1852560" y="2511360"/>
            <a:ext cx="2795760" cy="404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2487600" y="2676600"/>
          <a:ext cx="2313000" cy="3800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87600" y="2676600"/>
                    <a:ext cx="2313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2895480" y="2209680"/>
          <a:ext cx="2783160" cy="4016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95480" y="2209680"/>
                    <a:ext cx="278316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3478320" y="1812960"/>
          <a:ext cx="2846160" cy="3978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78320" y="1812960"/>
                    <a:ext cx="2846160" cy="39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3276720" y="1279440"/>
          <a:ext cx="2846160" cy="3978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76720" y="1279440"/>
                    <a:ext cx="2846160" cy="39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3097080" y="838080"/>
          <a:ext cx="2846520" cy="3978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097080" y="838080"/>
                    <a:ext cx="2846520" cy="39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2895480" y="380880"/>
          <a:ext cx="2846520" cy="3978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895480" y="380880"/>
                    <a:ext cx="2846520" cy="39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3657600" y="3276720"/>
            <a:ext cx="76320" cy="759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560600" y="1905120"/>
          <a:ext cx="2097000" cy="1396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560600" y="1905120"/>
                    <a:ext cx="209700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>
            <a:hlinkClick r:id="rId23" action="ppaction://hlinksldjump"/>
          </p:cNvPr>
          <p:cNvSpPr/>
          <p:nvPr/>
        </p:nvSpPr>
        <p:spPr>
          <a:xfrm>
            <a:off x="7924680" y="6019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4000" y="4287960"/>
            <a:ext cx="25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S=( a+b)h÷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66520" y="457200"/>
            <a:ext cx="667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梯形面积公式的推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447920" y="1066680"/>
            <a:ext cx="1981080" cy="2057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371600" y="1015920"/>
          <a:ext cx="2174760" cy="218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015920"/>
                    <a:ext cx="217476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4800600" y="1441440"/>
            <a:ext cx="3378240" cy="12254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576600" y="2192760"/>
            <a:ext cx="1198440" cy="86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160" bIns="-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>
            <a:hlinkClick r:id="rId5" action="ppaction://hlinksldjump"/>
          </p:cNvPr>
          <p:cNvSpPr/>
          <p:nvPr/>
        </p:nvSpPr>
        <p:spPr>
          <a:xfrm>
            <a:off x="7924680" y="6019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80520" y="2565360"/>
            <a:ext cx="115524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圆面积公式的推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41000" y="3594240"/>
            <a:ext cx="12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S=πr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761760" y="60948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选择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一个平行四边形和一个三角形等底等高，已知平行四边形的面积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平方厘米，三角形的面积是（      ）平方厘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0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5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一个平行四边形和一个三角形等底等高，平行四边形的面积是三角形的面积的（      ）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0.5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4932360" y="2060640"/>
            <a:ext cx="1295280" cy="642600"/>
            <a:chOff x="4932360" y="2060640"/>
            <a:chExt cx="1295280" cy="642600"/>
          </a:xfrm>
        </p:grpSpPr>
        <p:sp>
          <p:nvSpPr>
            <p:cNvPr id="239" name=""/>
            <p:cNvSpPr/>
            <p:nvPr/>
          </p:nvSpPr>
          <p:spPr>
            <a:xfrm>
              <a:off x="4932360" y="206064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33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13240" y="2136600"/>
              <a:ext cx="457200" cy="532800"/>
            </a:xfrm>
            <a:prstGeom prst="ellipse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332000" y="4869000"/>
            <a:ext cx="1295280" cy="642600"/>
            <a:chOff x="1332000" y="4869000"/>
            <a:chExt cx="1295280" cy="642600"/>
          </a:xfrm>
        </p:grpSpPr>
        <p:sp>
          <p:nvSpPr>
            <p:cNvPr id="242" name=""/>
            <p:cNvSpPr/>
            <p:nvPr/>
          </p:nvSpPr>
          <p:spPr>
            <a:xfrm>
              <a:off x="1332000" y="486900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33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712880" y="4944960"/>
              <a:ext cx="456840" cy="532800"/>
            </a:xfrm>
            <a:prstGeom prst="ellipse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8T12:56:55Z</dcterms:created>
  <dc:creator>user</dc:creator>
  <dc:description/>
  <dc:language>en-US</dc:language>
  <cp:lastModifiedBy>雨林木风</cp:lastModifiedBy>
  <dcterms:modified xsi:type="dcterms:W3CDTF">2010-07-28T07:42:17Z</dcterms:modified>
  <cp:revision>51</cp:revision>
  <dc:subject/>
  <dc:title>PowerPoint 演示文稿</dc:title>
</cp:coreProperties>
</file>