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BC48-1ED9-4450-931F-CC744D1094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D4E-B9DD-448A-A7EC-0D0DEEC1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94C-EA2C-4840-88AE-769C494D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F39-972A-4CED-81BF-0ADD857E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128-630A-42CF-9889-35E28479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01E0-7F6A-4903-8A79-CF5C4562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860B-B519-4584-8E24-1E3D4CD6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6A61-9AA0-487B-8E08-BFA69EB4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A022-2777-47FC-B2C0-61BFF4E7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83EC-F2AE-4355-BB81-B6927019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2D81-3D73-420D-825E-CE50F355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D8E4-FE7E-46BE-9C4F-F840C4A2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7AF-1DBC-4005-8BAF-D99A9181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42F1-85B7-43EF-8BCC-D3A32EA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9D75-EDB0-4CF1-B160-ABB20E93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125F-88C1-4285-B4D7-0244452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3551-D56B-43EB-941C-3C7D5B1E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9FC9-D2C9-4500-826F-B5BA5B37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CBA-3EB2-46A9-9C16-925CCEB0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28A-ED16-4D4E-BF72-C34819FD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62D-B6BA-4E78-9431-3EC3F193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386-E777-4D6D-B571-55D74151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665-0197-406F-861C-A552123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710-36CB-4F3C-BCBC-912B7204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339-1584-4FEF-A527-A6B1AEA2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B095-904E-4136-A65F-5073EC64FE3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EEC5-9882-4F28-890B-183D7DFF266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19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9" name="幻灯片底图%20拷贝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600200" y="762120"/>
            <a:ext cx="55627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分解质因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304920" y="6095880"/>
            <a:ext cx="914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复 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1523880" y="6095880"/>
            <a:ext cx="1219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新  课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6095880"/>
            <a:ext cx="114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新 课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7620120" y="6095880"/>
            <a:ext cx="914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反 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3048120" y="6095880"/>
            <a:ext cx="114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小  结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6095880"/>
            <a:ext cx="114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想一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52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＝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13  ×  4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13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都是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52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的因数吗？都是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52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的质因数吗？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133720" y="152280"/>
            <a:ext cx="2590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判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都是质因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合数都能分解质因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是任何合数的质因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质因数、合数与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组成自然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分解质因数是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3×5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28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分解质因数是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28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2×2×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判断下面各题，对的画“√”，错的画“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×”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，并说明理由．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解质因数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×5×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  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解质因数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×3×1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解质因数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×3×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（  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解质因数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×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（  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16000" y="1268280"/>
            <a:ext cx="6912000" cy="28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做一做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: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下面各算式哪些是分解质因数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哪些不是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为什么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34=2 X 17                             (2)36=4 X 9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3)12=2 X 2 X 3                         (4)15=3 X 5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5)18=1 X2 X 3 X 3                    (6)7 X 5=35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1268280"/>
            <a:ext cx="6912000" cy="28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做一做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: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下面各算式哪些是分解质因数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哪些不是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为什么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34=2 X 17                             (2)36=4 X 9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3)12=2 X 2 X 3                         (4)15=3 X 5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5)18=1 X2 X 3 X 3                    (6)7 X 5=35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42926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(1). (3).(4)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是分解质因数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.(2)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式中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9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都不是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36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的质因数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.(5)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中含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1,1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不是质数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也不当质因数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.(6)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式是一般的乘法算式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不是分解质因数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.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分解质因数要把合数写在等号的左边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042920" y="907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用短除法分解质因数的方法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1557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   6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68360" y="1628640"/>
            <a:ext cx="574920" cy="431640"/>
            <a:chOff x="2268360" y="1628640"/>
            <a:chExt cx="574920" cy="431640"/>
          </a:xfrm>
        </p:grpSpPr>
        <p:sp>
          <p:nvSpPr>
            <p:cNvPr id="211" name=""/>
            <p:cNvSpPr/>
            <p:nvPr/>
          </p:nvSpPr>
          <p:spPr>
            <a:xfrm>
              <a:off x="2268360" y="1628640"/>
              <a:ext cx="0" cy="43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68360" y="2060280"/>
              <a:ext cx="574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340000" y="21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1844640"/>
            <a:ext cx="1368360" cy="0"/>
          </a:xfrm>
          <a:prstGeom prst="line">
            <a:avLst/>
          </a:prstGeom>
          <a:ln w="9360">
            <a:solidFill>
              <a:srgbClr val="0033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2276640"/>
            <a:ext cx="1368360" cy="0"/>
          </a:xfrm>
          <a:prstGeom prst="line">
            <a:avLst/>
          </a:prstGeom>
          <a:ln w="9360">
            <a:solidFill>
              <a:srgbClr val="0033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用质数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去除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00720" y="1989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商是质数为止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2852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      28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40000" y="2852640"/>
            <a:ext cx="863640" cy="431640"/>
            <a:chOff x="2340000" y="2852640"/>
            <a:chExt cx="863640" cy="431640"/>
          </a:xfrm>
        </p:grpSpPr>
        <p:sp>
          <p:nvSpPr>
            <p:cNvPr id="220" name=""/>
            <p:cNvSpPr/>
            <p:nvPr/>
          </p:nvSpPr>
          <p:spPr>
            <a:xfrm>
              <a:off x="2340000" y="2852640"/>
              <a:ext cx="0" cy="43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40000" y="3284280"/>
              <a:ext cx="863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627280" y="3284640"/>
            <a:ext cx="574560" cy="431640"/>
            <a:chOff x="2627280" y="3284640"/>
            <a:chExt cx="574560" cy="431640"/>
          </a:xfrm>
        </p:grpSpPr>
        <p:sp>
          <p:nvSpPr>
            <p:cNvPr id="223" name=""/>
            <p:cNvSpPr/>
            <p:nvPr/>
          </p:nvSpPr>
          <p:spPr>
            <a:xfrm>
              <a:off x="2627280" y="3284640"/>
              <a:ext cx="0" cy="43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27280" y="3716280"/>
              <a:ext cx="5745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268360" y="32846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  1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71640" y="37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3645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商是质数为止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48000" y="3500280"/>
            <a:ext cx="1152720" cy="0"/>
          </a:xfrm>
          <a:prstGeom prst="line">
            <a:avLst/>
          </a:prstGeom>
          <a:ln w="9360">
            <a:solidFill>
              <a:srgbClr val="0033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21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商是合数还要继续除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3860640"/>
            <a:ext cx="1152720" cy="0"/>
          </a:xfrm>
          <a:prstGeom prst="line">
            <a:avLst/>
          </a:prstGeom>
          <a:ln w="9360">
            <a:solidFill>
              <a:srgbClr val="0033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5086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      6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49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    3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95640" y="5373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  1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340000" y="4941720"/>
            <a:ext cx="863640" cy="431640"/>
            <a:chOff x="2340000" y="4941720"/>
            <a:chExt cx="863640" cy="431640"/>
          </a:xfrm>
        </p:grpSpPr>
        <p:sp>
          <p:nvSpPr>
            <p:cNvPr id="236" name=""/>
            <p:cNvSpPr/>
            <p:nvPr/>
          </p:nvSpPr>
          <p:spPr>
            <a:xfrm>
              <a:off x="2340000" y="4941720"/>
              <a:ext cx="0" cy="43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40000" y="5373360"/>
              <a:ext cx="863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195640" y="4508640"/>
            <a:ext cx="1007640" cy="432720"/>
            <a:chOff x="2195640" y="4508640"/>
            <a:chExt cx="1007640" cy="432720"/>
          </a:xfrm>
        </p:grpSpPr>
        <p:sp>
          <p:nvSpPr>
            <p:cNvPr id="239" name=""/>
            <p:cNvSpPr/>
            <p:nvPr/>
          </p:nvSpPr>
          <p:spPr>
            <a:xfrm>
              <a:off x="2195640" y="4508640"/>
              <a:ext cx="0" cy="432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95640" y="4941360"/>
              <a:ext cx="1007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627280" y="5373720"/>
            <a:ext cx="576360" cy="431640"/>
            <a:chOff x="2627280" y="5373720"/>
            <a:chExt cx="576360" cy="431640"/>
          </a:xfrm>
        </p:grpSpPr>
        <p:sp>
          <p:nvSpPr>
            <p:cNvPr id="242" name=""/>
            <p:cNvSpPr/>
            <p:nvPr/>
          </p:nvSpPr>
          <p:spPr>
            <a:xfrm>
              <a:off x="2627280" y="5373720"/>
              <a:ext cx="0" cy="43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7280" y="5805360"/>
              <a:ext cx="5763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348000" y="5157720"/>
            <a:ext cx="1368360" cy="0"/>
          </a:xfrm>
          <a:prstGeom prst="line">
            <a:avLst/>
          </a:prstGeom>
          <a:ln w="9360">
            <a:solidFill>
              <a:srgbClr val="0033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48000" y="5589720"/>
            <a:ext cx="1368360" cy="0"/>
          </a:xfrm>
          <a:prstGeom prst="line">
            <a:avLst/>
          </a:prstGeom>
          <a:ln w="9360">
            <a:solidFill>
              <a:srgbClr val="0033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48000" y="5950080"/>
            <a:ext cx="1368360" cy="0"/>
          </a:xfrm>
          <a:prstGeom prst="line">
            <a:avLst/>
          </a:prstGeom>
          <a:ln w="9360">
            <a:solidFill>
              <a:srgbClr val="0033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合数继续除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37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合数继续除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5734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商是质数为止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547640" y="1341360"/>
            <a:ext cx="626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1143000"/>
            <a:ext cx="7200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把一个合数分解质因数，先用一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能整除这个合数的质数（通常从最小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始）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去除，出得商如果是质数，就把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数和商写成相乘的形式；得出的商是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数，按照上面的方法继续除下去，直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得出的商是质数为止．然后把各个除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和最后的商写成连乘的形式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57400" y="152280"/>
            <a:ext cx="2819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方法小结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835280" y="1700280"/>
            <a:ext cx="52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0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7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解质因数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755720" y="2924280"/>
            <a:ext cx="7920" cy="4284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55720" y="3352680"/>
            <a:ext cx="990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9080" y="284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6720" y="2886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2360" y="334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80160" y="467352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5240" y="2971800"/>
            <a:ext cx="0" cy="3808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5240" y="3352680"/>
            <a:ext cx="990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28600" y="284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16240" y="2886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39760" y="3341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27520" y="3352680"/>
            <a:ext cx="0" cy="5079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7520" y="3860640"/>
            <a:ext cx="990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86160" y="334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32360" y="384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99680" y="4673520"/>
            <a:ext cx="19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34120" y="2971800"/>
            <a:ext cx="0" cy="3808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34120" y="3352680"/>
            <a:ext cx="990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87840" y="284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5120" y="2886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24720" y="334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86760" y="3352680"/>
            <a:ext cx="0" cy="5079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286760" y="3860640"/>
            <a:ext cx="990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91120" y="334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24720" y="384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2880" y="4673520"/>
            <a:ext cx="19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27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7280" y="333360"/>
            <a:ext cx="156672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例题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828800" y="175248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 </a:t>
            </a: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8</a:t>
            </a: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33</a:t>
            </a: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解质因数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55720" y="2971800"/>
            <a:ext cx="0" cy="3808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55720" y="3352680"/>
            <a:ext cx="990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980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97080" y="293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76480" y="331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08000" y="3352680"/>
            <a:ext cx="0" cy="381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3733920"/>
            <a:ext cx="990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13080" y="333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258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38120" y="47242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3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5240" y="2971800"/>
            <a:ext cx="0" cy="3808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5240" y="3352680"/>
            <a:ext cx="990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28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6600" y="293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40120" y="3309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7520" y="3352680"/>
            <a:ext cx="0" cy="381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27520" y="3733920"/>
            <a:ext cx="990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32600" y="333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8484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81320" y="47242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5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34120" y="2971800"/>
            <a:ext cx="0" cy="3808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34120" y="3352680"/>
            <a:ext cx="990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288200" y="2895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33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75480" y="293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40480" y="3309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11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86760" y="3352680"/>
            <a:ext cx="0" cy="381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86760" y="3733920"/>
            <a:ext cx="990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91480" y="333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0880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24520" y="47242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3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3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333360"/>
            <a:ext cx="163836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练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505400" y="144792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33cc"/>
                </a:solidFill>
                <a:latin typeface="宋体"/>
              </a:rPr>
              <a:t>、通过刚才的分解你有没有发现问题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75280" y="274320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33cc"/>
                </a:solidFill>
                <a:latin typeface="宋体"/>
              </a:rPr>
              <a:t>、有没有简便的分解质因数的方法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39625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0" lang="zh-CN" sz="4000" spc="-1" strike="noStrike">
                <a:solidFill>
                  <a:srgbClr val="0033cc"/>
                </a:solidFill>
                <a:latin typeface="宋体"/>
              </a:rPr>
              <a:t>、用短除法的方法分解质因数是怎样除的？除数必须是什么数？为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209680" y="228600"/>
            <a:ext cx="1524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反思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429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抓住数的特点</a:t>
            </a:r>
            <a:r>
              <a:rPr b="1" lang="zh-CN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429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利用乘法口诀</a:t>
            </a:r>
            <a:r>
              <a:rPr b="1" lang="zh-CN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14600" y="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隶书"/>
              </a:rPr>
              <a:t>复习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37480" y="99072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自然数按因数的个数分为几类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76200" y="1619280"/>
            <a:ext cx="41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然数按因数的个数分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质数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合数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三类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720" y="22860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２．什么数叫质数？什么数叫合数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8195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一个数除了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和它本身，不再有别的约数，这个数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质数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。（也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素数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886200"/>
            <a:ext cx="79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一个数除了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和它本身，还有别的约数，这个数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合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8006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复习乘法算式中各种数的名称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7200" y="5486400"/>
            <a:ext cx="33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因数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X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因数 ＝  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362320" y="380880"/>
            <a:ext cx="2438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"/>
          <p:cNvSpPr/>
          <p:nvPr/>
        </p:nvSpPr>
        <p:spPr>
          <a:xfrm>
            <a:off x="2272680" y="2494080"/>
            <a:ext cx="256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课本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P4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课后作业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优化训练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P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《十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11430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下列各数哪些是质数？哪些是合数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隶书"/>
              </a:rPr>
              <a:t>比一比，看谁找得快！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532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198108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7080" y="1981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98108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4680" y="1981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58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9000" y="2895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89548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83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1680" y="2895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9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4960" y="3809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9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8360" y="2895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5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8680" y="2895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4=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177336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2×1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63700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4=  3×8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50028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4= 4×6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42210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4= 2×2×6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516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4= 2×2×2×3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494172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4= 4×2×3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3352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24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能否写成比它本身小的几个自然数相乘的形式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4=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836640"/>
            <a:ext cx="72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×1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162864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4=  3×8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421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4= 4×6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314172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4= 2×2×6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581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4= 2×2×2×3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78936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4= 4×2×3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5445000"/>
            <a:ext cx="8137440" cy="703440"/>
          </a:xfrm>
          <a:prstGeom prst="rect">
            <a:avLst/>
          </a:prstGeom>
          <a:solidFill>
            <a:srgbClr val="66ff99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合数＝质数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质数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×……×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质数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57200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4= 2×2×2×3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8800" y="222120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有没有一种分解与众不同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能否写成比它本身小的两个自然数相乘的形式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4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＝（       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×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       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6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＝（       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×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       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15120" y="57913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能否写成几个质数相乘的形式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581280"/>
            <a:ext cx="854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9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＝（       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×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       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＝（       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×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       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228600" y="48006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8 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＝（   ）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×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（    ） 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× 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（  ）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160020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幼圆"/>
              </a:rPr>
              <a:t>　每个合数都可以写成几个质数相乘的形式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幼圆"/>
              </a:rPr>
              <a:t>这几个质数叫做这个合数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质因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幼圆"/>
              </a:rPr>
              <a:t>．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419112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　   把一个合数用质因数相乘的形式表示出来叫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幼圆"/>
              </a:rPr>
              <a:t>分解质因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2280"/>
            <a:ext cx="2133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895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质因数既是因数，又是质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1371600"/>
            <a:ext cx="93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可以写成哪几个质数相乘的形式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85800" y="240516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149120" y="2997360"/>
            <a:ext cx="641160" cy="863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63720" y="2997360"/>
            <a:ext cx="733320" cy="863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4640" y="537048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6 = 2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×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45240" y="2205000"/>
            <a:ext cx="8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8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57320" y="2852640"/>
            <a:ext cx="368280" cy="5050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99200" y="2852640"/>
            <a:ext cx="458640" cy="5050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054400" y="3932280"/>
            <a:ext cx="368280" cy="504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51560" y="3932280"/>
            <a:ext cx="458640" cy="504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75560" y="4005360"/>
            <a:ext cx="458640" cy="504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58880" y="400536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34160" y="340344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6520" y="455616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10160" y="455616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6880" y="393372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06520" y="3933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59240" y="3357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83240" y="3357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10160" y="450864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34160" y="450864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86520" y="450864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6520" y="544500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28 = 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×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81080" y="30492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例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52680" y="838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932200" y="1498680"/>
            <a:ext cx="503280" cy="6476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46600" y="1498680"/>
            <a:ext cx="720720" cy="6476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77600" y="2587680"/>
            <a:ext cx="287640" cy="503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54320" y="2585880"/>
            <a:ext cx="287280" cy="5050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20574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49600" y="32828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38680" y="32097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9560" y="2031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21240" y="201132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17600" y="32209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276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0384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0 = 2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×3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× 2×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7760" y="2587680"/>
            <a:ext cx="287280" cy="504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451400" y="2587680"/>
            <a:ext cx="287280" cy="503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3235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3352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3276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81080" y="152280"/>
            <a:ext cx="1676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例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876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一做：把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解质因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02:11Z</dcterms:created>
  <dc:creator>LXY</dc:creator>
  <dc:description/>
  <dc:language>en-US</dc:language>
  <cp:lastModifiedBy>xx</cp:lastModifiedBy>
  <dcterms:modified xsi:type="dcterms:W3CDTF">2006-10-14T23:17:40Z</dcterms:modified>
  <cp:revision>7</cp:revision>
  <dc:subject/>
  <dc:title>幻灯片 1</dc:title>
</cp:coreProperties>
</file>