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F78-8DDB-4BFC-B1D2-2E157A0D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90D-4531-4AFC-AA99-2BDE58B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074-FFD2-4827-960B-348A58D9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989-BE61-4D55-8F81-1BFE243D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892-6070-4091-87B3-F791CFBA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BD2-A4F5-4424-AE1C-3789F39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DAD-560B-4044-8E0A-4FA9729D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074-7BE0-4EC5-BE91-04331D95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699-4821-4E14-AF29-B6FFE8F1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5F6-6BB6-4B0D-82FA-771564A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36E-77B6-4B19-984D-E2EEDCF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BFB-19D8-4242-82DC-52A8E78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052E-2EF8-4252-808F-C08FB15F5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447920" y="3657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1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讲 生命活动的基础物质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19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57200" y="609480"/>
            <a:ext cx="815328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糖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．糖类的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分子组成看，所有糖类化合物都是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三种元素组成的。大多数糖类化合物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原子数目比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∶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当于水的组成，所以糖类化合物最早被称为“碳水化合物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分子结构看，糖类化合物可定义为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羟基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葡萄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羟基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以及能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解生成多羟基醛或多羟基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的物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蔗糖、淀粉、纤维素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57200" y="609480"/>
            <a:ext cx="825516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单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糖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水解的多羟基醛或多羟基酮。按照分子中所含碳原子数的多少，单糖可以分为丙糖、丁糖、戊糖、己糖等；按照羰基连接的原子或原子团的情况不同，单糖又分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糖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葡萄糖的分子结构与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子结构：分子式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结构简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H—(CHOH)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825480"/>
            <a:ext cx="841536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理性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白色晶体，有甜味，能溶于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化学性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醛基的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被银氨溶液氧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银镜反应，应用于制镜、制热水瓶胆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—(CH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[Ag(N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H—(CHOH)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COON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A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N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被新制氢氧化铜氧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于检验糖尿病人的尿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—(CH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H—(CHOH)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COON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u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↓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086600" y="3720960"/>
          <a:ext cx="8888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3720960"/>
                    <a:ext cx="8888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467480" y="5410080"/>
          <a:ext cx="88920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5410080"/>
                    <a:ext cx="889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57200" y="609480"/>
            <a:ext cx="82551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醛基的氧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—(CH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-方正超大字符集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H—(CHOH)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H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己六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羟基的酯化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—(CH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CH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C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O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(CHOOCC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CH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H</a:t>
            </a:r>
            <a:r>
              <a:rPr b="0" lang="en-US" sz="28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57800" y="1371600"/>
          <a:ext cx="13716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371600"/>
                    <a:ext cx="1371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705720" y="3581280"/>
          <a:ext cx="1574640" cy="3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3581280"/>
                    <a:ext cx="1574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0880" y="5029200"/>
            <a:ext cx="8153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葡萄糖和果糖是两种最常见的单糖，其中葡萄糖是自然界中分布最广的单糖，果糖是最甜的糖。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04920" y="836640"/>
          <a:ext cx="8534160" cy="5578560"/>
        </p:xfrm>
        <a:graphic>
          <a:graphicData uri="http://schemas.openxmlformats.org/drawingml/2006/table">
            <a:tbl>
              <a:tblPr/>
              <a:tblGrid>
                <a:gridCol w="1431720"/>
                <a:gridCol w="3673440"/>
                <a:gridCol w="34290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单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葡萄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简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(CHOH)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(CHOH)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物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色晶体，熔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℃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有甜味，易溶于水，稍溶于乙醇，不溶于乙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色晶体，熔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℃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通常为黏稠液体，易溶于水、乙醇、乙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化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发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氧化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银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、与新制的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；能发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酯化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；能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氢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还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醛基而具酮基，能发生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酯化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反应；能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氢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还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于食品工业、制镜工业、热水瓶胆镀银、医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饮料、糖果、糕点等食品工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466080" y="380160"/>
            <a:ext cx="385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葡萄糖和果糖的比较见下表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838080"/>
            <a:ext cx="80010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二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把由不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单糖缩合形成的糖类化合物称为低聚糖。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糖水解后产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o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糖，这样的糖称为二糖。常见的二糖有蔗糖、麦芽糖与乳糖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57200" y="860400"/>
            <a:ext cx="8132760" cy="26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、油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Times New Roman"/>
              </a:rPr>
              <a:t>．油脂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油脂是　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和　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的统称，它在化学成分上都是高级脂肪酸跟　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甘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形成的酯，属于　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　类。油是不饱和脂肪酸与甘油形成的酯，在常温下呈液态，如植物油。脂肪是饱和脂肪酸与甘油形成的酯，在常温下呈固态，如动物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57200" y="735120"/>
            <a:ext cx="800100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油脂的组成和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油脂是由多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级脂肪酸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跟甘油生成的甘油酯，其结构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rcRect l="32741" t="10098" r="11115" b="3468"/>
          <a:stretch/>
        </p:blipFill>
        <p:spPr>
          <a:xfrm>
            <a:off x="1676520" y="2666880"/>
            <a:ext cx="396216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457200" y="838080"/>
            <a:ext cx="82296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油脂分子结构中，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同一种烃基，称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甘油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酸甘油三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不同种烃基，称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甘油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异酸甘油三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天然油脂大多数是混甘油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油脂的高级脂肪酸较多。常见的饱和脂肪酸有软脂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十六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硬脂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十八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常见的不饱和脂肪酸有油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十八碳烯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亚油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,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十八碳二烯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939960"/>
            <a:ext cx="8001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．油脂的化学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于油脂是多种高级脂肪酸的甘油酯，而高级脂肪酸中既有饱和的，又有不饱和的，因此许多油脂兼有酯类和烯烃的一些化学性质，可以发生水解反应和加成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rcRect l="2668" t="5736" r="8024" b="1251"/>
          <a:stretch/>
        </p:blipFill>
        <p:spPr>
          <a:xfrm>
            <a:off x="228600" y="1600200"/>
            <a:ext cx="8542440" cy="374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28960" y="91368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油脂的水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rcRect l="353" t="2326" r="10417" b="1409"/>
          <a:stretch/>
        </p:blipFill>
        <p:spPr>
          <a:xfrm>
            <a:off x="304920" y="1042920"/>
            <a:ext cx="8582040" cy="36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rcRect l="864" t="2163" r="6700" b="1186"/>
          <a:stretch/>
        </p:blipFill>
        <p:spPr>
          <a:xfrm>
            <a:off x="716040" y="727200"/>
            <a:ext cx="7818480" cy="5825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3080" y="74520"/>
          <a:ext cx="25178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74520"/>
                    <a:ext cx="2517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219320" y="936720"/>
            <a:ext cx="2112840" cy="4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168264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油脂不是高分子化合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天然油脂大都是混甘油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3:26:1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