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91B-61CF-4E99-B5E0-AA20FBA4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CAC-A804-417C-B375-6F1620BF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BB5-1879-4004-A730-C0FC7AE4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043-19B7-4D6D-B9EA-DC27A420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EB0-F17B-4164-B571-3D57EFB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48B-23F8-42AF-995A-8F9D4EA3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BBC-9842-499D-AF21-AD64CCFD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5AB-CC7D-417B-9B03-A00D3EF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C13-FB01-4365-821B-17F32012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6A3-94E8-4DED-816D-F0FB8B7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13A-488F-4D04-9F5C-8F065C6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207-DC81-4945-BD35-7892281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8CA-EBB6-4B7E-8A7E-8451A01D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447920" y="3657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0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讲 醛  羧酸  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19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39840" y="1012680"/>
            <a:ext cx="2112840" cy="43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1676520"/>
            <a:ext cx="8077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发生银镜反应的物质一定是醛类吗？能发生银镜反应的有机物应含有醛基，但不一定是醛类。具有醛基的物质有醛类、甲酸、甲酸某酯、甲酸盐、葡萄糖、麦芽糖等化合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47680" y="500040"/>
            <a:ext cx="872316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Times New Roman"/>
              </a:rPr>
              <a:t>三、乙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乙酸的分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酸的分子式是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7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7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7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结构简式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7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羧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乙酸的物理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酸是一种有强烈刺激性气味的无色液体，沸点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7.9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熔点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6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当温度低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6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乙酸就凝结成像冰一样的晶体，所以无水乙酸又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冰醋酸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乙酸易溶于水和乙醇。常见的调味品食醋中，约含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乙酸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4338" t="18063" r="14356" b="3035"/>
          <a:stretch/>
        </p:blipFill>
        <p:spPr>
          <a:xfrm>
            <a:off x="380880" y="2446200"/>
            <a:ext cx="4876920" cy="1092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961920"/>
            <a:ext cx="8305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乙酸的化学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弱酸性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酸性比碳酸强，具有酸的通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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762280" y="2514600"/>
          <a:ext cx="6858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2280" y="251460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21560" y="10040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酯化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2415" t="7042" r="6273" b="2366"/>
          <a:stretch/>
        </p:blipFill>
        <p:spPr>
          <a:xfrm>
            <a:off x="533520" y="1647720"/>
            <a:ext cx="7848360" cy="269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4800600"/>
            <a:ext cx="8382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反应中，羧酸分子中羧基上的羟基与醇分子中羟基上的氢原子结合生成水，其余部分结合成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80880" y="685800"/>
            <a:ext cx="83059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酯化反应实验中浓硫酸的作用是什么？导管的作用是什么？饱和碳酸钠溶液的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浓硫酸的作用为催化剂和吸水剂。作催化剂可提高反应速率；该反应为可逆反应，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吸水剂吸水，可提高乙酸乙酯的转化率。导管兼起冷凝回流的作用，减少未反应的乙酸和乙醇蒸发损失，而且导管不伸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饱和溶液中，以防倒吸。饱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中和乙酸，吸收乙醇，同时乙酸乙酯在无机盐溶液中溶解度减小，容易分层析出，不能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因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碱性强，会使乙酸乙酯水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352680" y="174600"/>
            <a:ext cx="2113200" cy="434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838080"/>
            <a:ext cx="8229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四、羧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．羧酸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羧酸的结构可表示为                    ，饱和一元羧酸通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3848" t="19793" r="11558" b="13232"/>
          <a:stretch/>
        </p:blipFill>
        <p:spPr>
          <a:xfrm>
            <a:off x="6097680" y="990720"/>
            <a:ext cx="1903320" cy="1131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33360" y="2909880"/>
            <a:ext cx="4496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羧酸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5362" t="3563" r="6857" b="4729"/>
          <a:stretch/>
        </p:blipFill>
        <p:spPr>
          <a:xfrm>
            <a:off x="579600" y="158760"/>
            <a:ext cx="718020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57200" y="685800"/>
            <a:ext cx="80773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．甲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酸分子中既有羧基又有醛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所以甲酸兼有羧酸和醛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具有羧酸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COO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-方正超大字符集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O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具有醛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57600" y="4191120"/>
          <a:ext cx="13716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19112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410080" y="2057400"/>
            <a:ext cx="1828800" cy="1235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92120" y="914400"/>
            <a:ext cx="2113200" cy="434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1600200"/>
            <a:ext cx="81532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可以直接向甲酸溶液中滴加新制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验其中的醛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示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能，因为甲酸显酸性，而新制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有在碱性条件下才会和醛基反应，所以应在甲酸溶液中滴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后才加新制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悬浊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09480" y="685800"/>
            <a:ext cx="784872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五、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．酯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rcRect l="0" t="6977" r="0" b="4215"/>
          <a:stretch/>
        </p:blipFill>
        <p:spPr>
          <a:xfrm>
            <a:off x="228600" y="2035080"/>
            <a:ext cx="8739360" cy="3679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533520"/>
            <a:ext cx="813276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乙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．乙醛的组成和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790" t="15897" r="2407" b="4316"/>
          <a:stretch/>
        </p:blipFill>
        <p:spPr>
          <a:xfrm>
            <a:off x="304920" y="1647720"/>
            <a:ext cx="845820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4384800"/>
            <a:ext cx="841860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乙醛的物理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醛是一种无色有刺激性气味的液体，密度比水小，沸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易挥发、易燃烧、易溶于水、乙醇、乙醚、氯仿等溶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80880" y="685800"/>
            <a:ext cx="845820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酯的化学性质——水解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酸性条件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-方正超大字符集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碱性条件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酯的水解反应是酯化反应的逆反应，在碱性条件下，生成的酸与碱反应，使平衡向水解的方向移动，使酯完全水解。酸和碱既是酯化反应的催化剂又是酯的水解反应的催化剂，为使反应完全，一般酯化反应用酸作催化剂，酯的水解反应用碱作催化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934320" y="1368360"/>
          <a:ext cx="137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136836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7315200" y="2438280"/>
            <a:ext cx="838080" cy="533520"/>
            <a:chOff x="7315200" y="2438280"/>
            <a:chExt cx="838080" cy="533520"/>
          </a:xfrm>
        </p:grpSpPr>
        <p:grpSp>
          <p:nvGrpSpPr>
            <p:cNvPr id="137" name=""/>
            <p:cNvGrpSpPr/>
            <p:nvPr/>
          </p:nvGrpSpPr>
          <p:grpSpPr>
            <a:xfrm>
              <a:off x="7315200" y="2895480"/>
              <a:ext cx="762120" cy="76320"/>
              <a:chOff x="7315200" y="2895480"/>
              <a:chExt cx="762120" cy="763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5200" y="28954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15200" y="29718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46748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120" y="725400"/>
            <a:ext cx="5715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乙醛的化学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3838" t="13353" r="0" b="5030"/>
          <a:stretch/>
        </p:blipFill>
        <p:spPr>
          <a:xfrm>
            <a:off x="333360" y="1219320"/>
            <a:ext cx="8353440" cy="141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2971800"/>
            <a:ext cx="807732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氧化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燃烧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O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CO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催化氧化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  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  <a:ea typeface="宋体-方正超大字符集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工业制乙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257800" y="3809880"/>
          <a:ext cx="115560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3809880"/>
                    <a:ext cx="1155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410080" y="4495680"/>
          <a:ext cx="137160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449568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57200" y="685800"/>
            <a:ext cx="8229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被弱氧化剂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被银氨溶液氧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也叫银镜反应，可用于醛基的检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中，硝酸银跟氨水起反应，生成银氨络合物，它把乙醛氧化成乙酸，乙酸再与氨生成乙酸铵，银氨络合物的银离子被还原成金属银，附着在试管的内壁上，形成银镜，所以，这个反应叫做银镜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0880" y="762120"/>
            <a:ext cx="807732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(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g(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ON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N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A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19720" y="2286000"/>
          <a:ext cx="15746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86000"/>
                    <a:ext cx="1574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0880" y="3276720"/>
            <a:ext cx="861084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乙醛与新制的氢氧化铜反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用于醛基的检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ON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u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醛中含有碳氧双键可以被还原为醇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410080" y="3886200"/>
            <a:ext cx="838080" cy="533520"/>
            <a:chOff x="5410080" y="3886200"/>
            <a:chExt cx="838080" cy="533520"/>
          </a:xfrm>
        </p:grpSpPr>
        <p:grpSp>
          <p:nvGrpSpPr>
            <p:cNvPr id="67" name=""/>
            <p:cNvGrpSpPr/>
            <p:nvPr/>
          </p:nvGrpSpPr>
          <p:grpSpPr>
            <a:xfrm>
              <a:off x="5410080" y="4343400"/>
              <a:ext cx="762120" cy="76320"/>
              <a:chOff x="5410080" y="4343400"/>
              <a:chExt cx="762120" cy="76320"/>
            </a:xfrm>
          </p:grpSpPr>
          <p:sp>
            <p:nvSpPr>
              <p:cNvPr id="68" name=""/>
              <p:cNvSpPr/>
              <p:nvPr/>
            </p:nvSpPr>
            <p:spPr>
              <a:xfrm>
                <a:off x="5410080" y="4343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0080" y="44197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5562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2112840" cy="43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1295280"/>
            <a:ext cx="83059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银镜反应中要注意的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用新配制的银氨溶液，不能用久置的溶液，以免发生危险。配制银氨溶液时：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稀溶液中逐滴加入稀氨水，直到最初生成的沉淀恰好溶解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滴加溶液顺序不能颠倒，否则最后得不到光亮的银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银镜反应的实验条件是水浴加热，不能直接加热煮沸，加热时不可振荡和摇动试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57200" y="838080"/>
            <a:ext cx="81532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银镜反应实验成功的关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玻璃器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洁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银氨溶液的制备、乙醛的用量要符合实验说明中的规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混合溶液的温度不能太高，受热要均匀，以温水浴为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加热过程中，试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玻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能振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后的银镜可用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洗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80880" y="83808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醛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醛类的结构可表示为               ，饱和一元醛的通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醛基中三原子共面。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醛基中含有碳氧双键，具有不饱和性，可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加成反应，把醛还原为醇。受羰基的影响，跟羰基相连的氢原子比较活泼，可被弱氧化剂氧化为羧基。故醛基既有氧化性，又有还原性，其氧化还原关系为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醇               醛              羧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0509" r="8033" b="3453"/>
          <a:stretch/>
        </p:blipFill>
        <p:spPr>
          <a:xfrm>
            <a:off x="5029200" y="1071720"/>
            <a:ext cx="1501920" cy="10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521000" y="4737240"/>
          <a:ext cx="116820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4737240"/>
                    <a:ext cx="1168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124080" y="4724280"/>
          <a:ext cx="116856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24080" y="4724280"/>
                    <a:ext cx="1168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" y="84132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醛俗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蚁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是一种无色、有刺激性气味的气体，易溶于水。甲醛的分子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结构简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%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甲醛水溶液俗称福尔马林，福尔马林具有很好的防腐杀菌效果，可用于农药和消毒剂；甲醛常用于制造酚醛树脂、脲醛树脂、涤纶、染料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3:58:06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