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2D8-D496-4800-9867-7EFD8C07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A57-5F61-4E9F-B0A8-34C753D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B8C-7865-48C3-B766-742EF6A2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132-E9E0-44CC-8B66-2B23B34A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B6D-0213-452E-B865-F1B338A0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E9C-8D4F-4604-9547-DFE1D9F8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19B-C5AD-42EE-90E1-87AF9CB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7E7-6C73-49A2-8192-808F9DA0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C31-8F16-415D-81B7-6488C290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92C-11DD-4D4F-A531-D9E8FC8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6A9-E52A-4891-84A5-5478DF03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0F5-AAA8-4090-850C-76526C4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2CEF-0B43-49F2-8836-845B5F5B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3505320"/>
            <a:ext cx="5029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七讲   铁、铜的获取及应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9160" y="1066680"/>
          <a:ext cx="89154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066680"/>
                    <a:ext cx="89154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762120"/>
            <a:ext cx="82296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铜的氧化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氧化铜的性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黑色不溶于水的固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酸的反应：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</a:t>
            </a:r>
            <a:r>
              <a:rPr b="0" lang="zh-CN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==Cu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黑色氧化铜加热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 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上，变成红色粉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CuO           2Cu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还原性物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 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Cu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N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呈砖红色，可用于制红色玻璃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身较稳定，但在酸液中易发生歧化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9880" y="4800600"/>
            <a:ext cx="838080" cy="533520"/>
            <a:chOff x="3809880" y="4800600"/>
            <a:chExt cx="838080" cy="533520"/>
          </a:xfrm>
        </p:grpSpPr>
        <p:grpSp>
          <p:nvGrpSpPr>
            <p:cNvPr id="141" name=""/>
            <p:cNvGrpSpPr/>
            <p:nvPr/>
          </p:nvGrpSpPr>
          <p:grpSpPr>
            <a:xfrm>
              <a:off x="3809880" y="5257800"/>
              <a:ext cx="762120" cy="76320"/>
              <a:chOff x="3809880" y="5257800"/>
              <a:chExt cx="762120" cy="76320"/>
            </a:xfrm>
          </p:grpSpPr>
          <p:sp>
            <p:nvSpPr>
              <p:cNvPr id="142" name=""/>
              <p:cNvSpPr/>
              <p:nvPr/>
            </p:nvSpPr>
            <p:spPr>
              <a:xfrm>
                <a:off x="3809880" y="525780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09880" y="533412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96216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00400" y="4191120"/>
            <a:ext cx="838080" cy="532800"/>
            <a:chOff x="3200400" y="4191120"/>
            <a:chExt cx="838080" cy="532800"/>
          </a:xfrm>
        </p:grpSpPr>
        <p:grpSp>
          <p:nvGrpSpPr>
            <p:cNvPr id="146" name=""/>
            <p:cNvGrpSpPr/>
            <p:nvPr/>
          </p:nvGrpSpPr>
          <p:grpSpPr>
            <a:xfrm>
              <a:off x="3200400" y="4647960"/>
              <a:ext cx="762120" cy="75960"/>
              <a:chOff x="3200400" y="4647960"/>
              <a:chExt cx="762120" cy="7596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464796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472392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335268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743200" y="3048120"/>
            <a:ext cx="838080" cy="532800"/>
            <a:chOff x="2743200" y="3048120"/>
            <a:chExt cx="838080" cy="532800"/>
          </a:xfrm>
        </p:grpSpPr>
        <p:grpSp>
          <p:nvGrpSpPr>
            <p:cNvPr id="151" name=""/>
            <p:cNvGrpSpPr/>
            <p:nvPr/>
          </p:nvGrpSpPr>
          <p:grpSpPr>
            <a:xfrm>
              <a:off x="2743200" y="3504960"/>
              <a:ext cx="762120" cy="75960"/>
              <a:chOff x="2743200" y="3504960"/>
              <a:chExt cx="762120" cy="7596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350496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358092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954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7200" y="774720"/>
            <a:ext cx="8381880" cy="66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．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蓝色固体，不溶于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可与酸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=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受热易分解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有弱氧化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新制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悬浊液能氧化醛基化合物，本身被还原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常用于醛基化合物的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4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制备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溶性铜盐与强碱反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O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=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蓝色絮状沉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724280" y="2438280"/>
            <a:ext cx="838080" cy="533520"/>
            <a:chOff x="4724280" y="2438280"/>
            <a:chExt cx="838080" cy="533520"/>
          </a:xfrm>
        </p:grpSpPr>
        <p:grpSp>
          <p:nvGrpSpPr>
            <p:cNvPr id="159" name=""/>
            <p:cNvGrpSpPr/>
            <p:nvPr/>
          </p:nvGrpSpPr>
          <p:grpSpPr>
            <a:xfrm>
              <a:off x="4724280" y="2895480"/>
              <a:ext cx="762120" cy="76320"/>
              <a:chOff x="4724280" y="2895480"/>
              <a:chExt cx="762120" cy="76320"/>
            </a:xfrm>
          </p:grpSpPr>
          <p:sp>
            <p:nvSpPr>
              <p:cNvPr id="160" name=""/>
              <p:cNvSpPr/>
              <p:nvPr/>
            </p:nvSpPr>
            <p:spPr>
              <a:xfrm>
                <a:off x="4724280" y="2895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24280" y="2971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87656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962520" y="4952880"/>
            <a:ext cx="761760" cy="318960"/>
            <a:chOff x="3962520" y="4952880"/>
            <a:chExt cx="761760" cy="318960"/>
          </a:xfrm>
        </p:grpSpPr>
        <p:sp>
          <p:nvSpPr>
            <p:cNvPr id="164" name=""/>
            <p:cNvSpPr/>
            <p:nvPr/>
          </p:nvSpPr>
          <p:spPr>
            <a:xfrm>
              <a:off x="3962520" y="5271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0760" y="49528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9480" y="609480"/>
            <a:ext cx="5105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二、铁的重要化合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铁的氧化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62120" y="1676520"/>
            <a:ext cx="7848360" cy="511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765000"/>
            <a:ext cx="7543800" cy="6093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9480" y="76320"/>
            <a:ext cx="3505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铁的氢氧化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6320" y="1884240"/>
            <a:ext cx="8915400" cy="3794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90648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.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铁及其化合物之间的转化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8381880" cy="587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162720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990720"/>
            <a:ext cx="5486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843120"/>
            <a:ext cx="556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三、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Fe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与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Fe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＋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的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87480"/>
            <a:ext cx="7162920" cy="660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2120" y="838080"/>
            <a:ext cx="692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续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" y="762120"/>
          <a:ext cx="211284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762120"/>
                    <a:ext cx="2112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04920" y="4125960"/>
            <a:ext cx="861048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→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铁与氧化性比较弱的非金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非氧化性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盐酸、稀硫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不活泼金属的盐溶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，都会实现这种转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比较活泼的金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从亚铁盐溶液中置换出铁。如：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Zn===Zn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19320"/>
            <a:ext cx="594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之间的三角转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133720" y="1828800"/>
            <a:ext cx="342900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2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533520" y="762120"/>
            <a:ext cx="80010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→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铁与强氧化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浓硫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一定条件下反应都会实现这种转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铁盐溶液与活泼的金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时，铁可被还原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Zn(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足量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===2Fe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Zn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亚铁盐与强氧化剂反应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==2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铁盐溶液与比较强的还原剂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如：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==3FeCl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09480" y="534960"/>
            <a:ext cx="8001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一、铁、铜的结构和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铁的原子结构和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的原子结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位于元素周期表中的第　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周期，第　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族。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原子序数是　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，其原子结构示意图为                  。铁为变价金属，通常显　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和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的物理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纯净的铁是光亮的　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银白色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金属，密度较大，熔、沸点较高，纯铁的抗腐蚀性强，有较好的导电、导热、延展性。铁能被磁铁吸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19320" y="3352680"/>
            <a:ext cx="130464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533520" y="914400"/>
            <a:ext cx="8076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四、金属的冶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金属材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包括纯金属和合金。合金具有许多优良的物理、化学或机械性能，在许多方面不同于各成分金属。合金的硬度一般比它的各成分金属的大，多数合金的熔点一般也比它的各成分金属的低。我国最早使用的合金是青铜，铜合金的种类很多，除青铜外，常见的还有黄铜和白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914400" y="974880"/>
            <a:ext cx="754380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铁的化学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非金属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和氯气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化学方程式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和氧气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化学方程式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和其他非金属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B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=2FeB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          FeS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黑色固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3581280"/>
            <a:ext cx="838080" cy="533520"/>
            <a:chOff x="5257800" y="3581280"/>
            <a:chExt cx="838080" cy="533520"/>
          </a:xfrm>
        </p:grpSpPr>
        <p:grpSp>
          <p:nvGrpSpPr>
            <p:cNvPr id="52" name=""/>
            <p:cNvGrpSpPr/>
            <p:nvPr/>
          </p:nvGrpSpPr>
          <p:grpSpPr>
            <a:xfrm>
              <a:off x="5257800" y="4038480"/>
              <a:ext cx="762120" cy="76320"/>
              <a:chOff x="5257800" y="4038480"/>
              <a:chExt cx="762120" cy="76320"/>
            </a:xfrm>
          </p:grpSpPr>
          <p:sp>
            <p:nvSpPr>
              <p:cNvPr id="53" name=""/>
              <p:cNvSpPr/>
              <p:nvPr/>
            </p:nvSpPr>
            <p:spPr>
              <a:xfrm>
                <a:off x="5257800" y="4038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257800" y="4114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5257800" y="3581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410080" y="2514600"/>
            <a:ext cx="838080" cy="533520"/>
            <a:chOff x="5410080" y="2514600"/>
            <a:chExt cx="838080" cy="533520"/>
          </a:xfrm>
        </p:grpSpPr>
        <p:grpSp>
          <p:nvGrpSpPr>
            <p:cNvPr id="57" name=""/>
            <p:cNvGrpSpPr/>
            <p:nvPr/>
          </p:nvGrpSpPr>
          <p:grpSpPr>
            <a:xfrm>
              <a:off x="5410080" y="2971800"/>
              <a:ext cx="762120" cy="76320"/>
              <a:chOff x="5410080" y="2971800"/>
              <a:chExt cx="762120" cy="76320"/>
            </a:xfrm>
          </p:grpSpPr>
          <p:sp>
            <p:nvSpPr>
              <p:cNvPr id="58" name=""/>
              <p:cNvSpPr/>
              <p:nvPr/>
            </p:nvSpPr>
            <p:spPr>
              <a:xfrm>
                <a:off x="5410080" y="29718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410080" y="30481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410080" y="251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66880" y="5715000"/>
            <a:ext cx="838080" cy="533520"/>
            <a:chOff x="2666880" y="5715000"/>
            <a:chExt cx="838080" cy="533520"/>
          </a:xfrm>
        </p:grpSpPr>
        <p:grpSp>
          <p:nvGrpSpPr>
            <p:cNvPr id="62" name=""/>
            <p:cNvGrpSpPr/>
            <p:nvPr/>
          </p:nvGrpSpPr>
          <p:grpSpPr>
            <a:xfrm>
              <a:off x="2666880" y="6172200"/>
              <a:ext cx="762120" cy="76320"/>
              <a:chOff x="2666880" y="6172200"/>
              <a:chExt cx="762120" cy="76320"/>
            </a:xfrm>
          </p:grpSpPr>
          <p:sp>
            <p:nvSpPr>
              <p:cNvPr id="63" name=""/>
              <p:cNvSpPr/>
              <p:nvPr/>
            </p:nvSpPr>
            <p:spPr>
              <a:xfrm>
                <a:off x="2666880" y="61722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66880" y="6248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819160" y="5715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666880" y="5181480"/>
            <a:ext cx="838080" cy="533520"/>
            <a:chOff x="2666880" y="5181480"/>
            <a:chExt cx="838080" cy="533520"/>
          </a:xfrm>
        </p:grpSpPr>
        <p:grpSp>
          <p:nvGrpSpPr>
            <p:cNvPr id="67" name=""/>
            <p:cNvGrpSpPr/>
            <p:nvPr/>
          </p:nvGrpSpPr>
          <p:grpSpPr>
            <a:xfrm>
              <a:off x="2666880" y="5638680"/>
              <a:ext cx="762120" cy="76320"/>
              <a:chOff x="2666880" y="5638680"/>
              <a:chExt cx="762120" cy="76320"/>
            </a:xfrm>
          </p:grpSpPr>
          <p:sp>
            <p:nvSpPr>
              <p:cNvPr id="68" name=""/>
              <p:cNvSpPr/>
              <p:nvPr/>
            </p:nvSpPr>
            <p:spPr>
              <a:xfrm>
                <a:off x="2666880" y="56386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66880" y="5715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819160" y="5181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33520" y="1066680"/>
            <a:ext cx="784836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水蒸气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实验步骤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玻璃管中放入还原铁粉和石棉绒的混合物，加热，并通入水蒸气。用试管收集产生的经干燥的气体，并靠近火焰点火。观察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实验现象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红热的铁与水蒸气起反应，放出气体。用试管收集气体，将气体靠近火焰点火，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燃烧或发出爆鸣声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化学方程式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      Fe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815000" y="5229360"/>
            <a:ext cx="838080" cy="532800"/>
            <a:chOff x="4815000" y="5229360"/>
            <a:chExt cx="838080" cy="532800"/>
          </a:xfrm>
        </p:grpSpPr>
        <p:grpSp>
          <p:nvGrpSpPr>
            <p:cNvPr id="75" name=""/>
            <p:cNvGrpSpPr/>
            <p:nvPr/>
          </p:nvGrpSpPr>
          <p:grpSpPr>
            <a:xfrm>
              <a:off x="4815000" y="5686200"/>
              <a:ext cx="762120" cy="75960"/>
              <a:chOff x="4815000" y="5686200"/>
              <a:chExt cx="762120" cy="75960"/>
            </a:xfrm>
          </p:grpSpPr>
          <p:sp>
            <p:nvSpPr>
              <p:cNvPr id="76" name=""/>
              <p:cNvSpPr/>
              <p:nvPr/>
            </p:nvSpPr>
            <p:spPr>
              <a:xfrm>
                <a:off x="4815000" y="56862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15000" y="57621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4815000" y="52293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高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3520" y="946080"/>
            <a:ext cx="7848360" cy="68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酸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非氧化性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放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离子方程式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==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氧化性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反应时，不放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N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稀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过量时生成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==Fe(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铁粉过量时生成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H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==3Fe(N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O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57200" y="838080"/>
            <a:ext cx="822960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与盐溶液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能与比它活动性弱的金属的盐溶液反应，置换出这种金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uS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===Cu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S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铁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溶液反应生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离子方程式：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e===3Fe</a:t>
            </a:r>
            <a:r>
              <a:rPr b="0" lang="en-US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铜单质的结构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子序数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位于元素周期表中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期、第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族，最外层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电子，常见化合价有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物理性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纯铜呈暗红色，属有色金属，导电、导热性、延展性良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09480" y="838080"/>
            <a:ext cx="792504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．铜的化学性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于金属活动性顺序表中氢原子之后，它属于不活泼金属，不能置换出酸或水中的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露置于潮湿空气中，表面产生绿色的铜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Cu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===Cu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(OH)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在空气中加热，表面变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Cu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9999"/>
                </a:solidFill>
                <a:latin typeface="Times New Roman"/>
                <a:ea typeface="Times New Roman"/>
              </a:rPr>
              <a:t>2              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CuO(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黑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红热的铜丝插入盛氯气的集气瓶中，产生棕黄色的烟。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    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Cl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棕黄色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红热的铜丝插入硫蒸气中，铜丝变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          Cu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黑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666880" y="3886200"/>
            <a:ext cx="838080" cy="459720"/>
            <a:chOff x="2666880" y="3886200"/>
            <a:chExt cx="838080" cy="459720"/>
          </a:xfrm>
        </p:grpSpPr>
        <p:grpSp>
          <p:nvGrpSpPr>
            <p:cNvPr id="89" name=""/>
            <p:cNvGrpSpPr/>
            <p:nvPr/>
          </p:nvGrpSpPr>
          <p:grpSpPr>
            <a:xfrm>
              <a:off x="2666880" y="4277880"/>
              <a:ext cx="762120" cy="65160"/>
              <a:chOff x="2666880" y="4277880"/>
              <a:chExt cx="762120" cy="65160"/>
            </a:xfrm>
          </p:grpSpPr>
          <p:sp>
            <p:nvSpPr>
              <p:cNvPr id="90" name=""/>
              <p:cNvSpPr/>
              <p:nvPr/>
            </p:nvSpPr>
            <p:spPr>
              <a:xfrm>
                <a:off x="2666880" y="427788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66880" y="434304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1916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114800" y="4876920"/>
            <a:ext cx="838080" cy="532800"/>
            <a:chOff x="4114800" y="4876920"/>
            <a:chExt cx="838080" cy="532800"/>
          </a:xfrm>
        </p:grpSpPr>
        <p:grpSp>
          <p:nvGrpSpPr>
            <p:cNvPr id="94" name=""/>
            <p:cNvGrpSpPr/>
            <p:nvPr/>
          </p:nvGrpSpPr>
          <p:grpSpPr>
            <a:xfrm>
              <a:off x="4114800" y="5333760"/>
              <a:ext cx="762120" cy="75960"/>
              <a:chOff x="4114800" y="5333760"/>
              <a:chExt cx="762120" cy="75960"/>
            </a:xfrm>
          </p:grpSpPr>
          <p:sp>
            <p:nvSpPr>
              <p:cNvPr id="95" name=""/>
              <p:cNvSpPr/>
              <p:nvPr/>
            </p:nvSpPr>
            <p:spPr>
              <a:xfrm>
                <a:off x="4114800" y="533376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540972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4114800" y="4876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</a:rPr>
                <a:t>点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14600" y="5943600"/>
            <a:ext cx="838080" cy="459720"/>
            <a:chOff x="2514600" y="5943600"/>
            <a:chExt cx="838080" cy="459720"/>
          </a:xfrm>
        </p:grpSpPr>
        <p:grpSp>
          <p:nvGrpSpPr>
            <p:cNvPr id="99" name=""/>
            <p:cNvGrpSpPr/>
            <p:nvPr/>
          </p:nvGrpSpPr>
          <p:grpSpPr>
            <a:xfrm>
              <a:off x="2514600" y="6335280"/>
              <a:ext cx="762120" cy="65160"/>
              <a:chOff x="2514600" y="6335280"/>
              <a:chExt cx="762120" cy="65160"/>
            </a:xfrm>
          </p:grpSpPr>
          <p:sp>
            <p:nvSpPr>
              <p:cNvPr id="100" name=""/>
              <p:cNvSpPr/>
              <p:nvPr/>
            </p:nvSpPr>
            <p:spPr>
              <a:xfrm>
                <a:off x="2514600" y="633528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14600" y="640044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666880" y="5943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520" y="990720"/>
            <a:ext cx="8076960" cy="60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酒精灯外焰加热，铜丝则由红变黑，再将变黑的铜丝伸入酒精灯焰心，又由黑变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外焰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内焰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        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棕黄色的三氯化铁溶液中加入少量铜粉，片刻后铜粉溶解消失，溶液变为浅绿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===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盐溶液反应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g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===2A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与浓硫酸共热，铜溶解，溶液变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Cu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962520" y="5562720"/>
            <a:ext cx="838080" cy="532800"/>
            <a:chOff x="3962520" y="5562720"/>
            <a:chExt cx="838080" cy="532800"/>
          </a:xfrm>
        </p:grpSpPr>
        <p:grpSp>
          <p:nvGrpSpPr>
            <p:cNvPr id="107" name=""/>
            <p:cNvGrpSpPr/>
            <p:nvPr/>
          </p:nvGrpSpPr>
          <p:grpSpPr>
            <a:xfrm>
              <a:off x="3962520" y="6019560"/>
              <a:ext cx="762120" cy="75960"/>
              <a:chOff x="3962520" y="6019560"/>
              <a:chExt cx="762120" cy="7596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60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6095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114800" y="5562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352680" y="1905120"/>
            <a:ext cx="838080" cy="532800"/>
            <a:chOff x="3352680" y="1905120"/>
            <a:chExt cx="838080" cy="532800"/>
          </a:xfrm>
        </p:grpSpPr>
        <p:grpSp>
          <p:nvGrpSpPr>
            <p:cNvPr id="112" name=""/>
            <p:cNvGrpSpPr/>
            <p:nvPr/>
          </p:nvGrpSpPr>
          <p:grpSpPr>
            <a:xfrm>
              <a:off x="3352680" y="2361960"/>
              <a:ext cx="762120" cy="75960"/>
              <a:chOff x="3352680" y="2361960"/>
              <a:chExt cx="762120" cy="75960"/>
            </a:xfrm>
          </p:grpSpPr>
          <p:sp>
            <p:nvSpPr>
              <p:cNvPr id="113" name=""/>
              <p:cNvSpPr/>
              <p:nvPr/>
            </p:nvSpPr>
            <p:spPr>
              <a:xfrm>
                <a:off x="3352680" y="2361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2680" y="24379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504960" y="1905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267080" y="2603520"/>
            <a:ext cx="762120" cy="291960"/>
            <a:chOff x="4267080" y="2603520"/>
            <a:chExt cx="762120" cy="291960"/>
          </a:xfrm>
        </p:grpSpPr>
        <p:sp>
          <p:nvSpPr>
            <p:cNvPr id="117" name=""/>
            <p:cNvSpPr/>
            <p:nvPr/>
          </p:nvSpPr>
          <p:spPr>
            <a:xfrm>
              <a:off x="4267080" y="2895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2603520"/>
              <a:ext cx="304920" cy="20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31240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990720"/>
            <a:ext cx="8305920" cy="49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与浓硝酸混合，迅速发生反应，形成蓝色溶液，同时产生红棕色气体；铜与稀硝酸混合形成蓝色溶液，产生无色气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HN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         Cu(N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N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↑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HN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稀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       3Cu(N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NO↑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铜与热的稀硫酸混合，通入氧气，过一段时间，可观察到溶液变蓝，铜粉逐渐减少至消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Cu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浓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          2CuSO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0400" y="2666880"/>
            <a:ext cx="838080" cy="533520"/>
            <a:chOff x="3200400" y="2666880"/>
            <a:chExt cx="838080" cy="533520"/>
          </a:xfrm>
        </p:grpSpPr>
        <p:grpSp>
          <p:nvGrpSpPr>
            <p:cNvPr id="123" name=""/>
            <p:cNvGrpSpPr/>
            <p:nvPr/>
          </p:nvGrpSpPr>
          <p:grpSpPr>
            <a:xfrm>
              <a:off x="3200400" y="3124080"/>
              <a:ext cx="762120" cy="76320"/>
              <a:chOff x="3200400" y="3124080"/>
              <a:chExt cx="762120" cy="76320"/>
            </a:xfrm>
          </p:grpSpPr>
          <p:sp>
            <p:nvSpPr>
              <p:cNvPr id="124" name=""/>
              <p:cNvSpPr/>
              <p:nvPr/>
            </p:nvSpPr>
            <p:spPr>
              <a:xfrm>
                <a:off x="3200400" y="312408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00400" y="320040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2666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4280" y="5334120"/>
            <a:ext cx="838080" cy="532800"/>
            <a:chOff x="4724280" y="5334120"/>
            <a:chExt cx="838080" cy="532800"/>
          </a:xfrm>
        </p:grpSpPr>
        <p:grpSp>
          <p:nvGrpSpPr>
            <p:cNvPr id="128" name=""/>
            <p:cNvGrpSpPr/>
            <p:nvPr/>
          </p:nvGrpSpPr>
          <p:grpSpPr>
            <a:xfrm>
              <a:off x="4724280" y="5790960"/>
              <a:ext cx="762120" cy="75960"/>
              <a:chOff x="4724280" y="5790960"/>
              <a:chExt cx="762120" cy="75960"/>
            </a:xfrm>
          </p:grpSpPr>
          <p:sp>
            <p:nvSpPr>
              <p:cNvPr id="129" name=""/>
              <p:cNvSpPr/>
              <p:nvPr/>
            </p:nvSpPr>
            <p:spPr>
              <a:xfrm>
                <a:off x="4724280" y="579096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24280" y="5866920"/>
                <a:ext cx="762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87656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29000" y="3352680"/>
            <a:ext cx="685800" cy="533520"/>
            <a:chOff x="3429000" y="3352680"/>
            <a:chExt cx="685800" cy="533520"/>
          </a:xfrm>
        </p:grpSpPr>
        <p:grpSp>
          <p:nvGrpSpPr>
            <p:cNvPr id="133" name=""/>
            <p:cNvGrpSpPr/>
            <p:nvPr/>
          </p:nvGrpSpPr>
          <p:grpSpPr>
            <a:xfrm>
              <a:off x="3429000" y="3809880"/>
              <a:ext cx="623520" cy="76320"/>
              <a:chOff x="3429000" y="3809880"/>
              <a:chExt cx="623520" cy="76320"/>
            </a:xfrm>
          </p:grpSpPr>
          <p:sp>
            <p:nvSpPr>
              <p:cNvPr id="134" name=""/>
              <p:cNvSpPr/>
              <p:nvPr/>
            </p:nvSpPr>
            <p:spPr>
              <a:xfrm>
                <a:off x="3429000" y="3809880"/>
                <a:ext cx="6235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29000" y="3886200"/>
                <a:ext cx="6235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553560" y="3352680"/>
              <a:ext cx="5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4:42:4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