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8D9-2779-4CA5-9A3F-B44391A6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CBE-2449-48C1-A3B3-AA57B27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814-FCBE-43D1-B692-8C87CD01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A14-BFFC-4A30-8919-478076CE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679-493E-4A15-BB08-04CEDEE7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ABB-3A94-4991-BEAE-6417E733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8C8-F8F9-4455-809E-3B2BCEC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393-2E49-42C4-9F79-658F90B7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FE0-3D8E-40D9-B106-0408F0EA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A4C-1B77-4BC8-8854-83BF0DE6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CDD-CCA3-4B84-9422-9DD0367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843-9824-45E8-ABE0-783B547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C65C-C5B2-4DAF-BE4F-8DFBE926A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365760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五讲 钠、镁及其化合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320" y="1143000"/>
          <a:ext cx="899136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43000"/>
                    <a:ext cx="8991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3520" y="838080"/>
            <a:ext cx="8076960" cy="6135120"/>
          </a:xfrm>
          <a:prstGeom prst="rect">
            <a:avLst/>
          </a:prstGeom>
          <a:solidFill>
            <a:srgbClr val="ffffff"/>
          </a:solidFill>
          <a:ln w="442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碳酸钠、碳酸氢钠的鉴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(1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晶体受热法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受热产生能使澄清石灰水变浑浊的无色无味的气体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无此性质。反应为 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=Ca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(2)CaCl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溶液法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a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滴加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中能产生白色沉淀，滴加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中无白色沉淀。反应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Times New Roman"/>
                <a:ea typeface="仿宋_GB2312"/>
              </a:rPr>
              <a:t>3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仿宋_GB2312"/>
              </a:rPr>
              <a:t>2 </a:t>
            </a:r>
            <a:r>
              <a:rPr b="0" lang="en-US" sz="2800" spc="-1" strike="noStrike" baseline="64000">
                <a:solidFill>
                  <a:srgbClr val="009999"/>
                </a:solidFill>
                <a:latin typeface="Times New Roman"/>
                <a:ea typeface="仿宋_GB2312"/>
              </a:rPr>
              <a:t>_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Ca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===Ca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仿宋_GB2312"/>
              </a:rPr>
              <a:t>3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2514600" cy="681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880" y="1066680"/>
            <a:ext cx="8382240" cy="5148000"/>
          </a:xfrm>
          <a:prstGeom prst="rect">
            <a:avLst/>
          </a:prstGeom>
          <a:solidFill>
            <a:srgbClr val="ffffff"/>
          </a:solidFill>
          <a:ln w="442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(3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稀盐酸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中逐滴加入盐酸，开始一段时间无气体产生，当稀盐酸滴加到一定量时有气体产生；而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溶液中滴加稀盐酸，立即产生无色无味的气体。盐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=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=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盐酸与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NaH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反应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==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114800" y="533520"/>
            <a:ext cx="2514600" cy="68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4920" y="860400"/>
          <a:ext cx="21128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60400"/>
                    <a:ext cx="2112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" y="1460520"/>
            <a:ext cx="838188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不用其他任何试剂鉴别碳酸钠溶液和稀盐酸的方法：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中滴加盐酸的反应分两步进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Cl===NaH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NaCl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NaH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Cl===NaCl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逐滴滴入盐酸中，将会立即产生气泡，将盐酸逐滴滴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中开始无现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理论上仅发生第一步反应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后来有气泡产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转化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因此可利用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溶液与盐酸的互滴来鉴别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溶液和稀盐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9480" y="762120"/>
            <a:ext cx="777240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一定温度下，向饱和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中通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气体会发生如下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===2NaH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于碳酸钠的溶解度大于碳酸氢钠的溶解度，而且反应中还要用掉一部分水，所以生成的溶解度较小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就会从溶液中析出，也可以说生成沉淀。实际上引起晶体析出除了上述两方面的原因外，还有一点那就是溶质的质量经过反应后增多了，这也是原因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7200" y="685800"/>
            <a:ext cx="80773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0" lang="zh-CN" sz="2700" spc="-1" strike="noStrike">
                <a:solidFill>
                  <a:srgbClr val="009999"/>
                </a:solidFill>
                <a:latin typeface="Times New Roman"/>
              </a:rPr>
              <a:t>．焰色反应：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许多金属或它们的化合物灼烧时火焰呈现特殊的焰色，这一变化属于</a:t>
            </a:r>
            <a:r>
              <a:rPr b="0" lang="zh-CN" sz="2700" spc="-1" strike="noStrike">
                <a:solidFill>
                  <a:srgbClr val="009999"/>
                </a:solidFill>
                <a:latin typeface="Times New Roman"/>
              </a:rPr>
              <a:t>物理变化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钠元素的焰色为黄色，钾元素的焰色为紫色，在观察钾元素的火焰颜色时，要透过蓝色钴玻璃去观察，以避免钠元素的干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实验完毕，要把装在玻璃棒上的铂丝放在盐酸里浸渍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 min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，再用蒸馏水洗净，保存在试管里，使它洁净无垢，可概括为</a:t>
            </a:r>
            <a:r>
              <a:rPr b="0" lang="en-US" sz="2700" spc="-1" strike="noStrike">
                <a:solidFill>
                  <a:srgbClr val="009999"/>
                </a:solidFill>
                <a:latin typeface="Times New Roman"/>
              </a:rPr>
              <a:t>“烧、蘸、烧、洗、烧”</a:t>
            </a: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几字。焰色反应的实验操作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5607000"/>
            <a:ext cx="7619760" cy="1192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762120"/>
            <a:ext cx="7925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侯德榜制碱法的应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往饱和食盐水中依次通入足量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氨碱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利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溶解性小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溶解性原理，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溶液中析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=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===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H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2743200" y="5181480"/>
            <a:ext cx="838080" cy="533520"/>
            <a:chOff x="2743200" y="5181480"/>
            <a:chExt cx="838080" cy="533520"/>
          </a:xfrm>
        </p:grpSpPr>
        <p:grpSp>
          <p:nvGrpSpPr>
            <p:cNvPr id="102" name=""/>
            <p:cNvGrpSpPr/>
            <p:nvPr/>
          </p:nvGrpSpPr>
          <p:grpSpPr>
            <a:xfrm>
              <a:off x="2743200" y="5638680"/>
              <a:ext cx="762120" cy="76320"/>
              <a:chOff x="2743200" y="5638680"/>
              <a:chExt cx="762120" cy="76320"/>
            </a:xfrm>
          </p:grpSpPr>
          <p:sp>
            <p:nvSpPr>
              <p:cNvPr id="103" name=""/>
              <p:cNvSpPr/>
              <p:nvPr/>
            </p:nvSpPr>
            <p:spPr>
              <a:xfrm>
                <a:off x="2743200" y="56386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43200" y="5715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89548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57200" y="685800"/>
            <a:ext cx="807732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三、从海水中提取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镁的物理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金属镁的密度小，只有铝的密度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镁合金的强度高、机械性能好，这些特性使金属镁成为制造汽车、飞机、火箭的重要材料，从而获得“国防金属”的美誉。金属镁具有金属的通性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导电、导热、延展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762120"/>
            <a:ext cx="845820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一、钠的性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碱金属的元素符号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Li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Cs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；最外层上有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　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个电子，化学反应时易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失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电子，表现强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还原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性，是一些活泼的金属。它们的最高价氧化物对应水化物都是碱。故把它们称作碱金属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Times New Roman"/>
                <a:ea typeface="宋体"/>
              </a:rPr>
              <a:t>1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  <a:ea typeface="宋体"/>
              </a:rPr>
              <a:t>．钠的物理性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钠是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银白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色金属，具有金属光泽，质地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柔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，可以用刀切割，密度比水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小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，比煤油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大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，熔点略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低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于水的沸点，是热和电的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良导体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Times New Roman"/>
                <a:ea typeface="宋体"/>
              </a:rPr>
              <a:t>2</a:t>
            </a:r>
            <a:r>
              <a:rPr b="0" lang="zh-CN" sz="2600" spc="-1" strike="noStrike">
                <a:solidFill>
                  <a:srgbClr val="009999"/>
                </a:solidFill>
                <a:latin typeface="Times New Roman"/>
                <a:ea typeface="宋体"/>
              </a:rPr>
              <a:t>．钠的化学性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钠的结构和性质推测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钠的原子最外层上有　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个电子，化学反应时表现　</a:t>
            </a:r>
            <a:r>
              <a:rPr b="0" lang="zh-CN" sz="2600" spc="-1" strike="noStrike">
                <a:solidFill>
                  <a:srgbClr val="ff0066"/>
                </a:solidFill>
                <a:latin typeface="Times New Roman"/>
                <a:ea typeface="宋体"/>
              </a:rPr>
              <a:t>还原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性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4920" y="1523880"/>
          <a:ext cx="8686800" cy="383868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2743200"/>
                <a:gridCol w="3886200"/>
              </a:tblGrid>
              <a:tr h="520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实验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化学方程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钠与非金属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温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银白色变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2Na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空气中点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剧烈反应，发出黄色火焰，生成浅黄色固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化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===Na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化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80880" y="685800"/>
            <a:ext cx="693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钠的化学性质和实验验证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6320" y="990720"/>
          <a:ext cx="8991360" cy="6118200"/>
        </p:xfrm>
        <a:graphic>
          <a:graphicData uri="http://schemas.openxmlformats.org/drawingml/2006/table">
            <a:tbl>
              <a:tblPr/>
              <a:tblGrid>
                <a:gridCol w="2361960"/>
                <a:gridCol w="2819160"/>
                <a:gridCol w="3810240"/>
              </a:tblGrid>
              <a:tr h="110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钠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浮在水面，熔成闪亮小球，四处游动，发出声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+2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===2NaOH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钠与稀盐酸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+2HCl===2NaC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钠与硫酸铜溶液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+Na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钠与乙醇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―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钠与乙酸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―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N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657600" y="152280"/>
            <a:ext cx="99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续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534520" y="3581280"/>
            <a:ext cx="457200" cy="76320"/>
            <a:chOff x="8534520" y="3581280"/>
            <a:chExt cx="457200" cy="76320"/>
          </a:xfrm>
        </p:grpSpPr>
        <p:sp>
          <p:nvSpPr>
            <p:cNvPr id="56" name=""/>
            <p:cNvSpPr/>
            <p:nvPr/>
          </p:nvSpPr>
          <p:spPr>
            <a:xfrm>
              <a:off x="8534520" y="365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57200" y="1295280"/>
            <a:ext cx="83818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钠投入含酚酞的水溶液中的现象及可得出的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钠浮在水面上——钠的密度比水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刻熔成闪亮的小球——钠的熔点低，钠与水反应放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水面上四处游动，发出“嘶嘶”声，最后完全消失——钠与水反应剧烈，生成不溶性气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后溶液由无色变为红色——钠与水反应生成碱性物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OH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762120"/>
          <a:ext cx="21128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762120"/>
                    <a:ext cx="2112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60948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　二、钠的重要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．氧化钠与过氧化钠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1447920"/>
          <a:ext cx="7391160" cy="4421160"/>
        </p:xfrm>
        <a:graphic>
          <a:graphicData uri="http://schemas.openxmlformats.org/drawingml/2006/table">
            <a:tbl>
              <a:tblPr/>
              <a:tblGrid>
                <a:gridCol w="1066320"/>
                <a:gridCol w="1752840"/>
                <a:gridCol w="3047760"/>
                <a:gridCol w="1524240"/>
              </a:tblGrid>
              <a:tr h="623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碳酸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碳酸氢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俗名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纯碱或苏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苏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物理性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颜色状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色粉末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小白色晶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溶解性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溶于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℃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5 g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溶于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℃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 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609480"/>
            <a:ext cx="5638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碳酸钠与碳酸氢钠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2440" y="1031760"/>
          <a:ext cx="8562960" cy="4073400"/>
        </p:xfrm>
        <a:graphic>
          <a:graphicData uri="http://schemas.openxmlformats.org/drawingml/2006/table">
            <a:tbl>
              <a:tblPr/>
              <a:tblGrid>
                <a:gridCol w="638280"/>
                <a:gridCol w="1295280"/>
                <a:gridCol w="3581280"/>
                <a:gridCol w="3048120"/>
              </a:tblGrid>
              <a:tr h="520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化学性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稳定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稳定，但结晶碳酸钠易风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受热易分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酸溶液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快；在稀溶液中加入酸液先生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－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后生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现象与滴加顺序有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更快；在稀溶液中加入酸液立即生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现象与滴加顺序无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碱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反应，但能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均反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2895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04920" y="838080"/>
          <a:ext cx="8534160" cy="5391000"/>
        </p:xfrm>
        <a:graphic>
          <a:graphicData uri="http://schemas.openxmlformats.org/drawingml/2006/table">
            <a:tbl>
              <a:tblPr/>
              <a:tblGrid>
                <a:gridCol w="533160"/>
                <a:gridCol w="914400"/>
                <a:gridCol w="1600200"/>
                <a:gridCol w="3047760"/>
                <a:gridCol w="2438640"/>
              </a:tblGrid>
              <a:tr h="597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化学性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盐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应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应，生成沉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反应，无明显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双水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双水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水的作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解，碱性较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解，碱性较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分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化工原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发酵、泡沫灭火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互转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414600" y="5334120"/>
            <a:ext cx="541044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5:23:31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