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0CC-D559-41C1-B39C-FF7E0B4F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E06-3BD7-492B-A07D-66C6494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AA6-637D-42EC-B129-6E85C69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D5D-A98B-4D88-BB8C-94314E7F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7F1F-478F-4435-8BBD-0738BF79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113-091D-4000-B273-C72E6447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48BF-6854-4816-B036-9A3AF6E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5201-386D-421F-BAA4-2A11ED98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7EB-F1E6-4412-B0A8-3DFDE630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2E3-3E6D-4E3B-A880-22214D2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1D5E-7DFA-486D-9549-0A5398DF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3A2-D701-42D8-9890-FCBFB87B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027-7E6A-46E2-86FF-7B041271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C3A-9E2E-428A-8DDE-B192C378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61BF-BC7B-4722-A85F-C800A946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1F9-A43A-4054-9420-6EE152AF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4F5F-0DE3-437C-A5E8-03CBF4B3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EC1-26CA-4D77-A283-F3FB0CBD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FBD-5F2C-450E-A3E9-DFF7BB3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E88-74B1-4666-91E5-AD45F689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976-1C6F-4186-AEA1-DA376EA4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34B-8960-4121-A622-2CF7E56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C25-ADC6-47EA-848B-C297612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F74-4D29-4DB3-8FD5-527B7CF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B9C3-478B-4A58-AFC4-7B7E7936E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6165720"/>
            <a:ext cx="169236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官方logo"/>
          <p:cNvPicPr/>
          <p:nvPr/>
        </p:nvPicPr>
        <p:blipFill>
          <a:blip r:embed="rId3"/>
          <a:stretch/>
        </p:blipFill>
        <p:spPr>
          <a:xfrm>
            <a:off x="0" y="6165720"/>
            <a:ext cx="1692360" cy="692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0FDF-1E72-4697-82DF-8CC8D2C0768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468360" y="692280"/>
            <a:ext cx="513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北师大版二年级英语上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692360" y="3213000"/>
            <a:ext cx="345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MingLiU"/>
              </a:rPr>
              <a:t>Unit 1 Hello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MingLiU"/>
              <a:ea typeface="PMingLiU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WordArt 4" descr=""/>
          <p:cNvPicPr/>
          <p:nvPr/>
        </p:nvPicPr>
        <p:blipFill>
          <a:blip r:embed="rId1"/>
          <a:stretch/>
        </p:blipFill>
        <p:spPr>
          <a:xfrm>
            <a:off x="1609560" y="2487600"/>
            <a:ext cx="3230640" cy="195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QQ截图未命名"/>
          <p:cNvPicPr/>
          <p:nvPr/>
        </p:nvPicPr>
        <p:blipFill>
          <a:blip r:embed="rId1"/>
          <a:stretch/>
        </p:blipFill>
        <p:spPr>
          <a:xfrm>
            <a:off x="3924360" y="981000"/>
            <a:ext cx="4100400" cy="4942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QQ截图未命名"/>
          <p:cNvPicPr/>
          <p:nvPr/>
        </p:nvPicPr>
        <p:blipFill>
          <a:blip r:embed="rId1"/>
          <a:stretch/>
        </p:blipFill>
        <p:spPr>
          <a:xfrm>
            <a:off x="2195640" y="1989000"/>
            <a:ext cx="3006720" cy="2062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7"/>
          <p:cNvSpPr txBox="1"/>
          <p:nvPr/>
        </p:nvSpPr>
        <p:spPr>
          <a:xfrm>
            <a:off x="4067280" y="4653000"/>
            <a:ext cx="136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仿宋_GB2312"/>
              </a:rPr>
              <a:t>nam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04"/>
          <p:cNvPicPr/>
          <p:nvPr/>
        </p:nvPicPr>
        <p:blipFill>
          <a:blip r:embed="rId1"/>
          <a:stretch/>
        </p:blipFill>
        <p:spPr>
          <a:xfrm>
            <a:off x="3419640" y="2276640"/>
            <a:ext cx="2409840" cy="240984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 txBox="1"/>
          <p:nvPr/>
        </p:nvSpPr>
        <p:spPr>
          <a:xfrm>
            <a:off x="3419640" y="5157720"/>
            <a:ext cx="208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MingLiU"/>
              </a:rPr>
              <a:t>be carefu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MingLiU"/>
              <a:ea typeface="PMingLiU"/>
            </a:endParaRPr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00852323911104_1"/>
          <p:cNvPicPr/>
          <p:nvPr/>
        </p:nvPicPr>
        <p:blipFill>
          <a:blip r:embed="rId1"/>
          <a:stretch/>
        </p:blipFill>
        <p:spPr>
          <a:xfrm>
            <a:off x="3203640" y="2637000"/>
            <a:ext cx="2658960" cy="1879560"/>
          </a:xfrm>
          <a:prstGeom prst="rect">
            <a:avLst/>
          </a:prstGeom>
          <a:ln w="0">
            <a:noFill/>
          </a:ln>
        </p:spPr>
      </p:pic>
      <p:sp>
        <p:nvSpPr>
          <p:cNvPr id="92" name="WordArt 6"/>
          <p:cNvSpPr txBox="1"/>
          <p:nvPr/>
        </p:nvSpPr>
        <p:spPr>
          <a:xfrm>
            <a:off x="3564000" y="5084640"/>
            <a:ext cx="20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S UI Gothic"/>
              </a:rPr>
              <a:t>childre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p:transition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2cf082f49b68fb06bd3109f0"/>
          <p:cNvPicPr/>
          <p:nvPr/>
        </p:nvPicPr>
        <p:blipFill>
          <a:blip r:embed="rId1"/>
          <a:stretch/>
        </p:blipFill>
        <p:spPr>
          <a:xfrm>
            <a:off x="2050920" y="1989000"/>
            <a:ext cx="4481640" cy="2241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2916360" y="479736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S UI Gothic"/>
              </a:rPr>
              <a:t>Good morn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p:transition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99"/>
                </a:solidFill>
                <a:latin typeface="Times New Roman"/>
              </a:rPr>
              <a:t>Homework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9600" y="1931760"/>
            <a:ext cx="74088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将本节课所学的单词抄写</a:t>
            </a:r>
            <a:r>
              <a:rPr b="1" lang="en-US" sz="4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预习下一课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2:46:11Z</dcterms:created>
  <dc:creator>莲山课件http://www.5ykj.com/</dc:creator>
  <dc:description>莲山课件http://www.5ykj.com/</dc:description>
  <cp:keywords>莲山课件http:/www.5ykj.com</cp:keywords>
  <dc:language>en-US</dc:language>
  <cp:lastModifiedBy>taoer</cp:lastModifiedBy>
  <dcterms:modified xsi:type="dcterms:W3CDTF">2014-01-03T07:11:26Z</dcterms:modified>
  <cp:revision>1</cp:revision>
  <dc:subject>莲山课件http://www.5ykj.com/</dc:subject>
  <dc:title>莲山课件http://www.5ykj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f000000000001024120</vt:lpwstr>
  </property>
</Properties>
</file>