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chimes.wav" ContentType="audio/x-wav"/>
  <Override PartName="/ppt/media/image6.jpeg" ContentType="image/jpeg"/>
  <Override PartName="/ppt/media/image11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12E-E1FD-4415-99A2-68F7F1E2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86F-C2F0-4748-88E5-B4D3DEDE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755-5565-47AC-ACC3-B7106EB0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A9E-546E-46F1-ACFD-38292F5C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430-6F6D-4AC2-B460-C512EC7D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11B-26BA-4424-9361-9BE34AC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823-6DFA-42E9-B4C1-9D1B11F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6F1-CEC1-4857-AD22-4B0397E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516-256B-4613-A4B1-0056021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4B2-F45D-4F89-882B-E36C181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602-DAA8-4F8F-8D55-AB6CD011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AD0-2E09-4DC8-AC2B-E03C9D2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6B1-3FF6-486A-A13C-CDB9C715C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257800" y="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华文行楷"/>
                <a:ea typeface="华文行楷"/>
              </a:rPr>
              <a:t>安徽省六安市长安小学   纪开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1557360"/>
            <a:ext cx="71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Unit2     How mu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2997360"/>
            <a:ext cx="49341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바탕"/>
              </a:rPr>
              <a:t>Words to learn</a:t>
            </a:r>
            <a:endParaRPr b="1" lang="en-US" sz="5400" spc="-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바탕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080" y="542592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皮球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444816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0240" y="5746680"/>
            <a:ext cx="619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风筝  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673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03240" y="5803920"/>
            <a:ext cx="579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玩具火车 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624720" cy="3719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624720" cy="604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3280" y="2637000"/>
            <a:ext cx="865080" cy="65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08360" y="2421000"/>
            <a:ext cx="1368360" cy="1879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56000" y="2420640"/>
            <a:ext cx="1224000" cy="9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2492280"/>
            <a:ext cx="1006200" cy="81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437000"/>
            <a:ext cx="1295280" cy="106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500280"/>
            <a:ext cx="1151280" cy="98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84360" y="4653000"/>
            <a:ext cx="1008000" cy="106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5805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30240" y="1440"/>
            <a:ext cx="9174240" cy="685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835280" y="1268280"/>
            <a:ext cx="56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6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欢迎指导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893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leven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twelve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thirteen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four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1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2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3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iftee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ixteen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eventeen   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6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7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ineteen     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9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260280"/>
            <a:ext cx="3311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会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00" y="909720"/>
            <a:ext cx="27367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ix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u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w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igh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9440" y="981000"/>
            <a:ext cx="2806560" cy="6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sevent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twen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el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fif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nine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692280"/>
            <a:ext cx="143964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3920" y="355680"/>
            <a:ext cx="370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1080" y="117360"/>
            <a:ext cx="38862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找朋友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" name=""/>
          <p:cNvSpPr/>
          <p:nvPr/>
        </p:nvSpPr>
        <p:spPr>
          <a:xfrm>
            <a:off x="-33480" y="4405320"/>
            <a:ext cx="2448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341360"/>
            <a:ext cx="216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40000" y="5373720"/>
            <a:ext cx="1800360" cy="10778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125800" y="2925360"/>
            <a:ext cx="1942920" cy="9349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8000" y="1846440"/>
            <a:ext cx="2160720" cy="3240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2708280"/>
            <a:ext cx="1944720" cy="136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16360" y="1412640"/>
            <a:ext cx="1584360" cy="316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45080" y="2636640"/>
            <a:ext cx="1657440" cy="388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1125360"/>
            <a:ext cx="158436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573360"/>
            <a:ext cx="1513080" cy="1513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5878440"/>
            <a:ext cx="1657440" cy="647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63640" y="1557360"/>
            <a:ext cx="52387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Twenty monkeys song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515772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玩具小汽车  ￥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19700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79640" y="5877000"/>
            <a:ext cx="56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布娃娃 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267156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705800" cy="5018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16080" y="5586480"/>
            <a:ext cx="56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玩具熊 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06600" y="5645160"/>
            <a:ext cx="60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玩具机器人  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00360" y="1841400"/>
            <a:ext cx="32288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5157720"/>
            <a:ext cx="63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玩具飞机  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37228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8-25T22:45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6000000000001024120</vt:lpwstr>
  </property>
  <property fmtid="{D5CDD505-2E9C-101B-9397-08002B2CF9AE}" pid="3" name="Version">
    <vt:r8>1</vt:r8>
  </property>
</Properties>
</file>