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138-97A0-44BB-8CCE-E032A957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137-9278-4380-A749-E25D9C51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08E-9244-4ED9-8C42-ADE0A540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CF1-2CA3-49AB-A752-02E03CB6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00A-E9C8-43ED-B332-22DAA3DB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9A6C-8BB8-4DD7-BCCA-AC0B8A40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3FA-A238-4ACD-827B-FBE83F34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168-BE09-4766-9E28-D46C04FA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09A-C29C-449D-A2C6-952AE0E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C5D-164F-4049-9F06-E92CD70E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4BEB-77C4-47BA-8934-F57BC91D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5D0B-AFA2-4DA1-BB1C-0CECCA0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AAC9-8276-4245-A1AC-E0510FAD9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.blog.163.com/photo/C2vEfGx9qqoiFdXw6leVfQ==/5367727805872949742.jpg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words"/>
          <p:cNvPicPr/>
          <p:nvPr/>
        </p:nvPicPr>
        <p:blipFill>
          <a:blip r:embed="rId2"/>
          <a:stretch/>
        </p:blipFill>
        <p:spPr>
          <a:xfrm>
            <a:off x="1403280" y="4941720"/>
            <a:ext cx="1619280" cy="104796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1763640" y="2103480"/>
            <a:ext cx="5399280" cy="1297080"/>
            <a:chOff x="1763640" y="2103480"/>
            <a:chExt cx="5399280" cy="1297080"/>
          </a:xfrm>
        </p:grpSpPr>
        <p:sp>
          <p:nvSpPr>
            <p:cNvPr id="43" name="Rectangle 5"/>
            <p:cNvSpPr/>
            <p:nvPr/>
          </p:nvSpPr>
          <p:spPr>
            <a:xfrm>
              <a:off x="1763640" y="2103480"/>
              <a:ext cx="5399280" cy="12970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  <a:effectLst>
              <a:outerShdw dist="40186" dir="4303641" blurRad="0" rotWithShape="0">
                <a:srgbClr val="b3b3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1987920" y="2309040"/>
              <a:ext cx="4950360" cy="93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40186" dir="4303641" blurRad="0" rotWithShape="0">
                <a:srgbClr val="b3b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Text Box 7"/>
          <p:cNvSpPr/>
          <p:nvPr/>
        </p:nvSpPr>
        <p:spPr>
          <a:xfrm>
            <a:off x="2844720" y="2165400"/>
            <a:ext cx="41752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华文细黑"/>
              </a:rPr>
              <a:t>Review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plag1"/>
          <p:cNvPicPr/>
          <p:nvPr/>
        </p:nvPicPr>
        <p:blipFill>
          <a:blip r:embed="rId3"/>
          <a:stretch/>
        </p:blipFill>
        <p:spPr>
          <a:xfrm>
            <a:off x="1979640" y="2305080"/>
            <a:ext cx="115236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1473120" y="3689280"/>
            <a:ext cx="6551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6600"/>
                </a:solidFill>
                <a:latin typeface="Arial"/>
              </a:rPr>
              <a:t>Words and expressions</a:t>
            </a:r>
            <a:endParaRPr b="1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755640" y="87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eck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the true sentenc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84360" y="1593720"/>
            <a:ext cx="7920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Jack’s father uses the computer every Friday n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Alice checks emails at hom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Mike likes playing computer gam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 Mike and his parents use their home comput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84360" y="873000"/>
            <a:ext cx="5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细黑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8276760" y="38257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82760" y="936720"/>
            <a:ext cx="2735280" cy="5545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bu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che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go 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mak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l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sh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talk 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search f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watc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work f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290760" y="936720"/>
            <a:ext cx="3095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ompan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ompu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Intern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ck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vel pla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1258920" y="1268280"/>
            <a:ext cx="2016000" cy="439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7"/>
          <p:cNvSpPr/>
          <p:nvPr/>
        </p:nvSpPr>
        <p:spPr>
          <a:xfrm>
            <a:off x="1706400" y="1871640"/>
            <a:ext cx="1641600" cy="1125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635120" y="2448000"/>
            <a:ext cx="1727280" cy="208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>
            <a:off x="1403280" y="3500280"/>
            <a:ext cx="1944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 flipV="1">
            <a:off x="1835280" y="2421000"/>
            <a:ext cx="1584360" cy="22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V="1">
            <a:off x="1692360" y="1844640"/>
            <a:ext cx="1655640" cy="22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 flipV="1">
            <a:off x="2556000" y="4005000"/>
            <a:ext cx="792000" cy="1152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1619280" y="2997360"/>
            <a:ext cx="1873080" cy="331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867280" y="1009800"/>
            <a:ext cx="5400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一家公司上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5924520" y="1584360"/>
            <a:ext cx="5416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共用一台电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937120" y="2160720"/>
            <a:ext cx="5043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顾客讲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5996160" y="2664000"/>
            <a:ext cx="4408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查邮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5996160" y="3240000"/>
            <a:ext cx="3760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玩游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5996160" y="3745080"/>
            <a:ext cx="332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搜索信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994360" y="4321080"/>
            <a:ext cx="404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6067440" y="4897440"/>
            <a:ext cx="520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看电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2"/>
          <p:cNvSpPr/>
          <p:nvPr/>
        </p:nvSpPr>
        <p:spPr>
          <a:xfrm flipV="1">
            <a:off x="2268360" y="1341360"/>
            <a:ext cx="1079640" cy="489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6067440" y="5472000"/>
            <a:ext cx="397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买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6067440" y="5977080"/>
            <a:ext cx="484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制定旅行计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 flipV="1">
            <a:off x="1763640" y="5157360"/>
            <a:ext cx="165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971640" y="520560"/>
            <a:ext cx="287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ch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4"/>
          <p:cNvSpPr/>
          <p:nvPr/>
        </p:nvSpPr>
        <p:spPr>
          <a:xfrm>
            <a:off x="541440" y="404640"/>
            <a:ext cx="5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细黑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24000" y="0"/>
            <a:ext cx="81342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Complete the passage with the correct form of the words from the box.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5280" y="826920"/>
            <a:ext cx="7632720" cy="137484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check   customer   information   Internet   movie   plan   search   send   share   ticket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44360" y="1668600"/>
            <a:ext cx="8999640" cy="52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You can use your computer to do lots of things on the (1) _______. You can (2) _______ for (3) __________ about things to do. Are you (4) ________ an evening at the cinema? What time does your (5) _____ start? You can (6)_____ on the Internet. What about shopping? Many (7) _________ buy books, clothes and many other things on the Internet. And do you want to visit friends or family? Many people buy train (8) ______ on the Internet. You can also (9)_____ emails or speak to friends. But remember to (10)_____ the computer with your parents!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979640" y="204156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Internet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867280" y="2060640"/>
            <a:ext cx="194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search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0" y="2473200"/>
            <a:ext cx="3024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information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34920" y="285264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planning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484360" y="333864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movie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6877080" y="3338640"/>
            <a:ext cx="13669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check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108000" y="414972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customers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36360" y="5445000"/>
            <a:ext cx="223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tickets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236000" y="5445000"/>
            <a:ext cx="122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send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26920" y="6289560"/>
            <a:ext cx="223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3333ff"/>
                </a:solidFill>
                <a:latin typeface="Times New Roman"/>
              </a:rPr>
              <a:t>share</a:t>
            </a:r>
            <a:endParaRPr b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34920" y="-20520"/>
            <a:ext cx="50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细黑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036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Have the computer and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come part of your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ow has computer changed our lif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4777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hink and discussion: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5918ae86249538ac66096e81"/>
          <p:cNvPicPr/>
          <p:nvPr/>
        </p:nvPicPr>
        <p:blipFill>
          <a:blip r:embed="rId2"/>
          <a:stretch/>
        </p:blipFill>
        <p:spPr>
          <a:xfrm>
            <a:off x="468360" y="3357720"/>
            <a:ext cx="2193840" cy="219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Picture 12" descr="03302896"/>
          <p:cNvPicPr/>
          <p:nvPr/>
        </p:nvPicPr>
        <p:blipFill>
          <a:blip r:embed="rId3"/>
          <a:stretch/>
        </p:blipFill>
        <p:spPr>
          <a:xfrm>
            <a:off x="6114960" y="3357720"/>
            <a:ext cx="2525760" cy="223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100429150149_research_446b"/>
          <p:cNvPicPr/>
          <p:nvPr/>
        </p:nvPicPr>
        <p:blipFill>
          <a:blip r:embed="rId4"/>
          <a:stretch/>
        </p:blipFill>
        <p:spPr>
          <a:xfrm>
            <a:off x="2773440" y="3357720"/>
            <a:ext cx="3240000" cy="2226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图片5"/>
          <p:cNvPicPr/>
          <p:nvPr/>
        </p:nvPicPr>
        <p:blipFill>
          <a:blip r:embed="rId5"/>
          <a:stretch/>
        </p:blipFill>
        <p:spPr>
          <a:xfrm>
            <a:off x="7380360" y="5707080"/>
            <a:ext cx="1692360" cy="1106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395280" y="1851120"/>
            <a:ext cx="853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swer the questions. Write them dow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24000" y="260676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 Does your father/mother use a computer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 What do you do on a computer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3 When do you use a computer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4 Do you play computer games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What games do you pla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2484360" y="722160"/>
            <a:ext cx="3740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cc"/>
                </a:solidFill>
                <a:latin typeface="Arial"/>
              </a:rPr>
              <a:t>Writing</a:t>
            </a:r>
            <a:endParaRPr b="1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4" descr="write"/>
          <p:cNvPicPr/>
          <p:nvPr/>
        </p:nvPicPr>
        <p:blipFill>
          <a:blip r:embed="rId2"/>
          <a:stretch/>
        </p:blipFill>
        <p:spPr>
          <a:xfrm>
            <a:off x="5796000" y="260280"/>
            <a:ext cx="139536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tarsila_do_amaral11-hp"/>
          <p:cNvPicPr/>
          <p:nvPr/>
        </p:nvPicPr>
        <p:blipFill>
          <a:blip r:embed="rId3"/>
          <a:stretch/>
        </p:blipFill>
        <p:spPr>
          <a:xfrm>
            <a:off x="3851280" y="6165720"/>
            <a:ext cx="338472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tarsila_do_amaral11-hp"/>
          <p:cNvPicPr/>
          <p:nvPr/>
        </p:nvPicPr>
        <p:blipFill>
          <a:blip r:embed="rId4"/>
          <a:stretch/>
        </p:blipFill>
        <p:spPr>
          <a:xfrm>
            <a:off x="0" y="6165720"/>
            <a:ext cx="3995640" cy="69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13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9933ff"/>
                </a:solidFill>
                <a:latin typeface="Times New Roman"/>
              </a:rPr>
              <a:t>一、根据句意及首字母提示完成单词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558440"/>
            <a:ext cx="88200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Do your homework quickly. Your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acher is coming to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I’m a teacher. I use m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for m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I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music from the Interne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I usually play games on the Interne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 I do my homework o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People often travel b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or ship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holi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003640" y="213984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c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578560" y="26431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mpu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114560" y="37162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ste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692360" y="48751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meti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292720" y="5380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5" descr="1"/>
          <p:cNvPicPr/>
          <p:nvPr/>
        </p:nvPicPr>
        <p:blipFill>
          <a:blip r:embed="rId2"/>
          <a:stretch/>
        </p:blipFill>
        <p:spPr>
          <a:xfrm>
            <a:off x="1920960" y="0"/>
            <a:ext cx="2884320" cy="1052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9"/>
          <p:cNvSpPr/>
          <p:nvPr/>
        </p:nvSpPr>
        <p:spPr>
          <a:xfrm>
            <a:off x="2860560" y="201600"/>
            <a:ext cx="1656000" cy="693720"/>
          </a:xfrm>
          <a:prstGeom prst="rect">
            <a:avLst/>
          </a:prstGeom>
          <a:solidFill>
            <a:srgbClr val="00ff00"/>
          </a:solidFill>
          <a:ln w="540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Times New Roman"/>
              </a:rPr>
              <a:t>Quiz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92000" y="555120"/>
            <a:ext cx="3529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二、翻译短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38160" y="1276200"/>
            <a:ext cx="5688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电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送电子邮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查火车时刻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搜索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197080" y="1924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atch mov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341440" y="314784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nd emai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341440" y="43005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eck the times of trai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68360" y="559584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arch for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354400" y="1060560"/>
            <a:ext cx="4952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制定旅行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买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听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843280" y="17146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ke travel pla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843280" y="28670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go on the Interne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843280" y="40910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uy tick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843280" y="530856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isten to musi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6200" y="403200"/>
            <a:ext cx="73551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三、用所给动词的适当形式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7840" y="1052280"/>
            <a:ext cx="8281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Zhang Hua ___________ (not look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ke his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__________ (not swim) here, it’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ngerous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危险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is father is a worker and he 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ork) in a factor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She ____ (do) the homework eve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I ________ (not use) the Internet 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d emai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She __________ (not play) ga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348000" y="981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n’t loo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69840" y="198900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n’t swi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804000" y="3003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or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835280" y="4011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58920" y="4941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n’t us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762200" y="59500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n’t pl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611280" y="1670040"/>
            <a:ext cx="825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 the passage again and review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ew words and expressions;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rite down what you use compute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o (30-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897280" y="836640"/>
            <a:ext cx="2827080" cy="701640"/>
          </a:xfrm>
          <a:prstGeom prst="rect">
            <a:avLst/>
          </a:prstGeom>
          <a:solidFill>
            <a:srgbClr val="ff6600"/>
          </a:solidFill>
          <a:ln w="57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042920" y="4076640"/>
            <a:ext cx="6985080" cy="1245960"/>
          </a:xfrm>
          <a:prstGeom prst="rect">
            <a:avLst/>
          </a:prstGeom>
          <a:solidFill>
            <a:srgbClr val="99ccff">
              <a:alpha val="31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heck emails, go on the Internet, computer, search for, inform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95280" y="1989000"/>
            <a:ext cx="8569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00ff"/>
                </a:solidFill>
                <a:latin typeface="Arial Black"/>
              </a:rPr>
              <a:t>Read the words and expressions loudly.</a:t>
            </a:r>
            <a:endParaRPr b="1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53677278058729497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2000" y="3716280"/>
            <a:ext cx="2998800" cy="314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3167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ust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of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ra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4720" y="691920"/>
            <a:ext cx="3672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顾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澳大利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享；共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司；剧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特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检查；查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旅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1549440" y="-100080"/>
            <a:ext cx="6119640" cy="972720"/>
            <a:chOff x="1549440" y="-100080"/>
            <a:chExt cx="6119640" cy="972720"/>
          </a:xfrm>
        </p:grpSpPr>
        <p:pic>
          <p:nvPicPr>
            <p:cNvPr id="53" name="Picture 11" descr="图片1gsg"/>
            <p:cNvPicPr/>
            <p:nvPr/>
          </p:nvPicPr>
          <p:blipFill>
            <a:blip r:embed="rId2"/>
            <a:stretch/>
          </p:blipFill>
          <p:spPr>
            <a:xfrm>
              <a:off x="1549440" y="-100080"/>
              <a:ext cx="6119640" cy="9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2"/>
            <p:cNvSpPr/>
            <p:nvPr/>
          </p:nvSpPr>
          <p:spPr>
            <a:xfrm>
              <a:off x="1884240" y="46080"/>
              <a:ext cx="470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ords and expression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9640" y="907920"/>
            <a:ext cx="267480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t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mov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earch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e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87280" y="907920"/>
            <a:ext cx="4932360" cy="58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；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夜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搜寻；搜索；搜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搜寻；查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子邮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1476360" y="30240"/>
            <a:ext cx="6120000" cy="950760"/>
            <a:chOff x="1476360" y="30240"/>
            <a:chExt cx="6120000" cy="950760"/>
          </a:xfrm>
        </p:grpSpPr>
        <p:pic>
          <p:nvPicPr>
            <p:cNvPr id="58" name="Picture 8" descr="图片1gsg"/>
            <p:cNvPicPr/>
            <p:nvPr/>
          </p:nvPicPr>
          <p:blipFill>
            <a:blip r:embed="rId2"/>
            <a:stretch/>
          </p:blipFill>
          <p:spPr>
            <a:xfrm>
              <a:off x="1476360" y="30240"/>
              <a:ext cx="61200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9"/>
            <p:cNvSpPr/>
            <p:nvPr/>
          </p:nvSpPr>
          <p:spPr>
            <a:xfrm>
              <a:off x="1811880" y="173160"/>
              <a:ext cx="470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ords and expression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0720" y="1628280"/>
            <a:ext cx="2951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ome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in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vi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360" y="1628640"/>
            <a:ext cx="4716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d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时候；不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电影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衣服（总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探望；参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假日；节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476360" y="547560"/>
            <a:ext cx="6120000" cy="950760"/>
            <a:chOff x="1476360" y="547560"/>
            <a:chExt cx="6120000" cy="950760"/>
          </a:xfrm>
        </p:grpSpPr>
        <p:pic>
          <p:nvPicPr>
            <p:cNvPr id="63" name="Picture 5" descr="图片1gsg"/>
            <p:cNvPicPr/>
            <p:nvPr/>
          </p:nvPicPr>
          <p:blipFill>
            <a:blip r:embed="rId2"/>
            <a:stretch/>
          </p:blipFill>
          <p:spPr>
            <a:xfrm>
              <a:off x="1476360" y="547560"/>
              <a:ext cx="612000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6"/>
            <p:cNvSpPr/>
            <p:nvPr/>
          </p:nvSpPr>
          <p:spPr>
            <a:xfrm>
              <a:off x="1811880" y="690480"/>
              <a:ext cx="470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Words and expressions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50920" y="1652760"/>
            <a:ext cx="860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Who can use the computer on Sunda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Who shares a computer with his father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 Who has a friend in Australia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765000"/>
            <a:ext cx="59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, read and answ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55640" y="24271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k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84360" y="4149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Jack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84360" y="5661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lic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82520" y="771480"/>
            <a:ext cx="5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细黑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0" descr="5a6ac630c536d7e3d61ac8727c1740b5"/>
          <p:cNvPicPr/>
          <p:nvPr/>
        </p:nvPicPr>
        <p:blipFill>
          <a:blip r:embed="rId2"/>
          <a:srcRect l="0" t="0" r="-137" b="-519"/>
          <a:stretch/>
        </p:blipFill>
        <p:spPr>
          <a:xfrm>
            <a:off x="6732720" y="692280"/>
            <a:ext cx="863640" cy="80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9280" y="1224000"/>
            <a:ext cx="88203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is a computer in my home, and my father and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我家里有一台电脑，我和爸爸共用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a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动词，意为“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共用，分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。若要表示“和某人分享某物”，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a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面直接跟表事物或情感的名词作宾语，常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are sth with s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ack ofte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ar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 apples with his sister.  I really want 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ar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y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appines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快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with you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teacher"/>
          <p:cNvPicPr/>
          <p:nvPr/>
        </p:nvPicPr>
        <p:blipFill>
          <a:blip r:embed="rId2"/>
          <a:stretch/>
        </p:blipFill>
        <p:spPr>
          <a:xfrm>
            <a:off x="1116000" y="189000"/>
            <a:ext cx="790560" cy="936360"/>
          </a:xfrm>
          <a:prstGeom prst="rect">
            <a:avLst/>
          </a:prstGeom>
          <a:ln w="0">
            <a:noFill/>
          </a:ln>
        </p:spPr>
      </p:pic>
      <p:sp>
        <p:nvSpPr>
          <p:cNvPr id="74" name="WordArt 4"/>
          <p:cNvSpPr txBox="1"/>
          <p:nvPr/>
        </p:nvSpPr>
        <p:spPr>
          <a:xfrm>
            <a:off x="1908000" y="365040"/>
            <a:ext cx="56898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Language points</a:t>
            </a:r>
            <a:endParaRPr b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0920" y="907920"/>
            <a:ext cx="8675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the Internet, I search f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form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do my homework and check my email.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因特网上我搜索信息，做作业，检查邮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form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不可数名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zh-CN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消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情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知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见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 的意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没有复数形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you give me an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form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n this matter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关于此事，你能给我提供什么消息吗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9640" y="260280"/>
            <a:ext cx="835344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sometim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play a lot of games and my mother doesn’t like 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有时我玩太多游戏，妈妈就讨厌它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副词，意为“有时候，有时”，表示频率，常和一般现在时连用。它常位于行为动词之前，系动词、情态动词或助动词之后。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da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im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to the park with her parents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sometim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以位于句首或句末。如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tim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ary does her homework at school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9:58:47Z</dcterms:created>
  <dc:creator/>
  <dc:description/>
  <cp:keywords/>
  <dc:language>en-US</dc:language>
  <cp:lastModifiedBy>微软用户</cp:lastModifiedBy>
  <dcterms:modified xsi:type="dcterms:W3CDTF">2013-01-14T07:34:49Z</dcterms:modified>
  <cp:revision>39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a000000000001024120</vt:lpwstr>
  </property>
</Properties>
</file>