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1E8-518F-493E-BAE8-0A0E4E73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1D3-A4DD-45D5-9F1A-A5EA3706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659-0CC4-498F-AE45-FFC26346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A84-0BC9-41C0-8686-94106D05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AF8-64D4-492D-8624-4D90024C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0D9-B0B5-46B5-8765-10CE20F7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5D1-95E3-48BA-B09F-9541974A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82D-BCD7-4B92-B320-0DEC2D1F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8FE-8DA3-47F2-837E-93099655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86B-8AA8-448C-A195-B1947C4B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922-6F36-4A24-B76F-292E05C7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92B-837E-4863-8704-4105ED11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9C76-225F-4387-B15E-0BC160F11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6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270828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4    Dinner tim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35344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2924280" cy="1114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26920" y="692280"/>
            <a:ext cx="275292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55640" y="3716280"/>
            <a:ext cx="2933640" cy="11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716360" y="620640"/>
            <a:ext cx="3076560" cy="6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003640" y="1773360"/>
            <a:ext cx="2714760" cy="637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859280" y="2997360"/>
            <a:ext cx="302904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859280" y="4292640"/>
            <a:ext cx="283860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63640" y="692280"/>
            <a:ext cx="287280" cy="43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268280"/>
            <a:ext cx="28728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2205000"/>
            <a:ext cx="28728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2708280"/>
            <a:ext cx="28728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3716280"/>
            <a:ext cx="50328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292640"/>
            <a:ext cx="50328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5640" y="765000"/>
            <a:ext cx="360360" cy="3603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1916280"/>
            <a:ext cx="360360" cy="3603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580000" y="3141000"/>
            <a:ext cx="360360" cy="3603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4437000"/>
            <a:ext cx="360360" cy="2890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8425080" cy="5249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7964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600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4072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4248360" cy="324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692360" y="4221000"/>
            <a:ext cx="5476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This is the living room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724280"/>
            <a:ext cx="2519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4105440" cy="3311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92360" y="4221000"/>
            <a:ext cx="5476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This is the bedroom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4797360"/>
            <a:ext cx="20145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716360" cy="378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692360" y="4221000"/>
            <a:ext cx="5476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This is the bathroom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4724280"/>
            <a:ext cx="2376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176720" cy="3395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692360" y="4221000"/>
            <a:ext cx="5476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This is the kitchen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4724280"/>
            <a:ext cx="20145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5T02:52:33Z</dcterms:modified>
  <cp:revision>12</cp:revision>
  <dc:subject/>
  <dc:title>幻灯片 1</dc:title>
</cp:coreProperties>
</file>