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9CA-B1A7-4BB6-A711-FA23DE0C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7B7-1970-412B-9510-6898249D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ED9-43F9-4DCA-9DD2-11335184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CFB-F5C6-4E7B-A61C-B4466EA2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F3B-7BB9-49F6-9572-2AFE2E0B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D089-9054-4A4C-B0E2-62EAC2C6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ABF-E037-4E48-B9BA-3B791F91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B01C-EEE7-4D4F-8AAA-4AB17786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003-CCFC-4ABC-8812-8F81AFB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0322-642E-4551-8F6E-F68BCF3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CEE3-FFBE-41E9-B692-303E44A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471-B989-4E07-9513-39B052C5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C653-67C4-486E-9BFB-C165015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3F5-1937-467B-8356-C0DBC21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C9C1-DE39-4379-BB85-9F4A011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62B-6CD2-4459-9E92-E185B1C5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0CB0-5CF4-4806-BBE8-D5893380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D27-13C2-4A3D-A320-B39C049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2EF-31A4-49D5-8679-16E7B6B1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A65-8670-48B4-A07D-7F5EF9A5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7D5-1101-4991-924B-B6FA3560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B7E-F14E-4D22-96DC-1061ECD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E14-17D4-4F46-949B-D1F379A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6D6-4798-4489-8A6D-70034DD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5A12-6800-4324-B05F-31C884F1C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3F7-51BE-49FB-A92B-4D5BD3E6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Unit 8   Shap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5"/>
          <p:cNvSpPr/>
          <p:nvPr/>
        </p:nvSpPr>
        <p:spPr>
          <a:xfrm>
            <a:off x="2057400" y="533520"/>
            <a:ext cx="4800600" cy="3886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981080" y="518148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   triang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G0S%DQH1VTVSD{VR90K@_L6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 rot="1882200">
            <a:off x="2514240" y="487656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 rot="1882200">
            <a:off x="3809520" y="548604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 rot="1882200">
            <a:off x="3352320" y="525744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882200">
            <a:off x="2895120" y="502884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 rot="19390200">
            <a:off x="4343040" y="533376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 rot="21135000">
            <a:off x="5562720" y="40381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57200" y="152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001233_3"/>
          <p:cNvPicPr/>
          <p:nvPr/>
        </p:nvPicPr>
        <p:blipFill>
          <a:blip r:embed="rId1"/>
          <a:stretch/>
        </p:blipFill>
        <p:spPr>
          <a:xfrm>
            <a:off x="2438280" y="1905120"/>
            <a:ext cx="3291120" cy="2898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838080" y="52578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 a 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triang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DSC01325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38080" y="52578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 a 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triang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huangYiShiShangSanJiaoXingKaTongRongBu_LvSeKaoDian_BaoZhenKaoZhen_WanJu_8607199433"/>
          <p:cNvPicPr/>
          <p:nvPr/>
        </p:nvPicPr>
        <p:blipFill>
          <a:blip r:embed="rId1"/>
          <a:stretch/>
        </p:blipFill>
        <p:spPr>
          <a:xfrm>
            <a:off x="1905120" y="1447920"/>
            <a:ext cx="4443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1676520" y="4800600"/>
            <a:ext cx="6324480" cy="1828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1236861243643e449az6r7m_medium"/>
          <p:cNvPicPr/>
          <p:nvPr/>
        </p:nvPicPr>
        <p:blipFill>
          <a:blip r:embed="rId1"/>
          <a:stretch/>
        </p:blipFill>
        <p:spPr>
          <a:xfrm>
            <a:off x="1905120" y="0"/>
            <a:ext cx="5095800" cy="4406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952880" y="518148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057400" y="51814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886200" y="51814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r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048120" y="51814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ec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2286000" y="2819520"/>
            <a:ext cx="396252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33520" y="3352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514600" y="3352680"/>
            <a:ext cx="4419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tang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523880" y="1600200"/>
            <a:ext cx="6172200" cy="2971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52480" y="51055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rectang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7822590_102843636140_2"/>
          <p:cNvPicPr/>
          <p:nvPr/>
        </p:nvPicPr>
        <p:blipFill>
          <a:blip r:embed="rId1"/>
          <a:srcRect l="11718" t="0" r="11718" b="9006"/>
          <a:stretch/>
        </p:blipFill>
        <p:spPr>
          <a:xfrm>
            <a:off x="838080" y="176040"/>
            <a:ext cx="7467840" cy="5919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447920" y="1295280"/>
            <a:ext cx="6324480" cy="38102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828800" y="24382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rectang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457200" y="2286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300_12731377923XHN"/>
          <p:cNvPicPr/>
          <p:nvPr/>
        </p:nvPicPr>
        <p:blipFill>
          <a:blip r:embed="rId1"/>
          <a:srcRect l="0" t="20137" r="0" b="20137"/>
          <a:stretch/>
        </p:blipFill>
        <p:spPr>
          <a:xfrm>
            <a:off x="1295280" y="2209680"/>
            <a:ext cx="6953400" cy="3114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438280" y="2743200"/>
            <a:ext cx="4800600" cy="22096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838080" y="55627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 a 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rectang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G0S%DQH1VTVSD{VR90K@_L6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1828800" y="3505320"/>
            <a:ext cx="380880" cy="380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1523880" y="1523880"/>
            <a:ext cx="6705720" cy="685800"/>
          </a:xfrm>
          <a:prstGeom prst="wedgeRoundRectCallout">
            <a:avLst>
              <a:gd name="adj1" fmla="val -47726"/>
              <a:gd name="adj2" fmla="val 11759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shape is it , Mock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276720" y="2438280"/>
            <a:ext cx="2057400" cy="762120"/>
          </a:xfrm>
          <a:prstGeom prst="wedgeRoundRectCallout">
            <a:avLst>
              <a:gd name="adj1" fmla="val -62037"/>
              <a:gd name="adj2" fmla="val 61458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2971800" y="3429000"/>
            <a:ext cx="3505320" cy="838080"/>
          </a:xfrm>
          <a:prstGeom prst="wedgeRectCallout">
            <a:avLst>
              <a:gd name="adj1" fmla="val 61412"/>
              <a:gd name="adj2" fmla="val -56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 a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581280" y="4495680"/>
            <a:ext cx="2590920" cy="19814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895480" y="1219320"/>
            <a:ext cx="3353040" cy="3352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209680" y="5105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squ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2895480" y="1219320"/>
            <a:ext cx="33530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2895480" y="4572000"/>
            <a:ext cx="33530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2895480" y="1219320"/>
            <a:ext cx="0" cy="3352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6248520" y="1218960"/>
            <a:ext cx="0" cy="3352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380880" y="2286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G0S%DQH1VTVSD{VR90K@_L6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 rot="2211600">
            <a:off x="2285640" y="5181480"/>
            <a:ext cx="3049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 rot="2211600">
            <a:off x="3123720" y="5562720"/>
            <a:ext cx="304920" cy="304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 rot="2211600">
            <a:off x="3580920" y="5791320"/>
            <a:ext cx="304920" cy="304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 rot="2211600">
            <a:off x="4419360" y="4038480"/>
            <a:ext cx="30456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 rot="2211600">
            <a:off x="4952520" y="4724280"/>
            <a:ext cx="3049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 rot="2211600">
            <a:off x="5333760" y="5638680"/>
            <a:ext cx="30456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p1s1XXb3XcXrTU4E"/>
          <p:cNvPicPr/>
          <p:nvPr/>
        </p:nvPicPr>
        <p:blipFill>
          <a:blip r:embed="rId1"/>
          <a:stretch/>
        </p:blipFill>
        <p:spPr>
          <a:xfrm>
            <a:off x="1981080" y="1066680"/>
            <a:ext cx="4829400" cy="4829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2438280" y="1523880"/>
            <a:ext cx="3886200" cy="38862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85800" y="57150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 a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quar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620_small_jo02"/>
          <p:cNvPicPr/>
          <p:nvPr/>
        </p:nvPicPr>
        <p:blipFill>
          <a:blip r:embed="rId1"/>
          <a:stretch/>
        </p:blipFill>
        <p:spPr>
          <a:xfrm>
            <a:off x="2666880" y="1219320"/>
            <a:ext cx="3713400" cy="4833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352680" y="2438280"/>
            <a:ext cx="2286000" cy="2286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W020091001322966751177"/>
          <p:cNvPicPr/>
          <p:nvPr/>
        </p:nvPicPr>
        <p:blipFill>
          <a:blip r:embed="rId1"/>
          <a:stretch/>
        </p:blipFill>
        <p:spPr>
          <a:xfrm>
            <a:off x="1219320" y="1371600"/>
            <a:ext cx="6972120" cy="5229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6680" y="2278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iananmen </a:t>
            </a:r>
            <a:r>
              <a:rPr b="0" lang="en-US" sz="6000" spc="-1" strike="noStrike" u="sng">
                <a:solidFill>
                  <a:srgbClr val="ff00ff"/>
                </a:solidFill>
                <a:uFillTx/>
                <a:latin typeface="Arial"/>
              </a:rPr>
              <a:t>Squar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2362320" y="2743200"/>
            <a:ext cx="2514600" cy="25146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 u="sng">
                <a:solidFill>
                  <a:srgbClr val="bbe0e3"/>
                </a:solidFill>
                <a:uFillTx/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3520" y="3352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514600" y="33526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circ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6485973_155835365196_2"/>
          <p:cNvPicPr/>
          <p:nvPr/>
        </p:nvPicPr>
        <p:blipFill>
          <a:blip r:embed="rId1"/>
          <a:stretch/>
        </p:blipFill>
        <p:spPr>
          <a:xfrm>
            <a:off x="1828800" y="15238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743200" y="3276720"/>
            <a:ext cx="3124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circ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ee187d1e6d89dae31ad576e0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Oval 6"/>
          <p:cNvSpPr/>
          <p:nvPr/>
        </p:nvSpPr>
        <p:spPr>
          <a:xfrm>
            <a:off x="2133720" y="990720"/>
            <a:ext cx="5029200" cy="4876560"/>
          </a:xfrm>
          <a:prstGeom prst="ellipse">
            <a:avLst/>
          </a:prstGeom>
          <a:noFill/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124080" y="2514600"/>
            <a:ext cx="3124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circ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6590936_151928064174_2"/>
          <p:cNvPicPr/>
          <p:nvPr/>
        </p:nvPicPr>
        <p:blipFill>
          <a:blip r:embed="rId1"/>
          <a:stretch/>
        </p:blipFill>
        <p:spPr>
          <a:xfrm>
            <a:off x="2362320" y="1523880"/>
            <a:ext cx="410976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 u="sng">
                <a:solidFill>
                  <a:srgbClr val="bbe0e3"/>
                </a:solidFill>
                <a:uFillTx/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2438280" y="1600200"/>
            <a:ext cx="4038840" cy="4038480"/>
          </a:xfrm>
          <a:prstGeom prst="ellipse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62120" y="571500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a  circl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209680" y="2057400"/>
            <a:ext cx="3886200" cy="388620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514600" y="2286000"/>
            <a:ext cx="3429000" cy="3032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2362320" y="990720"/>
            <a:ext cx="4343400" cy="358128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90920" y="50292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   hea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2133720" y="380880"/>
            <a:ext cx="5257800" cy="4648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124080" y="51814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a  star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G0S%DQH1VTVSD{VR90K@_L6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 rot="3813600">
            <a:off x="4744440" y="4231800"/>
            <a:ext cx="457200" cy="381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 rot="2181600">
            <a:off x="5790960" y="4724280"/>
            <a:ext cx="457200" cy="3812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 rot="2463000">
            <a:off x="5714640" y="5791320"/>
            <a:ext cx="609480" cy="457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434367_142833347322_2"/>
          <p:cNvPicPr/>
          <p:nvPr/>
        </p:nvPicPr>
        <p:blipFill>
          <a:blip r:embed="rId1"/>
          <a:stretch/>
        </p:blipFill>
        <p:spPr>
          <a:xfrm>
            <a:off x="2057400" y="1752480"/>
            <a:ext cx="4495680" cy="42022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1384561_095332283000_2"/>
          <p:cNvPicPr/>
          <p:nvPr/>
        </p:nvPicPr>
        <p:blipFill>
          <a:blip r:embed="rId1"/>
          <a:srcRect l="0" t="0" r="17022" b="3583"/>
          <a:stretch/>
        </p:blipFill>
        <p:spPr>
          <a:xfrm>
            <a:off x="1600200" y="1523880"/>
            <a:ext cx="5181480" cy="3986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57200" y="5638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’s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  star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2531170_145805641568_2"/>
          <p:cNvPicPr/>
          <p:nvPr/>
        </p:nvPicPr>
        <p:blipFill>
          <a:blip r:embed="rId1"/>
          <a:stretch/>
        </p:blipFill>
        <p:spPr>
          <a:xfrm>
            <a:off x="1905120" y="228600"/>
            <a:ext cx="510516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1676520" y="518148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nine 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star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Oval 4"/>
          <p:cNvSpPr/>
          <p:nvPr/>
        </p:nvSpPr>
        <p:spPr>
          <a:xfrm>
            <a:off x="533520" y="838080"/>
            <a:ext cx="2209680" cy="221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352680" y="1066680"/>
            <a:ext cx="3200400" cy="1676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934320" y="990720"/>
            <a:ext cx="1981080" cy="1981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8600" y="3809880"/>
            <a:ext cx="2895480" cy="2752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2819520" y="3886200"/>
            <a:ext cx="3809880" cy="25146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6400800" y="4114800"/>
            <a:ext cx="2514600" cy="2193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914400" y="46483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s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705720" y="44197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09480" y="13716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708660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352680" y="14479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ctang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733920" y="5334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2860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45720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ook and compl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 flipH="1" flipV="1">
            <a:off x="456840" y="1905120"/>
            <a:ext cx="838080" cy="83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1447920" y="1905120"/>
            <a:ext cx="990360" cy="822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 flipH="1" flipV="1">
            <a:off x="3733920" y="1905120"/>
            <a:ext cx="838080" cy="83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666880" y="1905120"/>
            <a:ext cx="990720" cy="822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4724280" y="1905120"/>
            <a:ext cx="990720" cy="822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5867280" y="1905120"/>
            <a:ext cx="990720" cy="822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 flipH="1" flipV="1">
            <a:off x="7009560" y="1905120"/>
            <a:ext cx="838440" cy="838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457200" y="3124080"/>
            <a:ext cx="1066680" cy="914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590920" y="304812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47920" y="3124080"/>
            <a:ext cx="1066680" cy="914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3581280" y="3048120"/>
            <a:ext cx="1067040" cy="914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6019920" y="304812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4800600" y="3048120"/>
            <a:ext cx="1066680" cy="914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6934320" y="3048120"/>
            <a:ext cx="1066680" cy="914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33520" y="4572000"/>
            <a:ext cx="99036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828800" y="4495680"/>
            <a:ext cx="6858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2819520" y="4572000"/>
            <a:ext cx="99036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2"/>
          <p:cNvSpPr/>
          <p:nvPr/>
        </p:nvSpPr>
        <p:spPr>
          <a:xfrm>
            <a:off x="3962520" y="4343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4952880" y="4495680"/>
            <a:ext cx="990720" cy="609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6172200" y="4495680"/>
            <a:ext cx="6858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7162920" y="4572000"/>
            <a:ext cx="99036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7010280" y="1447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7010280" y="25909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934320" y="41911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4"/>
          <p:cNvSpPr/>
          <p:nvPr/>
        </p:nvSpPr>
        <p:spPr>
          <a:xfrm>
            <a:off x="380880" y="1295280"/>
            <a:ext cx="2210040" cy="22100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0400" y="1447920"/>
            <a:ext cx="3200400" cy="1676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52280" y="3733920"/>
            <a:ext cx="3810240" cy="2514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781680" y="1371600"/>
            <a:ext cx="1981440" cy="19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629400" y="4267080"/>
            <a:ext cx="2514600" cy="219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3733920" y="3733920"/>
            <a:ext cx="2895480" cy="27525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22860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What’s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Oval 2"/>
          <p:cNvSpPr/>
          <p:nvPr/>
        </p:nvSpPr>
        <p:spPr>
          <a:xfrm>
            <a:off x="1447920" y="4343400"/>
            <a:ext cx="2209680" cy="22096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14800" y="3962520"/>
            <a:ext cx="3809880" cy="2514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429000" y="1447920"/>
            <a:ext cx="1981080" cy="19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80880" y="1600200"/>
            <a:ext cx="2514600" cy="2193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6248520" y="914400"/>
            <a:ext cx="2895480" cy="27525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2860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What’s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2"/>
          <p:cNvSpPr/>
          <p:nvPr/>
        </p:nvSpPr>
        <p:spPr>
          <a:xfrm>
            <a:off x="4419720" y="1295280"/>
            <a:ext cx="2209680" cy="221004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762120" y="1143000"/>
            <a:ext cx="3809880" cy="2514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6248520" y="3657600"/>
            <a:ext cx="1981080" cy="19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2133720" y="3886200"/>
            <a:ext cx="2895480" cy="27525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22860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What’s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age10_ZQi9m8"/>
          <p:cNvPicPr/>
          <p:nvPr/>
        </p:nvPicPr>
        <p:blipFill>
          <a:blip r:embed="rId1"/>
          <a:srcRect l="5075" t="15201" r="6560" b="12801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1295280" y="2743200"/>
            <a:ext cx="281952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3505320" y="3733920"/>
            <a:ext cx="198108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257800" y="3276720"/>
            <a:ext cx="29718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2362320" y="4648320"/>
            <a:ext cx="457200" cy="304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 rot="1185000">
            <a:off x="3580920" y="5638680"/>
            <a:ext cx="30492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rot="1185000">
            <a:off x="3962160" y="5715000"/>
            <a:ext cx="30456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 rot="1185000">
            <a:off x="4419360" y="5867280"/>
            <a:ext cx="30456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 rot="19350000">
            <a:off x="5608800" y="5138280"/>
            <a:ext cx="380880" cy="40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 rot="17314200">
            <a:off x="5409360" y="6248880"/>
            <a:ext cx="380880" cy="40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 rot="21292200">
            <a:off x="4598640" y="5412960"/>
            <a:ext cx="282600" cy="244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 rot="21292200">
            <a:off x="4343040" y="5486040"/>
            <a:ext cx="282600" cy="244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3429000" y="5334120"/>
            <a:ext cx="30492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2"/>
          <p:cNvSpPr/>
          <p:nvPr/>
        </p:nvSpPr>
        <p:spPr>
          <a:xfrm>
            <a:off x="1447920" y="4343400"/>
            <a:ext cx="2209680" cy="220968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2209680" y="838080"/>
            <a:ext cx="3810240" cy="2514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715000" y="3124080"/>
            <a:ext cx="2895480" cy="275292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2860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What’s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2"/>
          <p:cNvSpPr/>
          <p:nvPr/>
        </p:nvSpPr>
        <p:spPr>
          <a:xfrm>
            <a:off x="2286000" y="685800"/>
            <a:ext cx="1752480" cy="175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"/>
          <p:cNvSpPr/>
          <p:nvPr/>
        </p:nvSpPr>
        <p:spPr>
          <a:xfrm>
            <a:off x="4800600" y="685800"/>
            <a:ext cx="1752480" cy="1752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666880" y="2438280"/>
            <a:ext cx="3429000" cy="34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5"/>
          <p:cNvSpPr/>
          <p:nvPr/>
        </p:nvSpPr>
        <p:spPr>
          <a:xfrm>
            <a:off x="1143000" y="4216320"/>
            <a:ext cx="1828800" cy="43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1295280" y="4952880"/>
            <a:ext cx="160020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7"/>
          <p:cNvSpPr/>
          <p:nvPr/>
        </p:nvSpPr>
        <p:spPr>
          <a:xfrm>
            <a:off x="5638680" y="4038480"/>
            <a:ext cx="16002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8"/>
          <p:cNvSpPr/>
          <p:nvPr/>
        </p:nvSpPr>
        <p:spPr>
          <a:xfrm>
            <a:off x="5638680" y="4851360"/>
            <a:ext cx="1752840" cy="330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4114800" y="434340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590920" y="990720"/>
            <a:ext cx="1218960" cy="1066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5105520" y="990720"/>
            <a:ext cx="1218960" cy="1066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3276720" y="34290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4495680" y="342900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4038480" y="5486400"/>
            <a:ext cx="914400" cy="762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5"/>
          <p:cNvSpPr/>
          <p:nvPr/>
        </p:nvSpPr>
        <p:spPr>
          <a:xfrm>
            <a:off x="3505320" y="34290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6"/>
          <p:cNvSpPr/>
          <p:nvPr/>
        </p:nvSpPr>
        <p:spPr>
          <a:xfrm>
            <a:off x="4724280" y="34290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page11_CTGEma"/>
          <p:cNvPicPr/>
          <p:nvPr/>
        </p:nvPicPr>
        <p:blipFill>
          <a:blip r:embed="rId1"/>
          <a:srcRect l="6857" t="8001" r="6285" b="1040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WordArt 6"/>
          <p:cNvSpPr txBox="1"/>
          <p:nvPr/>
        </p:nvSpPr>
        <p:spPr>
          <a:xfrm>
            <a:off x="8001000" y="0"/>
            <a:ext cx="685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11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page13_ue6nTG"/>
          <p:cNvPicPr/>
          <p:nvPr/>
        </p:nvPicPr>
        <p:blipFill>
          <a:blip r:embed="rId1"/>
          <a:srcRect l="6857" t="12000" r="7429" b="9600"/>
          <a:stretch/>
        </p:blipFill>
        <p:spPr>
          <a:xfrm>
            <a:off x="228600" y="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14300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mewor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990720" y="2286000"/>
            <a:ext cx="7543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课下，运用今天学习的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shape is 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t’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hear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a square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来询问和说明身边事物的形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比一比谁找出来的形状最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page12_urXUyz"/>
          <p:cNvPicPr/>
          <p:nvPr/>
        </p:nvPicPr>
        <p:blipFill>
          <a:blip r:embed="rId1"/>
          <a:srcRect l="0" t="8001" r="0" b="10401"/>
          <a:stretch/>
        </p:blipFill>
        <p:spPr>
          <a:xfrm>
            <a:off x="1143000" y="609480"/>
            <a:ext cx="6667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57200" y="152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inr_4o2ssplf1_310x308"/>
          <p:cNvPicPr/>
          <p:nvPr/>
        </p:nvPicPr>
        <p:blipFill>
          <a:blip r:embed="rId1"/>
          <a:stretch/>
        </p:blipFill>
        <p:spPr>
          <a:xfrm>
            <a:off x="2362320" y="1752480"/>
            <a:ext cx="399096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4fc4ab23c3aece07"/>
          <p:cNvPicPr/>
          <p:nvPr/>
        </p:nvPicPr>
        <p:blipFill>
          <a:blip r:embed="rId1"/>
          <a:stretch/>
        </p:blipFill>
        <p:spPr>
          <a:xfrm>
            <a:off x="2438280" y="5335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590920" y="5105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   hea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9e1e194900a3f7f"/>
          <p:cNvPicPr/>
          <p:nvPr/>
        </p:nvPicPr>
        <p:blipFill>
          <a:blip r:embed="rId1"/>
          <a:stretch/>
        </p:blipFill>
        <p:spPr>
          <a:xfrm>
            <a:off x="2438280" y="1676520"/>
            <a:ext cx="4400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G0S%DQH1VTVSD{VR90K@_L6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 rot="2144400">
            <a:off x="2514600" y="4800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7"/>
          <p:cNvSpPr/>
          <p:nvPr/>
        </p:nvSpPr>
        <p:spPr>
          <a:xfrm>
            <a:off x="1981080" y="1143000"/>
            <a:ext cx="4800600" cy="38862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7200" y="152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shap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is it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352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’s  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00400" y="33526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iangle     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oer</cp:lastModifiedBy>
  <dcterms:modified xsi:type="dcterms:W3CDTF">2014-01-04T03:03:2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