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473-BE4B-4357-8A4F-725580AC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669-43A0-404B-B88E-23C4E2A2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74D-5A3E-4C39-BD59-3FB52A2C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383-0076-4ED2-BA1E-A91FB8F3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9491-5FE0-4616-9E9D-B3661566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1243-7C91-41C1-A40C-16223ED8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92FD-4F15-4A9D-BAAB-00D6D46C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B2B5-0746-43BC-8134-F40853BC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F406-4000-4511-A4FC-F18918E6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8380-A6A2-492E-BC6C-EC9D0BDE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F67A-94DB-4263-ADB0-F134C84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DAD-F63E-4FF1-B6C8-3F66FCAA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A905-B08B-457E-A0BA-144BA290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C260-6BFD-42CD-AAB4-A58FDB08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1854-3AEC-48E3-BDBD-26F84BA1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4FE2-B1D3-46E8-81E6-1E4C838B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70FA-B504-41CD-80B4-A18E9E08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820-87E4-4158-9085-8C6E8058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4F9-7FF5-4FE3-B142-C1CF43A9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435-5A96-4662-8D59-68DF2698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A3C-883D-46A1-A463-F41A7547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738-4B6A-449D-9490-9518E6F8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F35-152C-4D6D-A363-C21113A0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66A-0CB0-440A-B108-45F97600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8542-CCF6-402B-B977-F67AB1ADAC7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FD2A-71E6-4805-AB22-29269A97A03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1.gif"/><Relationship Id="rId3" Type="http://schemas.openxmlformats.org/officeDocument/2006/relationships/image" Target="../media/image5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5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1.gif"/><Relationship Id="rId3" Type="http://schemas.openxmlformats.org/officeDocument/2006/relationships/image" Target="../media/image5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5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1.gif"/><Relationship Id="rId3" Type="http://schemas.openxmlformats.org/officeDocument/2006/relationships/image" Target="../media/image5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5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1.gif"/><Relationship Id="rId3" Type="http://schemas.openxmlformats.org/officeDocument/2006/relationships/image" Target="../media/image5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5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Unit4 Ann’s family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3284280"/>
            <a:ext cx="67676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-----Sound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let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016000" cy="1967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419640" y="765000"/>
            <a:ext cx="2016000" cy="1681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084720" y="836640"/>
            <a:ext cx="1600200" cy="1728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395280" y="3284640"/>
            <a:ext cx="2093760" cy="1820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419640" y="3284640"/>
            <a:ext cx="2016000" cy="1753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6227640" y="3213000"/>
            <a:ext cx="16416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016000" cy="1967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419640" y="765000"/>
            <a:ext cx="2016000" cy="1681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084720" y="836640"/>
            <a:ext cx="1600200" cy="172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95280" y="3284640"/>
            <a:ext cx="2093760" cy="182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3419640" y="3284640"/>
            <a:ext cx="2016000" cy="1753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6227640" y="3213000"/>
            <a:ext cx="16416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1900080" cy="2089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1873440" cy="1785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796000" y="83664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1943280" cy="1690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2340000" y="3213000"/>
            <a:ext cx="1663560" cy="1728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427640" y="3213000"/>
            <a:ext cx="1873080" cy="1629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6732720" y="3141720"/>
            <a:ext cx="17269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1900080" cy="2089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1873440" cy="1785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796000" y="83664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1943280" cy="1690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2340000" y="3284640"/>
            <a:ext cx="1663560" cy="1728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4427640" y="3284640"/>
            <a:ext cx="1873080" cy="1628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6732720" y="3213000"/>
            <a:ext cx="17269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1900080" cy="2089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1873440" cy="1785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796000" y="83664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1943280" cy="1690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2340000" y="3284640"/>
            <a:ext cx="1663560" cy="1728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4427640" y="3284640"/>
            <a:ext cx="1873080" cy="1628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6732720" y="3213000"/>
            <a:ext cx="17269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1900080" cy="2089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1873440" cy="1785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796000" y="83664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1943280" cy="1690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2340000" y="3284640"/>
            <a:ext cx="1663560" cy="1728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4427640" y="3284640"/>
            <a:ext cx="1873080" cy="1628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6732720" y="3284640"/>
            <a:ext cx="17269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41440" y="2901960"/>
            <a:ext cx="255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5440" y="4346640"/>
            <a:ext cx="30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top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3800" y="290196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ri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440" y="427356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3080" y="2982960"/>
            <a:ext cx="197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2438640" cy="2565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76720" y="105264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2376360" cy="2185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1584360" cy="1457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05800" y="3357720"/>
            <a:ext cx="20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5800" y="3284640"/>
            <a:ext cx="31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cock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9440" y="2276640"/>
            <a:ext cx="185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6160" y="5300640"/>
            <a:ext cx="13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00" y="3284640"/>
            <a:ext cx="326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cil bo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0" y="2349360"/>
            <a:ext cx="524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cil sharpe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4160" y="42926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2720" y="5373720"/>
            <a:ext cx="17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z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73440" y="42926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00" y="4292640"/>
            <a:ext cx="21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a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8520" y="4292640"/>
            <a:ext cx="13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6520" y="5300640"/>
            <a:ext cx="251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pp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3160" cy="2637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160440" y="549360"/>
            <a:ext cx="111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b800"/>
                </a:solidFill>
                <a:latin typeface="Comic Sans MS"/>
              </a:rPr>
              <a:t>q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2560" y="3152880"/>
            <a:ext cx="300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21440" y="3117960"/>
            <a:ext cx="204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il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02000" cy="2300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979360" y="0"/>
            <a:ext cx="102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ff3300"/>
                </a:solidFill>
                <a:latin typeface="Comic Sans MS"/>
              </a:rPr>
              <a:t>r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5440" y="227664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b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61080" y="458136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00" y="357336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5440" y="458136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1800" y="4581360"/>
            <a:ext cx="14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01800" y="3573360"/>
            <a:ext cx="191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9800" y="357336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l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53080" y="357336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00" y="2349360"/>
            <a:ext cx="331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ctan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2349360"/>
            <a:ext cx="191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08720" y="4581360"/>
            <a:ext cx="107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r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85440" y="5589720"/>
            <a:ext cx="255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os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1800360" cy="1654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940360" y="765000"/>
            <a:ext cx="1656000" cy="1633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755640" y="3357720"/>
            <a:ext cx="1871640" cy="1645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492360" y="3284640"/>
            <a:ext cx="1727280" cy="1608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6012000" y="3284640"/>
            <a:ext cx="18000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1800360" cy="165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867280" y="765000"/>
            <a:ext cx="1656000" cy="1633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755640" y="3357720"/>
            <a:ext cx="1871640" cy="1645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492360" y="3284640"/>
            <a:ext cx="1727280" cy="1608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6012000" y="3284640"/>
            <a:ext cx="18000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1800360" cy="1654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796000" y="765000"/>
            <a:ext cx="1655640" cy="1633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755640" y="3357720"/>
            <a:ext cx="1871640" cy="1645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3492360" y="3284640"/>
            <a:ext cx="1727280" cy="1608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6012000" y="3284640"/>
            <a:ext cx="18000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016000" cy="196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419640" y="765000"/>
            <a:ext cx="2016000" cy="1681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084720" y="836640"/>
            <a:ext cx="1600200" cy="1728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95280" y="3284640"/>
            <a:ext cx="2093760" cy="1820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419640" y="3284640"/>
            <a:ext cx="2016000" cy="1753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6227640" y="3213000"/>
            <a:ext cx="16416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2:09:15Z</dcterms:created>
  <dc:creator>Administrators</dc:creator>
  <dc:description/>
  <dc:language>en-US</dc:language>
  <cp:lastModifiedBy>Administrators</cp:lastModifiedBy>
  <dcterms:modified xsi:type="dcterms:W3CDTF">2006-11-30T01:51:09Z</dcterms:modified>
  <cp:revision>15</cp:revision>
  <dc:subject/>
  <dc:title>Unit4 Ann’s family</dc:title>
</cp:coreProperties>
</file>