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5.gif" ContentType="image/gif"/>
  <Override PartName="/ppt/media/image7.jpeg" ContentType="image/jpeg"/>
  <Override PartName="/ppt/media/image46.gif" ContentType="image/gif"/>
  <Override PartName="/ppt/media/image22.jpeg" ContentType="image/jpeg"/>
  <Override PartName="/ppt/media/image1.jpeg" ContentType="image/jpeg"/>
  <Override PartName="/ppt/media/image54.gif" ContentType="image/gif"/>
  <Override PartName="/ppt/media/image27.gif" ContentType="image/gif"/>
  <Override PartName="/ppt/media/image24.jpeg" ContentType="image/jpeg"/>
  <Override PartName="/ppt/media/image14.jpeg" ContentType="image/jpeg"/>
  <Override PartName="/ppt/media/image28.gif" ContentType="image/gif"/>
  <Override PartName="/ppt/media/image39.gif" ContentType="image/gif"/>
  <Override PartName="/ppt/media/image16.jpeg" ContentType="image/jpeg"/>
  <Override PartName="/ppt/media/image49.gif" ContentType="image/gif"/>
  <Override PartName="/ppt/media/image17.jpeg" ContentType="image/jpeg"/>
  <Override PartName="/ppt/media/image59.gif" ContentType="image/gif"/>
  <Override PartName="/ppt/media/image18.jpeg" ContentType="image/jpeg"/>
  <Override PartName="/ppt/media/image60.gif" ContentType="image/gif"/>
  <Override PartName="/ppt/media/image29.gif" ContentType="image/gif"/>
  <Override PartName="/ppt/media/image15.jpeg" ContentType="image/jpeg"/>
  <Override PartName="/ppt/media/image20.jpeg" ContentType="image/jpeg"/>
  <Override PartName="/ppt/media/image26.gif" ContentType="image/gif"/>
  <Override PartName="/ppt/media/image23.jpeg" ContentType="image/jpeg"/>
  <Override PartName="/ppt/media/image56.gif" ContentType="image/gif"/>
  <Override PartName="/ppt/media/image32.gif" ContentType="image/gif"/>
  <Override PartName="/ppt/media/image19.jpeg" ContentType="image/jpeg"/>
  <Override PartName="/ppt/media/image25.png" ContentType="image/png"/>
  <Override PartName="/ppt/media/image2.gif" ContentType="image/gif"/>
  <Override PartName="/ppt/media/image21.jpeg" ContentType="image/jpeg"/>
  <Override PartName="/ppt/media/image36.gif" ContentType="image/gif"/>
  <Override PartName="/ppt/media/image12.jpeg" ContentType="image/jpeg"/>
  <Override PartName="/ppt/media/image41.gif" ContentType="image/gif"/>
  <Override PartName="/ppt/media/image3.gif" ContentType="image/gif"/>
  <Override PartName="/ppt/media/image5.jpeg" ContentType="image/jpeg"/>
  <Override PartName="/ppt/media/image6.jpeg" ContentType="image/jpeg"/>
  <Override PartName="/ppt/media/image58.gif" ContentType="image/gif"/>
  <Override PartName="/ppt/media/image57.gif" ContentType="image/gif"/>
  <Override PartName="/ppt/media/image10.jpeg" ContentType="image/jpeg"/>
  <Override PartName="/ppt/media/image8.jpeg" ContentType="image/jpeg"/>
  <Override PartName="/ppt/media/image45.gif" ContentType="image/gif"/>
  <Override PartName="/ppt/media/image13.jpeg" ContentType="image/jpeg"/>
  <Override PartName="/ppt/media/image11.jpeg" ContentType="image/jpeg"/>
  <Override PartName="/ppt/media/image31.gif" ContentType="image/gif"/>
  <Override PartName="/ppt/media/image33.gif" ContentType="image/gif"/>
  <Override PartName="/ppt/media/image9.jpeg" ContentType="image/jpeg"/>
  <Override PartName="/ppt/media/image55.gif" ContentType="image/gif"/>
  <Override PartName="/ppt/media/image30.gif" ContentType="image/gif"/>
  <Override PartName="/ppt/media/image34.gif" ContentType="image/gif"/>
  <Override PartName="/ppt/media/image37.jpeg" ContentType="image/jpeg"/>
  <Override PartName="/ppt/media/image38.gif" ContentType="image/gif"/>
  <Override PartName="/ppt/media/image40.gif" ContentType="image/gif"/>
  <Override PartName="/ppt/media/image42.png" ContentType="image/png"/>
  <Override PartName="/ppt/media/image43.gif" ContentType="image/gif"/>
  <Override PartName="/ppt/media/image44.gif" ContentType="image/gif"/>
  <Override PartName="/ppt/media/image47.gif" ContentType="image/gif"/>
  <Override PartName="/ppt/media/image48.gif" ContentType="image/gif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5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840B-50BB-4128-965A-F44D24B7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7DA4-6656-4587-AA84-B813DF7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24DC-55D9-4DE7-8DBB-044209E4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8546-0A2F-4BA0-A612-A56D6268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4E64-58C5-4BD9-8F72-2756E083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F5B-8341-4C26-B130-420AFD8C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412-3117-4FE6-B74D-61315FB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515-983D-418B-B8A6-E60EEC4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384-8C34-42A2-BE66-10C1B38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F804-ACEA-4540-9DC3-ECF0ED28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2D7-0BB7-4552-A602-7781161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8329-178E-4965-81D3-BB39EA74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334B-377F-46C7-800B-1F4797B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94C-6066-4477-B056-FD2DCBC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C57-9892-4E67-A39F-84B829F1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2110-1C47-43F5-8DCB-148EB5C9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EEE-5CCD-418F-BBB3-31BAC42C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7354-9D5F-404E-8904-914B571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2F58-B34B-4535-AFA7-9B0A9A96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D10B-331B-4E07-BB95-30C519C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B14B-C680-4C31-9166-AA2DE383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C01F-5CD2-4BD0-959E-25E5C031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CE85-DCE2-4BA8-A416-A8CF32A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F2F8-5C0E-4FC9-A074-E4DF3F7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CB88-796D-405E-BC8C-BC0AE28ADE3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B46-8404-4909-8BD9-234532C7F06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line.sccnn.com/html/gif/yb/20070119001047(78).htm" TargetMode="External"/><Relationship Id="rId3" Type="http://schemas.openxmlformats.org/officeDocument/2006/relationships/image" Target="../media/image33.gif"/><Relationship Id="rId4" Type="http://schemas.openxmlformats.org/officeDocument/2006/relationships/hyperlink" Target="http://online.sccnn.com/html/gif/yb/20051007135649(6).htm" TargetMode="External"/><Relationship Id="rId5" Type="http://schemas.openxmlformats.org/officeDocument/2006/relationships/image" Target="../media/image34.gif"/><Relationship Id="rId6" Type="http://schemas.openxmlformats.org/officeDocument/2006/relationships/hyperlink" Target="http://online.sccnn.com/html/gif/yb/20051007135649(5).htm" TargetMode="External"/><Relationship Id="rId7" Type="http://schemas.openxmlformats.org/officeDocument/2006/relationships/image" Target="../media/image35.gif"/><Relationship Id="rId8" Type="http://schemas.openxmlformats.org/officeDocument/2006/relationships/hyperlink" Target="http://online.sccnn.com/html/gif/yb/20051007141235(3).htm" TargetMode="External"/><Relationship Id="rId9" Type="http://schemas.openxmlformats.org/officeDocument/2006/relationships/image" Target="../media/image36.gif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png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hyperlink" Target="http://online.sccnn.com/html/gif/peoplegif/20051103215149(27).htm" TargetMode="External"/><Relationship Id="rId4" Type="http://schemas.openxmlformats.org/officeDocument/2006/relationships/image" Target="../media/image46.gif"/><Relationship Id="rId5" Type="http://schemas.openxmlformats.org/officeDocument/2006/relationships/hyperlink" Target="http://online.sccnn.com/html/gif/peoplegif/20051103215149(34).htm" TargetMode="External"/><Relationship Id="rId6" Type="http://schemas.openxmlformats.org/officeDocument/2006/relationships/image" Target="../media/image47.gif"/><Relationship Id="rId7" Type="http://schemas.openxmlformats.org/officeDocument/2006/relationships/hyperlink" Target="http://online.sccnn.com/html/gif/peoplegif/20051103215149(52).htm" TargetMode="External"/><Relationship Id="rId8" Type="http://schemas.openxmlformats.org/officeDocument/2006/relationships/image" Target="../media/image48.gif"/><Relationship Id="rId9" Type="http://schemas.openxmlformats.org/officeDocument/2006/relationships/hyperlink" Target="http://online.sccnn.com/html/gif/peoplegif/20051103215149(86).htm" TargetMode="External"/><Relationship Id="rId10" Type="http://schemas.openxmlformats.org/officeDocument/2006/relationships/image" Target="../media/image49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hyperlink" Target="http://online.sccnn.com/html/gif/peoplegif/20051103215149(124).htm" TargetMode="External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hyperlink" Target="http://online.sccnn.com/html/gif/yb/20070119001047(44).htm" TargetMode="External"/><Relationship Id="rId6" Type="http://schemas.openxmlformats.org/officeDocument/2006/relationships/image" Target="../media/image29.gif"/><Relationship Id="rId7" Type="http://schemas.openxmlformats.org/officeDocument/2006/relationships/hyperlink" Target="http://online.sccnn.com/html/gif/yb/20070119001047(34).htm" TargetMode="External"/><Relationship Id="rId8" Type="http://schemas.openxmlformats.org/officeDocument/2006/relationships/image" Target="../media/image30.gif"/><Relationship Id="rId9" Type="http://schemas.openxmlformats.org/officeDocument/2006/relationships/hyperlink" Target="http://online.sccnn.com/html/gif/peoplegif/20051103215149(168).htm" TargetMode="External"/><Relationship Id="rId10" Type="http://schemas.openxmlformats.org/officeDocument/2006/relationships/image" Target="../media/image31.gif"/><Relationship Id="rId11" Type="http://schemas.openxmlformats.org/officeDocument/2006/relationships/hyperlink" Target="http://online.sccnn.com/html/gif/peoplegif/20051103215149(149).htm" TargetMode="External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610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omic Sans MS"/>
              </a:rPr>
              <a:t>Unit 10 what color is it 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257440" y="4952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Grade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62120" y="914400"/>
            <a:ext cx="6781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white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pink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purple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orange           g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447920"/>
            <a:ext cx="762120" cy="285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3886200"/>
            <a:ext cx="1066680" cy="266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0" y="2209680"/>
            <a:ext cx="857160" cy="246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127152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6172200" y="4495680"/>
            <a:ext cx="981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380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What color is that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butterfly?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21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It’s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b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362320" y="2133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248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581280" y="4343400"/>
            <a:ext cx="2133720" cy="154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162920" y="4038480"/>
            <a:ext cx="857160" cy="2000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4495680" y="19810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762120" y="3809880"/>
            <a:ext cx="1295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371600" y="1066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color are they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y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2040" cy="2590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895480"/>
            <a:ext cx="1201680" cy="3124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2895480"/>
            <a:ext cx="1668600" cy="312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2209680"/>
            <a:ext cx="1371600" cy="3971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2666880"/>
            <a:ext cx="12891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839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899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8915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880" y="5335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Ⅳ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su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0574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What color is it?     It’s 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42900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What ______ is the c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50292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.What color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are __ __ and 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1488960" cy="198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505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5120" y="594360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red,  blue         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1206720" cy="2743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181480" y="1143000"/>
            <a:ext cx="949320" cy="2305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7467480" y="2590920"/>
            <a:ext cx="1130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133720" y="68580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lor is that_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281952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lor are the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’re ____ and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8006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 color are they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They’re___ ____and 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762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3733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791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5867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847800" cy="2276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857160" cy="2114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7480" y="5791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66680" y="1143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Comic Sans MS"/>
              </a:rPr>
              <a:t>Ⅴ</a:t>
            </a:r>
            <a:r>
              <a:rPr b="0" lang="zh-CN" sz="4000" spc="-1" strike="noStrike">
                <a:solidFill>
                  <a:srgbClr val="0000cc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59092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单元课文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颜色单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1066680"/>
            <a:ext cx="8763120" cy="53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Ⅰ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Sing a song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61baobao.com/tingerge/659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Rain, rain go away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 Self-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1143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Ⅱ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Re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28600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1.Checking homewo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2.Unit7-unit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words and tex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72200" y="35812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48608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286000" y="1143000"/>
            <a:ext cx="1619280" cy="158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419720" y="914400"/>
            <a:ext cx="156204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24480" y="1295280"/>
            <a:ext cx="1619280" cy="141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57200" y="4572000"/>
            <a:ext cx="2095560" cy="1257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048120" y="4343400"/>
            <a:ext cx="122868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572000" y="4343400"/>
            <a:ext cx="2095560" cy="1523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010280" y="4191120"/>
            <a:ext cx="1400400" cy="16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2971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8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04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uc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s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19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6095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ivi-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6095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276200" cy="16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666880" y="838080"/>
            <a:ext cx="1619280" cy="1171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24280" y="533520"/>
            <a:ext cx="1390680" cy="150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858000" y="30492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80880" y="39625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2693880" y="3429000"/>
            <a:ext cx="22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5105520" y="3809880"/>
            <a:ext cx="1247760" cy="161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010280" y="3809880"/>
            <a:ext cx="1400400" cy="161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gg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uli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2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ine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286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aterme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867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aw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867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59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59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095560" cy="1676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657600" y="609480"/>
            <a:ext cx="2095560" cy="127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477120" y="380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5800" y="3886200"/>
            <a:ext cx="17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114800" y="3886200"/>
            <a:ext cx="4495680" cy="2616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2362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b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362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6095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3520" y="9144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Sentenc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057400"/>
            <a:ext cx="6476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Is it a pea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Yes ,it is.  /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03848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Is this a pineappl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Yes, it is. /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6031080"/>
            <a:ext cx="9144000" cy="82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53080" y="1371600"/>
            <a:ext cx="1619280" cy="1581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705720" y="4114800"/>
            <a:ext cx="13906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562400" cy="2095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33720" y="10666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What are these? They are cuc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156204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33720" y="2514600"/>
            <a:ext cx="5790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Are these mushrooms? No, they are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1276200" cy="161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33720" y="480060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Are those eggpla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Yes, they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380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</a:rPr>
              <a:t>Ⅲ</a:t>
            </a:r>
            <a:r>
              <a:rPr b="1" lang="zh-CN" sz="4800" spc="-1" strike="noStrike">
                <a:solidFill>
                  <a:srgbClr val="0000cc"/>
                </a:solidFill>
                <a:latin typeface="Comic Sans MS"/>
              </a:rPr>
              <a:t>、</a:t>
            </a:r>
            <a:r>
              <a:rPr b="1" lang="zh-CN" sz="4800" spc="-1" strike="noStrike">
                <a:solidFill>
                  <a:srgbClr val="0000cc"/>
                </a:solidFill>
                <a:latin typeface="Comic Sans MS"/>
              </a:rPr>
              <a:t>New les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.Words: col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2133720"/>
            <a:ext cx="784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red            blue          green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yellow       black           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91120" y="28195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343400" y="4572000"/>
            <a:ext cx="1333440" cy="127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00200" y="2362320"/>
            <a:ext cx="676440" cy="1733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1523880"/>
            <a:ext cx="762120" cy="285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81080" y="4343400"/>
            <a:ext cx="99216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91520" y="4572000"/>
            <a:ext cx="1074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3-17T03:27:2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