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8B8-5EE6-4439-9613-87A0A023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0A6-C123-4EF5-8212-B435386D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845F-8A88-45CF-9D4E-8F7B3FF4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F93-0C57-413D-B85D-476EB002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D7B-4793-4140-B6E4-0851F92C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A54-CDEE-48EF-A2FB-E06B463A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DE6-BC60-44B9-AF9A-BF825B51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B6E-10F7-4116-9EB5-52A3ACDF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7305-C203-425E-A246-14488BCA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66A-DBC7-49BC-8CEF-9D7FDB66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4D8-1051-47AD-805A-BF58D0BF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94E-41CA-420E-ABB1-A48D956D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AE5C-6471-4EA6-AC5B-87354A8F86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143000" y="1981080"/>
            <a:ext cx="71629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33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Mocky's bad day.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3333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51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7772400" cy="4984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95280" y="4038480"/>
            <a:ext cx="716292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happened the next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876920"/>
            <a:ext cx="815328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ocky visited Ken and Ann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ent into the kitch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ut he didn’t  eat any m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1219320"/>
            <a:ext cx="693432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 school by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505320"/>
            <a:ext cx="815364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 school by b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2743200"/>
            <a:ext cx="365760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yesterd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800600"/>
            <a:ext cx="6934320" cy="18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描述过去发生的事情或动作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动词的形式会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go - w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5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695340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733920"/>
            <a:ext cx="899172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Where were Ken and Ann yester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4572000"/>
            <a:ext cx="42674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5334120"/>
            <a:ext cx="716292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Who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visit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ir ho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6172200"/>
            <a:ext cx="59436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ocky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their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51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-380880"/>
            <a:ext cx="6524640" cy="4010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95280" y="3733920"/>
            <a:ext cx="594360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ere did Mocky s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4800600"/>
            <a:ext cx="480060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a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t the 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51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66680" y="-304920"/>
            <a:ext cx="5791320" cy="4659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71600" y="4419720"/>
            <a:ext cx="594360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ere did Mocky 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486400"/>
            <a:ext cx="480060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ate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ana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514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280" y="-304920"/>
            <a:ext cx="6915240" cy="4133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4495680"/>
            <a:ext cx="716292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 came into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tc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5562720"/>
            <a:ext cx="845820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ir mother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am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to the kitch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51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380880"/>
            <a:ext cx="7315200" cy="4603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66680" y="4495680"/>
            <a:ext cx="716292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happened to mocky?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334120"/>
            <a:ext cx="845820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coulden’t brea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cause he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a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the banana quick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51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-457200"/>
            <a:ext cx="4952880" cy="457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71600" y="4419720"/>
            <a:ext cx="594360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Ken help h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5562720"/>
            <a:ext cx="58676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hit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m on the b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51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-380880"/>
            <a:ext cx="7086600" cy="5086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371600" y="4419720"/>
            <a:ext cx="594360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 he still si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5562720"/>
            <a:ext cx="58676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e73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wasn’t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ick any m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0-08T01:34:06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