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4AF-C448-499B-8D1D-5504FC50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C67-9690-4866-8037-286C2F78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933-3C70-496F-95E6-7A865F23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F2F-BF9A-4FDC-91CC-4871D7D9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A7A8-15ED-4758-A615-B4A768E0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35B6-78F5-41B6-939B-E4C6A69B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E62D-0026-496D-A019-FC4ED72C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E7DF-0368-4666-A35B-86A6CAA6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E0D7-4D18-45AE-83A9-C513F6B1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457D-0B12-42A7-B087-4C837E6B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395E-DB8A-4874-8079-F9A398D1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852-3938-429C-BB70-FAEFFF84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C60A-9439-4F0F-B2C4-99B278D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1405-33EC-433B-B9BE-BC48E556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E51A-0333-4FDA-8E3D-9B90984D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1C74-F00D-46D1-90DE-EC201902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82B1-2A19-4BE1-A905-33145E78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973-467E-47CF-9F59-5AA54FD4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334-AB41-4A05-B85F-9A3FAE7C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455-7F79-4C73-8334-065BDBD4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2C1-63D1-4B77-A28C-6B80C489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D9C-6B27-4960-87C1-A0C4525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609-A2BC-429F-863B-810DA83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199-6AAE-4A0E-A928-40BDE47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D0D9-001F-4949-B64D-0A7D0162DCD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57FD-596A-4CD2-AF83-5DEABCB6828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it 3 School sports 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7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aoshan primary sch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uoQiuy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172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248360" cy="2232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403236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105440" cy="194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572000" y="189000"/>
            <a:ext cx="4321080" cy="1944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924360" y="1628640"/>
            <a:ext cx="3603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17080" y="1557360"/>
            <a:ext cx="358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24360" y="3500280"/>
            <a:ext cx="360360" cy="6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500720" y="4365720"/>
            <a:ext cx="4464000" cy="230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500720" y="2205000"/>
            <a:ext cx="4321080" cy="1944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8317080" y="3645000"/>
            <a:ext cx="431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80000" y="5877000"/>
            <a:ext cx="372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04360" y="5805360"/>
            <a:ext cx="36036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根据课文内容判断句子正误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 Yesterday was school sports day.( 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 Ken ran in the second race.        ( 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 David ran fast. He won the race. ( 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 Ann ran in the first race.             (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 Ann came third.                         (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6 Mocky jumped very well.            (  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7812000" y="3284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40720" y="5084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4508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40720" y="2060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40720" y="2708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12000" y="3933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根据故事内容填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esterday was school (                ).Ken,_____and  ____ran in the first race. _____ ran very fast. He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was first and he 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 won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 the race. Ken was  _____. John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ame ______. 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Ann, _____and ____ ran in the second race. _____ was first. She won the race. _____ was second. Anncame _____.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 jumped very well and won a     ____ in the competitio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227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19162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ort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20000" y="2060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349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Jo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349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2781360"/>
            <a:ext cx="13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328464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3213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3573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J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357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9308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357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J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7672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4581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Mo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4508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Read the story three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Exercises Book P20-P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87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95280" y="2924280"/>
            <a:ext cx="39243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LiuXiang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5805000"/>
            <a:ext cx="8559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ports da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340000" y="5733720"/>
            <a:ext cx="4896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5805000"/>
            <a:ext cx="6918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win—w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iz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04000" y="5084280"/>
            <a:ext cx="194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4720" y="4797000"/>
            <a:ext cx="23032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5920" y="5084640"/>
            <a:ext cx="223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996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6:33:48Z</dcterms:created>
  <dc:creator>guoqiuyan</dc:creator>
  <dc:description/>
  <dc:language>en-US</dc:language>
  <cp:lastModifiedBy>guoqiuyan</cp:lastModifiedBy>
  <dcterms:modified xsi:type="dcterms:W3CDTF">2010-11-17T07:23:33Z</dcterms:modified>
  <cp:revision>18</cp:revision>
  <dc:subject/>
  <dc:title>Unit 3 School sports day</dc:title>
</cp:coreProperties>
</file>