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jpeg" ContentType="image/jpeg"/>
  <Override PartName="/ppt/media/image18.jpeg" ContentType="image/jpeg"/>
  <Override PartName="/ppt/media/image7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ACBF-B2D2-40A0-8BE4-11724AD4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DE39-2020-4411-A70A-62AEBA4C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844-49F8-45B3-820A-E519177F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1F2-4217-4195-949F-ACA4844F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5388-58A2-451E-B3FA-3B37B53A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C552-0943-482C-9201-FDCD71C3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BEA9-B5FB-4875-8A10-C6C94133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892A-4FD8-4B18-A328-4D838F9A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C02F-2119-46D4-BD20-04F6909A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6080-901D-40BF-A8F1-4CDA4A75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482A-1459-48B8-B516-17658B86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44D0-A210-4899-8FE9-7342016B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99CA-B570-4CAF-9B2E-F6D116C8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3C80-45EC-4AC8-855D-63139520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3CC7-B042-4F73-BE45-9AF332D7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52E7-A5DF-4296-A502-AD65EFDE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1583-CBD4-427B-8C2C-ACBC6839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882B5-8DF2-4680-8DFE-3BE3A56E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73668-EAA3-438B-A00E-4B53090C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6A5E7-98C9-4B70-891D-9584BE1D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349A6-7473-441C-B45A-7C3C9E19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72C21-DB28-4718-9183-C9F22F23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3ADB-784C-4E8C-89DD-B8BB3FA4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50C8C-183F-4AF9-AEFD-14F3DF54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AB008-910C-48A2-BF42-31B43389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1E21D-C76E-495A-A1BA-5259C568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EEB39-7DE7-43DD-8BDF-C0E93F00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1F682-58E2-4692-9480-5DDF6CDE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80596-472C-4E60-9F54-D923A0B0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DF8D0-C50B-4368-B4E3-4845BD42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515E3-4E6B-40A4-BC49-AAA85656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7847B-3CA5-4E0D-BBA3-B60588C3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A97BD-A0F1-4BC1-BA28-D61C818B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0D5-E0B3-48F8-B2EC-DA45177F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DA93B-8F06-4B54-9B6E-3D004735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AB0A5-87F0-48DE-B887-34B37AC6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73770-3EA2-4388-8CB1-0E43622C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8C064-39C1-4091-B5BF-A41AA758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21A0D-2A40-4C4E-9A68-3A6453B9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18D96-999B-4C63-81F0-96E86E02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72BC6-64F2-4955-B2DA-1E592C91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76E55-65BA-40FE-9748-0AB4DA42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53A86-C28D-4394-BE51-CEEF76B9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696-4DC9-4821-9AF3-C35D6C29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02A-C1E1-4F70-A663-E13DF009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806-D953-4A31-9559-5B24D3A4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E6A6-5429-487C-9F57-959F96E3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CD9-E08B-4A72-9DD4-3CCE87C8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未知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836640" y="4610160"/>
              <a:ext cx="4572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318960" y="4610160"/>
              <a:ext cx="4752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DF6C-9D11-4494-BC6A-26FC825E1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未知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18960" y="3773520"/>
              <a:ext cx="548496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838080" y="1752480"/>
              <a:ext cx="77691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18960" y="3773520"/>
              <a:ext cx="4752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838080" y="1752480"/>
              <a:ext cx="46080" cy="5119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3892-E931-4CF9-B7D1-B34BFBF40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848720" y="1080"/>
              <a:ext cx="1294920" cy="6308640"/>
              <a:chOff x="7848720" y="1080"/>
              <a:chExt cx="1294920" cy="630864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8382240" y="1080"/>
                <a:ext cx="761400" cy="2270520"/>
                <a:chOff x="8382240" y="1080"/>
                <a:chExt cx="761400" cy="2270520"/>
              </a:xfrm>
            </p:grpSpPr>
            <p:grpSp>
              <p:nvGrpSpPr>
                <p:cNvPr id="103" name=""/>
                <p:cNvGrpSpPr/>
                <p:nvPr/>
              </p:nvGrpSpPr>
              <p:grpSpPr>
                <a:xfrm>
                  <a:off x="8704080" y="1080"/>
                  <a:ext cx="279000" cy="276120"/>
                  <a:chOff x="8704080" y="1080"/>
                  <a:chExt cx="279000" cy="276120"/>
                </a:xfrm>
              </p:grpSpPr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8704080" y="1080"/>
                    <a:ext cx="279000" cy="276120"/>
                    <a:chOff x="8704080" y="1080"/>
                    <a:chExt cx="279000" cy="276120"/>
                  </a:xfrm>
                </p:grpSpPr>
                <p:sp>
                  <p:nvSpPr>
                    <p:cNvPr id="105" name="未知"/>
                    <p:cNvSpPr/>
                    <p:nvPr/>
                  </p:nvSpPr>
                  <p:spPr>
                    <a:xfrm rot="16200000">
                      <a:off x="8742960" y="-37800"/>
                      <a:ext cx="201240" cy="27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未知"/>
                    <p:cNvSpPr/>
                    <p:nvPr/>
                  </p:nvSpPr>
                  <p:spPr>
                    <a:xfrm rot="16200000">
                      <a:off x="8751960" y="93600"/>
                      <a:ext cx="141120" cy="22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823960" y="12888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未知"/>
                  <p:cNvSpPr/>
                  <p:nvPr/>
                </p:nvSpPr>
                <p:spPr>
                  <a:xfrm rot="16200000">
                    <a:off x="8755920" y="74160"/>
                    <a:ext cx="4320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未知"/>
                  <p:cNvSpPr/>
                  <p:nvPr/>
                </p:nvSpPr>
                <p:spPr>
                  <a:xfrm rot="16200000">
                    <a:off x="8829000" y="61200"/>
                    <a:ext cx="63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未知"/>
                  <p:cNvSpPr/>
                  <p:nvPr/>
                </p:nvSpPr>
                <p:spPr>
                  <a:xfrm rot="16200000">
                    <a:off x="8897040" y="11124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未知"/>
                  <p:cNvSpPr/>
                  <p:nvPr/>
                </p:nvSpPr>
                <p:spPr>
                  <a:xfrm rot="16200000">
                    <a:off x="8823600" y="19080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未知"/>
                  <p:cNvSpPr/>
                  <p:nvPr/>
                </p:nvSpPr>
                <p:spPr>
                  <a:xfrm rot="16200000">
                    <a:off x="8771400" y="165600"/>
                    <a:ext cx="38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2240" y="22860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44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1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16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44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89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44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44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1" name=""/>
              <p:cNvGrpSpPr/>
              <p:nvPr/>
            </p:nvGrpSpPr>
            <p:grpSpPr>
              <a:xfrm>
                <a:off x="7848720" y="1600200"/>
                <a:ext cx="828720" cy="4709520"/>
                <a:chOff x="7848720" y="1600200"/>
                <a:chExt cx="828720" cy="470952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640" y="1600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47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640" y="25142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2240" y="2742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2240" y="3276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5040" y="3504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5040" y="388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640" y="4114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5040" y="4876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5040" y="5409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5040" y="6019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1" name="未知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9A80-3957-4AF6-B03B-2D5FDEB2813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9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7848720" y="1080"/>
              <a:ext cx="1294920" cy="6308640"/>
              <a:chOff x="7848720" y="1080"/>
              <a:chExt cx="1294920" cy="63086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8382240" y="1080"/>
                <a:ext cx="761400" cy="2270520"/>
                <a:chOff x="8382240" y="1080"/>
                <a:chExt cx="761400" cy="227052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8704080" y="1080"/>
                  <a:ext cx="279000" cy="276120"/>
                  <a:chOff x="8704080" y="1080"/>
                  <a:chExt cx="279000" cy="276120"/>
                </a:xfrm>
              </p:grpSpPr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8704080" y="1080"/>
                    <a:ext cx="279000" cy="276120"/>
                    <a:chOff x="8704080" y="1080"/>
                    <a:chExt cx="279000" cy="276120"/>
                  </a:xfrm>
                </p:grpSpPr>
                <p:sp>
                  <p:nvSpPr>
                    <p:cNvPr id="201" name="未知"/>
                    <p:cNvSpPr/>
                    <p:nvPr/>
                  </p:nvSpPr>
                  <p:spPr>
                    <a:xfrm rot="16200000">
                      <a:off x="8742960" y="-37800"/>
                      <a:ext cx="201240" cy="27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未知"/>
                    <p:cNvSpPr/>
                    <p:nvPr/>
                  </p:nvSpPr>
                  <p:spPr>
                    <a:xfrm rot="16200000">
                      <a:off x="8751960" y="93600"/>
                      <a:ext cx="141120" cy="22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3" name=""/>
                  <p:cNvSpPr/>
                  <p:nvPr/>
                </p:nvSpPr>
                <p:spPr>
                  <a:xfrm rot="16200000">
                    <a:off x="8823960" y="12888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未知"/>
                  <p:cNvSpPr/>
                  <p:nvPr/>
                </p:nvSpPr>
                <p:spPr>
                  <a:xfrm rot="16200000">
                    <a:off x="8755920" y="74160"/>
                    <a:ext cx="4320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未知"/>
                  <p:cNvSpPr/>
                  <p:nvPr/>
                </p:nvSpPr>
                <p:spPr>
                  <a:xfrm rot="16200000">
                    <a:off x="8829000" y="61200"/>
                    <a:ext cx="63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未知"/>
                  <p:cNvSpPr/>
                  <p:nvPr/>
                </p:nvSpPr>
                <p:spPr>
                  <a:xfrm rot="16200000">
                    <a:off x="8897040" y="11124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未知"/>
                  <p:cNvSpPr/>
                  <p:nvPr/>
                </p:nvSpPr>
                <p:spPr>
                  <a:xfrm rot="16200000">
                    <a:off x="8823600" y="19080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未知"/>
                  <p:cNvSpPr/>
                  <p:nvPr/>
                </p:nvSpPr>
                <p:spPr>
                  <a:xfrm rot="16200000">
                    <a:off x="8771400" y="165600"/>
                    <a:ext cx="38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2240" y="22860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44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1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16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44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89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44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44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7" name=""/>
              <p:cNvGrpSpPr/>
              <p:nvPr/>
            </p:nvGrpSpPr>
            <p:grpSpPr>
              <a:xfrm>
                <a:off x="7848720" y="1600200"/>
                <a:ext cx="828720" cy="4709520"/>
                <a:chOff x="7848720" y="1600200"/>
                <a:chExt cx="828720" cy="4709520"/>
              </a:xfrm>
            </p:grpSpPr>
            <p:pic>
              <p:nvPicPr>
                <p:cNvPr id="21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640" y="1600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47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640" y="25142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2240" y="2742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2240" y="3276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5040" y="3504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5040" y="388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640" y="4114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5040" y="4876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5040" y="5409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5040" y="6019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7" name="未知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34D4-7EA8-488B-95A6-9788196A206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SzPct val="8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936720" cy="10792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443640" y="6165720"/>
            <a:ext cx="27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659640" y="6237360"/>
            <a:ext cx="2484360" cy="581400"/>
          </a:xfrm>
          <a:prstGeom prst="rect">
            <a:avLst/>
          </a:prstGeom>
          <a:solidFill>
            <a:srgbClr val="2105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迷人的秋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2485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lang="zh-CN" sz="4000" spc="-1" strike="noStrike">
                <a:solidFill>
                  <a:srgbClr val="f7d47d"/>
                </a:solidFill>
                <a:latin typeface="Arial"/>
              </a:rPr>
              <a:t>秋    景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774072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</a:t>
            </a:r>
            <a:r>
              <a:rPr b="0" lang="zh-CN" sz="2400" spc="-1" strike="noStrike">
                <a:solidFill>
                  <a:srgbClr val="2f1311"/>
                </a:solidFill>
                <a:latin typeface="Arial"/>
              </a:rPr>
              <a:t>（美国）迪金森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zh-CN" sz="2400" spc="-1" strike="noStrike">
                <a:solidFill>
                  <a:srgbClr val="2f1311"/>
                </a:solidFill>
                <a:latin typeface="Arial"/>
              </a:rPr>
              <a:t>晨曦比往日更柔婉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               </a:t>
            </a:r>
            <a:r>
              <a:rPr b="0" lang="zh-CN" sz="2400" spc="-1" strike="noStrike">
                <a:solidFill>
                  <a:srgbClr val="2f1311"/>
                </a:solidFill>
                <a:latin typeface="Arial"/>
              </a:rPr>
              <a:t>毛栗变得褐色可爱；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zh-CN" sz="2400" spc="-1" strike="noStrike">
                <a:solidFill>
                  <a:srgbClr val="2f1311"/>
                </a:solidFill>
                <a:latin typeface="Arial"/>
              </a:rPr>
              <a:t>浆果的面颊多么丰满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               </a:t>
            </a:r>
            <a:r>
              <a:rPr b="0" lang="zh-CN" sz="2400" spc="-1" strike="noStrike">
                <a:solidFill>
                  <a:srgbClr val="2f1311"/>
                </a:solidFill>
                <a:latin typeface="Arial"/>
              </a:rPr>
              <a:t>玫瑰在郊外盛开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zh-CN" sz="2400" spc="-1" strike="noStrike">
                <a:solidFill>
                  <a:srgbClr val="2f1311"/>
                </a:solidFill>
                <a:latin typeface="Arial"/>
              </a:rPr>
              <a:t>枫树扎着华丽的丝巾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               </a:t>
            </a:r>
            <a:r>
              <a:rPr b="0" lang="zh-CN" sz="2400" spc="-1" strike="noStrike">
                <a:solidFill>
                  <a:srgbClr val="2f1311"/>
                </a:solidFill>
                <a:latin typeface="Arial"/>
              </a:rPr>
              <a:t>田野披上艳红的轻纱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zh-CN" sz="2400" spc="-1" strike="noStrike">
                <a:solidFill>
                  <a:srgbClr val="2f1311"/>
                </a:solidFill>
                <a:latin typeface="Arial"/>
              </a:rPr>
              <a:t>我不愿显得古板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                   </a:t>
            </a:r>
            <a:r>
              <a:rPr b="0" lang="zh-CN" sz="2400" spc="-1" strike="noStrike">
                <a:solidFill>
                  <a:srgbClr val="2f1311"/>
                </a:solidFill>
                <a:latin typeface="Arial"/>
              </a:rPr>
              <a:t>也佩戴了一枚胸花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700360" y="907920"/>
            <a:ext cx="38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秋  天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516720" y="6111720"/>
            <a:ext cx="2627280" cy="703440"/>
          </a:xfrm>
          <a:prstGeom prst="rect">
            <a:avLst/>
          </a:prstGeom>
          <a:solidFill>
            <a:srgbClr val="2f13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何  其  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</a:rPr>
              <a:t>读准下列字音，并解释下面加线的字。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丁丁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肥</a:t>
            </a:r>
            <a:r>
              <a:rPr b="0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硕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栖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息        归</a:t>
            </a:r>
            <a:r>
              <a:rPr b="0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廖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阔        枯</a:t>
            </a:r>
            <a:r>
              <a:rPr b="0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涸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梦</a:t>
            </a:r>
            <a:r>
              <a:rPr b="0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寐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清</a:t>
            </a:r>
            <a:r>
              <a:rPr b="0" lang="zh-CN" sz="3200" spc="-1" strike="noStrike" u="sng">
                <a:solidFill>
                  <a:srgbClr val="ffff00"/>
                </a:solidFill>
                <a:uFillTx/>
                <a:latin typeface="Arial"/>
              </a:rPr>
              <a:t>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鳊鱼        船桨        幽谷        芦蓬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130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2997360"/>
            <a:ext cx="9144000" cy="38606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651640" y="29862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农家丰收图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508720" y="6165720"/>
            <a:ext cx="36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霜晨归渔图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7866360" y="0"/>
            <a:ext cx="127764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少女思恋图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2" name="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32846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443640" y="2708280"/>
            <a:ext cx="2700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震落满披着的露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3213000"/>
            <a:ext cx="39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伐木声出幽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7" name="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0" y="189000"/>
            <a:ext cx="44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饱食稻香的镰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0" y="3500280"/>
            <a:ext cx="9144000" cy="3357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50920" y="350028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撒下圆圆的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846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0" y="0"/>
            <a:ext cx="42116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溪水枯涸石更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牧羊女"/>
          <p:cNvPicPr/>
          <p:nvPr/>
        </p:nvPicPr>
        <p:blipFill>
          <a:blip r:embed="rId2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5364000" y="349092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梦寐中的牧羊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04:40:01Z</dcterms:created>
  <dc:creator>微软用户</dc:creator>
  <dc:description/>
  <dc:language>en-US</dc:language>
  <cp:lastModifiedBy>y</cp:lastModifiedBy>
  <dcterms:modified xsi:type="dcterms:W3CDTF">2014-03-06T13:28:01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89</vt:lpwstr>
  </property>
  <property fmtid="{D5CDD505-2E9C-101B-9397-08002B2CF9AE}" pid="3" name="Version">
    <vt:r8>2</vt:r8>
  </property>
</Properties>
</file>