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F331-5FEE-478A-9CBC-167DD2F3C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69B1-451F-4A32-8196-355F0E60D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2A60-F959-4E70-869E-DF6C90B3A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4F26-65AC-42CC-8C1B-03492BE00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89DC-014A-45B1-8025-7D65F18E5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C4A7-26FF-434D-A056-7AF248D39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95A6-2825-418D-AB9E-0FEDC327B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DE8C-0246-474F-870A-C6C85A75C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C0D2-66A5-4B6D-9334-088234CDF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7663-506F-4D79-B05B-94C96A518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4E5B-3C20-45C0-B460-B33BAC9C3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962C-BC29-4024-AEBC-8AFD22FF8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469-B550-4341-852A-0359088A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CAF-21F5-40C5-BAB2-B26F54DD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35187-4363-47B3-8C38-34AE0574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1348E-B057-4700-BFD5-2F6F0421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5B254-22C7-4560-A81B-4C05F3F2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93DE0-7AD9-4427-A522-9AB40EB5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BE3AE-D56F-43A8-BEC2-046D8B0E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C0974-C65A-473D-91BD-D0C1E4A9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78D3A-A1A5-43D4-957E-6C9E9CD6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BC64F-38AA-4A6C-92EE-4D2CA866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F3E4F-4982-4C01-908E-513E6D5C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62F24-81BB-4849-B21F-3557480A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E31-BD84-47AF-88EF-16415BAA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5C0D7-566D-4F2C-9BBE-6AEBF354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45DCB-8B90-4630-AA3F-30DDC618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CF12B-3F18-4D73-A19C-26B7D4FF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6FB66-DF4E-4EDA-AA8E-1CC33CC7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F184A-BDDA-4D0F-BC90-364C4281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55064-BF68-4420-A9E8-F1EE578B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4DDDA-8F31-4DAC-A057-148DBDA9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4A247-65D8-4D91-89EE-0C5E5314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4D5DD-A745-426D-A4C7-15AC6F7D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2BD93-C936-45E6-AE4F-2126F6F1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833-5F1F-44D1-A12E-5579636D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AD4C2-D125-496D-B305-0565CDCD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FDF5C-C254-482F-8EA3-F7BD44ED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D9923-7489-445B-966A-183C1ABF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89A3A-B477-4D6B-8B03-9AF20633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F481A-E261-43E9-87D7-41C6788A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E3D07-30A0-4FE0-9870-B713E715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2A36B-4B96-4F7A-8C55-E814FBDE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FA3D6-4176-4309-825F-9E49EDC1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3F40C-C339-4B39-8EFB-B0F5B82D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5B269-757F-4A81-BEC9-84274518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07BF-2EAD-45DE-B1FA-67450DED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D65CA-A6EC-4923-BDCC-F9C2A2B5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41B1B-F5F3-4B02-92D5-E766393F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D2A2D-8DA7-4018-A690-2E7A628C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BB6D2-6751-4FAD-9905-3AC52E0A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E02DF-E76F-4DDA-80A6-8773F2D6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34BA4-0892-45BD-9BDD-72EAD6E7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D75D2-19EF-4E0C-BEFD-211C2215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93903-9DBB-4FCD-8162-E19E0CCE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370C1-8B0F-44CA-987C-55534BF6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3BB1B-3D82-466D-BFBD-F8CF548D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7907-D0B4-4094-A66E-827BB20A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B6892-E88E-4BD2-8C02-B877163F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E358B-3872-4252-8591-C68F29F5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F4254-A5B5-4E1D-A7E0-6A2690F4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B2B61-9ECC-49F8-AA5A-0B00323A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77849-2DFB-4259-8381-F659997B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20F50-10C2-4C6E-9C83-2881CDA2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C3E90E-313D-4AB2-9286-00B026BC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43BC9-1DD6-4BDD-B8A1-A47670D1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C4CE2-3943-4A83-ACA6-DD86DC17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1EE60-6DCB-4BAA-B131-DD6F87C8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ECD6-7CF0-4BE7-8CE8-A9C2324A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A33CD-CF4D-4A88-A55B-B52F9520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9C975-3198-4409-8E0C-4FA4B0A4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32DBE-B12A-4C15-BDA0-E85E2A7F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176A0-FDE3-4FAF-A426-4F26A77B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5FB50-EEEB-440E-8607-83D9182D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166A93-C91B-4BEE-A52D-B4B00E2E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5B99B-4E8E-458B-A0D3-4532691D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02DE3C-814A-4BE5-B2CA-F24CFA53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5CAAE-FACA-41DC-A106-48C10E58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D9B21-0A07-4148-952D-F8557691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6DF9-6B05-45DB-99A6-7FEF554B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FA00E-2AFC-4946-A66E-8ABFB091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9843A-F543-40D0-B9F6-FAFAF39B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98F402-B834-4D3A-81A4-174874EC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23A05-65BA-4AC4-B9D3-A6106994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EE4ED-82EC-4474-AA0D-CCA5FDC0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D6F2A-D7B8-4780-AF78-4227D1AE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C87E4-852C-44F1-8602-ED879CC2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124D9-3D54-4853-9313-90139106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2C132-42A7-449D-A982-1008EEAE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B77A-2632-4471-9A30-0D9F9AD6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EC6C-9B39-4615-972E-F0F7F941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6819-ED47-4AA9-923A-ED0A933B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B1F-E8AD-410D-80D9-0CCCBCC2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59CC-144F-4CDE-BC08-C89C790F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C55F-D754-4241-8F39-B06A5510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7F97-6B0A-4EC2-B8B6-A4331CD1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4BCE-8C49-4F83-8EC6-50E3F6D4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5AA9-A9E2-436E-801D-091F36D2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E3092-AB58-4BF9-8F82-E4A1392E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8464A-7844-44C8-AF42-1152F945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2D461-BB8F-4985-A02F-4BD1C5B9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4EB5-D4A5-41B6-9012-BB6D44CF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155CD-16D5-4995-B837-031AEF63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4CE-4468-41C9-B5FD-8B089A84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8BB01-81CA-4BBA-829F-F1B35935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2582D-C79A-4F8B-9C04-BE8DC299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BBF19-2243-47E0-92AB-810DF218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611DB-B13C-4798-B5E8-A87C7053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DB092-CA3A-43F3-AA92-5C3967C6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0D40B-1868-43F5-A0D2-864196F7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9DB8F-1F96-4CB5-B8AA-99905025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E2E0D-CE1A-44BF-9305-B12B7AE3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167EE-9155-4768-8FBF-5ECE2232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88F0C-69DA-497F-8C53-E292567B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04F-86B1-421F-B566-0009BABF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DF41C-5CD1-4F30-8C8C-7D93B454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D07CF-E45C-4671-B8D0-80EC83CB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FEF88-0ED3-4AA3-9607-10CE4E33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B1958-A23C-4663-A408-69B2E1EF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9A14D-76E2-4479-A451-789E8FDF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D23D3-134D-441A-A94F-B12CE036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33D1B-13E3-4135-A602-C886BE94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5EFEA-D02B-4823-A074-77E20DFA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C55CA-9228-46C9-AE24-71137F38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D1CDD-4BEE-41D2-9254-3E25EF40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312-96E9-44F4-856A-0E68BAFC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F7F21-335F-4DFF-8930-586CAD46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F8E81-5880-4863-AD21-C9C588B5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00504-A8C9-4A0A-9287-A850B5C4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29036-F305-4D64-9685-B9248E7F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847F2-13DC-4100-B9B3-D3509EDD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DF805-66D1-4604-9070-999F3925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D9C2F-94BF-4908-9BD8-AEC5E217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14738-48A4-4676-A3D9-08D6BD80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8BE90-6637-4729-8022-D034E154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DCF0F-3B40-4A3D-9F9E-04339485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57C7-B76E-49E9-B67E-802D692E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9F4DE-733A-48DE-9985-42DA1E47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30090-E631-403C-864B-4B246F58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5F3E5-4AD4-4871-8A93-F0C76E3C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484A4-6EE3-447D-B608-2D471617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4E2A9-ABED-48D1-9CD0-25CDD59A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8D5B9-E245-4EF9-A9ED-7EFA0FA5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7FF1A-9721-4ED0-A658-FCF0D4C4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7F3B6-A2F2-424D-A634-2C8B1E8E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5EC52-68F9-47A5-9184-60EAB52C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CC259-B4BD-407B-A231-9DBD7D3F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497-D387-469C-983C-3A52E1EF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10C1F-CAE5-43B1-A1A5-F9900F2E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3BA56-44F3-4A81-B833-7F3F9DA6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C66BD-17F4-44D8-BBD8-0DA4C28C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D3D90-D68F-449D-A165-FD6C52E5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8A3D3-FEA7-4799-A8A3-78AE88E9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846E9-7F6A-4D15-96BB-50608D2A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C6281-21F6-4D29-9570-8B3BA00E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22B4F-6017-4C92-817A-CA7998C4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5513A-9C41-44E8-89C3-8DA639EB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846E0-DFF3-4629-A09B-05DCBAF0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866-C4F4-496E-A14F-B25BF61F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F13EA-C793-4B93-80C2-91795707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D0E31-E2A3-4F1A-B538-175B1563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72A3A-4C0F-40C2-BF1F-5AA8EB66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FC660-3979-4A0F-8489-C521F2DC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1F78F-EA6F-46A2-87F1-3536C6BE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5F8DD-CE5B-4EC9-8332-A874BF47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D5F71-544B-4DF4-99C7-ED2AE732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4D8B6-7D9C-48E4-A8D8-47538371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B29AF-D3EB-403B-BC9E-282F06F8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EF6A3-C932-433E-9051-078FDAE3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DE0-F4CC-4830-984B-365B8EAE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C27E1-E181-42F3-8185-343C1959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E6E3B-3D8F-472D-856E-1C38E974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61AA8-82B8-4B78-869B-FDBF7371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791CC-2D4C-442B-91E0-D5D56D4E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735C9-D279-405F-A9EB-70D9EE4F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00C7A-F30E-4717-B6E1-ACD7F6A1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0F0B7-F55C-4309-98C5-9C342B81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87E1B-96B0-4EA8-8130-034A4D36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80593-FD30-41DE-A5CC-E8737EDD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69067-981E-4ABA-96CD-73EA7382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苏教语文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oldq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ABBA-FDB3-407E-BDC5-C4EAB33D14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中学语文在线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ywzx8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1AC1-20BB-4E75-B5A4-D49254BA1B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中学语文在线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ywzx8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9723-5FF5-40B7-8A22-4CEAC66294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中学语文在线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ywzx8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5A5A-6A1B-4F7C-A97B-EB3AF42A45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中学语文在线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ywzx8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7B21-AD91-49EF-9A46-418D402D5A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61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中学语文在线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ywzx8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C19B-7EF6-40B2-A117-3B569F6D97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苏教语文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oldq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83DE-0089-4CA8-9AD4-2833753AF0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中学语文在线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ywzx8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95C7-EC59-43AF-B47A-DCE6E43992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中学语文在线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ywzx8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18EA-B111-4362-A6FB-41BF83CB10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中学语文在线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ywzx8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70C6-6397-4147-A816-349A2132DB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中学语文在线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ywzx8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344A-81BA-4A0E-95D9-412D4D9614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中学语文在线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ywzx8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D7A6-B84E-49CA-AADF-5543E1D4FE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中学语文在线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ywzx8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6A3E-9958-4AAE-B942-CD97C81B33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中学语文在线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ywzx8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2A26-6651-4DB3-A050-B90D25E683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苏教语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oldq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883908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风　雨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　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贾平凹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济阳实验中学　王良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4" descr="u=3987149852,2762877391&amp;gp=2[1]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苏教语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oldq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：本文的观察角度是什么？采用了什么写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Arial"/>
                <a:ea typeface="楷体_GB2312"/>
              </a:rPr>
              <a:t>由远到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作者通过对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事物情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描写来展现风雨之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猛烈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楷体_GB2312"/>
              </a:rPr>
              <a:t>侧面烘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语言品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本文的词语运用准确，请举例说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比如第二段写垂柳就用“抛举”“僵直”“扑撒”，写杨叶用了“变”“翻”“扭转”等。这些词语准确地表现了垂柳和杨叶在狂风肆虐下随风而动的形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8862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树林子像一块面团了，四面都在鼓，鼓了就陷，陷了再鼓；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4" descr="1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701" name="Text Box 7"/>
          <p:cNvSpPr/>
          <p:nvPr/>
        </p:nvSpPr>
        <p:spPr>
          <a:xfrm>
            <a:off x="304920" y="3505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运用了比喻的修辞手法写出了树林在风雨中飘摇的场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苏教语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oldq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8000"/>
                </a:solidFill>
                <a:latin typeface="Arial"/>
              </a:rPr>
              <a:t>树林子往一处挤，绿似乎被拉长了许多</a:t>
            </a:r>
            <a:r>
              <a:rPr b="1" lang="en-US" sz="3800" spc="-1" strike="noStrike">
                <a:solidFill>
                  <a:srgbClr val="008000"/>
                </a:solidFill>
                <a:latin typeface="Arial"/>
              </a:rPr>
              <a:t>……</a:t>
            </a:r>
            <a:r>
              <a:rPr b="1" lang="zh-CN" sz="3800" spc="-1" strike="noStrike">
                <a:solidFill>
                  <a:srgbClr val="008000"/>
                </a:solidFill>
                <a:latin typeface="Arial"/>
              </a:rPr>
              <a:t>绿全然又压扁开来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57200" y="1371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767ff"/>
                </a:solidFill>
                <a:latin typeface="Arial"/>
              </a:rPr>
              <a:t>运用借代的修辞手法，生动形象地写出了树林被风吹倒时的情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9" descr="风景11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Arial"/>
              </a:rPr>
              <a:t>贾平凹的散文的特点：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贾平凹的散文是新时期散文表现手法觉醒的杰出代表 ，他的散文作品不但内容包含着对生活的独到领悟，充满着真挚感情和真知灼见，容入着深广的时代情思，而且在艺术表现手法上也显得笔调灵活、通脱自然、极富变化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Cloud"/>
          <p:cNvSpPr/>
          <p:nvPr/>
        </p:nvSpPr>
        <p:spPr>
          <a:xfrm>
            <a:off x="0" y="0"/>
            <a:ext cx="4267080" cy="2066760"/>
          </a:xfrm>
          <a:custGeom>
            <a:avLst/>
            <a:gdLst>
              <a:gd name="textAreaLeft" fmla="*/ 587880 w 4267080"/>
              <a:gd name="textAreaRight" fmla="*/ 3375720 w 4267080"/>
              <a:gd name="textAreaTop" fmla="*/ 312120 h 2066760"/>
              <a:gd name="textAreaBottom" fmla="*/ 1658880 h 2066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幼圆"/>
              </a:rPr>
              <a:t>拓展延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请同学们把贾平凹先生笔下的风雨场景与老舍的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在烈日和暴雨下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，体会它们在写景上的异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仿宋_GB2312"/>
                <a:ea typeface="仿宋_GB2312"/>
              </a:rPr>
              <a:t>    </a:t>
            </a:r>
            <a:r>
              <a:rPr b="1" lang="zh-CN" sz="4400" spc="-1" strike="noStrike">
                <a:solidFill>
                  <a:srgbClr val="9933ff"/>
                </a:solidFill>
                <a:latin typeface="仿宋_GB2312"/>
                <a:ea typeface="仿宋_GB2312"/>
              </a:rPr>
              <a:t>街上的柳树像病了似的，叶子挂着层灰土在枝上打着卷；枝条一动也懒得动，无精打采地低垂着。马路上一个水点也没有，干巴巴地发着白光。便道上尘土飞起多高，跟天上的灰气联接起来，结成一片毒恶的灰沙阵，烫着行人的脸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仿宋_GB2312"/>
              </a:rPr>
              <a:t>      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仿宋_GB2312"/>
              </a:rPr>
              <a:t>处处干燥，处处烫手，处处憋闷，整个老城像烧透了的砖窑，使人喘不过气来。狗趴在地上吐出红舌头，骡马的鼻孔张得特别大，小贩们不敢吆喝，柏油路晒化了，甚至于铺户门前的铜牌好像也要晒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烈日和暴雨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答案示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①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课文在写“风雨”时没有出现一个“风”字、“雨”字；这段选文写“热”时，也是没有出现一个“热”字，但是却写出了烈日下的酷热难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②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都是景物描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nt"/>
          <p:cNvSpPr/>
          <p:nvPr/>
        </p:nvSpPr>
        <p:spPr>
          <a:xfrm>
            <a:off x="2209680" y="0"/>
            <a:ext cx="3429000" cy="2209680"/>
          </a:xfrm>
          <a:custGeom>
            <a:avLst/>
            <a:gdLst>
              <a:gd name="textAreaLeft" fmla="*/ 1127160 w 3429000"/>
              <a:gd name="textAreaRight" fmla="*/ 2309040 w 3429000"/>
              <a:gd name="textAreaTop" fmla="*/ 1032480 h 2209680"/>
              <a:gd name="textAreaBottom" fmla="*/ 1388520 h 22096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1981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小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文章描写风雨，全文却无风雨二字。仔细体味，又觉得无处不在描写风雨，无处不在体现风姿雨态。这种高明手法，令人拍案叫绝。作者主要运用侧面衬托的手法来表现风雨，并大量运用比喻等修辞方法。一幅幅生动画面像电影中的慢镜头，从不同的方面、不同的角度展现风狂雨猛，形成了整体上和谐的艺术画面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9933ff"/>
                </a:solidFill>
                <a:latin typeface="Arial"/>
                <a:ea typeface="楷体_GB2312"/>
              </a:rPr>
              <a:t>课堂导入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             风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                         李峤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解落三秋叶，能开二月花。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过江千尺浪，入竹万竿斜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5" descr="u=1452422563,1194194635&amp;fm=59"/>
          <p:cNvPicPr/>
          <p:nvPr/>
        </p:nvPicPr>
        <p:blipFill>
          <a:blip r:embed="rId1"/>
          <a:stretch/>
        </p:blipFill>
        <p:spPr>
          <a:xfrm>
            <a:off x="685800" y="3200400"/>
            <a:ext cx="792468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ubOvalCallout"/>
          <p:cNvSpPr/>
          <p:nvPr/>
        </p:nvSpPr>
        <p:spPr>
          <a:xfrm>
            <a:off x="228600" y="0"/>
            <a:ext cx="3352680" cy="2819520"/>
          </a:xfrm>
          <a:custGeom>
            <a:avLst/>
            <a:gdLst>
              <a:gd name="textAreaLeft" fmla="*/ 490680 w 3352680"/>
              <a:gd name="textAreaRight" fmla="*/ 2862000 w 3352680"/>
              <a:gd name="textAreaTop" fmla="*/ 309600 h 2819520"/>
              <a:gd name="textAreaBottom" fmla="*/ 1806120 h 28195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5053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课下练笔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写一写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15328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把你的所见所感用笔写出来。（要求：运用描写的表达方式和各种修辞手法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8" descr="images[6]"/>
          <p:cNvPicPr/>
          <p:nvPr/>
        </p:nvPicPr>
        <p:blipFill>
          <a:blip r:embed="rId1"/>
          <a:stretch/>
        </p:blipFill>
        <p:spPr>
          <a:xfrm>
            <a:off x="3809880" y="304920"/>
            <a:ext cx="5029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夜喜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杜甫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好雨知时节，当春乃发生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随风潜入夜，润物细无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7" descr="9319d8e337f7d30af42cdf41c2eac9f9"/>
          <p:cNvPicPr/>
          <p:nvPr/>
        </p:nvPicPr>
        <p:blipFill>
          <a:blip r:embed="rId1"/>
          <a:stretch/>
        </p:blipFill>
        <p:spPr>
          <a:xfrm>
            <a:off x="838080" y="2971800"/>
            <a:ext cx="7696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苏教语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oldq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" descr="dd_wx_jpw"/>
          <p:cNvPicPr/>
          <p:nvPr/>
        </p:nvPicPr>
        <p:blipFill>
          <a:blip r:embed="rId1"/>
          <a:stretch/>
        </p:blipFill>
        <p:spPr>
          <a:xfrm>
            <a:off x="0" y="0"/>
            <a:ext cx="2971800" cy="434340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2895480" y="609120"/>
            <a:ext cx="563904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6767ff"/>
                </a:solidFill>
                <a:latin typeface="Arial"/>
                <a:ea typeface="楷体_GB2312"/>
              </a:rPr>
              <a:t>作家简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贾平凹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2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原名贾平娃，陕西丹凤人。全国政协委员，陕西省作家协会副主席，著有小说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贾平凹获奖中篇小说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贾平凹自选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长篇小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商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自传体长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是农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腊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 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满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获全国优秀中篇小说奖、优秀短篇小说奖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废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法国费米娜文学奖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浮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美国美孚飞马文学奖，最近获得由法国文化交流部颁发的“法兰西共和国文学艺术荣誉奖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图片 7" descr="QQ截图20131022092829.jpg"/>
          <p:cNvPicPr/>
          <p:nvPr/>
        </p:nvPicPr>
        <p:blipFill>
          <a:blip r:embed="rId2"/>
          <a:stretch/>
        </p:blipFill>
        <p:spPr>
          <a:xfrm>
            <a:off x="2590920" y="6324480"/>
            <a:ext cx="4390920" cy="3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整体感知</a:t>
            </a:r>
            <a:br>
              <a:rPr sz="4000"/>
            </a:br>
            <a:r>
              <a:rPr b="1" lang="zh-CN" sz="3800" spc="-1" strike="noStrike">
                <a:solidFill>
                  <a:srgbClr val="6767ff"/>
                </a:solidFill>
                <a:latin typeface="Arial"/>
              </a:rPr>
              <a:t>听课文录音，正音，把握语气、语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贾平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wā)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偌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u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蜷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quá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倏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h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刹那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h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掌握重点词语的含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刹那：极短的时间，瞬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蜷曲：弯曲（多用于人或动物的肢体）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倏忽：很快地，忽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偌大：这么大；那么大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苏教语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oldq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ff"/>
                </a:solidFill>
                <a:latin typeface="Arial"/>
                <a:ea typeface="华文行楷"/>
              </a:rPr>
              <a:t>感受风雨画面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14" descr="8960"/>
          <p:cNvPicPr/>
          <p:nvPr/>
        </p:nvPicPr>
        <p:blipFill>
          <a:blip r:embed="rId1"/>
          <a:stretch/>
        </p:blipFill>
        <p:spPr>
          <a:xfrm>
            <a:off x="4495680" y="1676520"/>
            <a:ext cx="4343400" cy="49528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15" descr="xin_1509020213195152642918"/>
          <p:cNvPicPr/>
          <p:nvPr/>
        </p:nvPicPr>
        <p:blipFill>
          <a:blip r:embed="rId2"/>
          <a:stretch/>
        </p:blipFill>
        <p:spPr>
          <a:xfrm>
            <a:off x="152280" y="1676520"/>
            <a:ext cx="434340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苏教语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－免费资源站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oldq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0440" y="274320"/>
            <a:ext cx="374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感受风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文通过对哪些事物的描写来表现这狂风骤雨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树林子　垂柳　杨叶　芦苇　羊　　葡萄蔓　苍蝇　鸟巢　鸟儿　废纸　湿猫　瓦　浮萍　水池　鱼儿　老头　孩子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4" descr="u=4280108994,2875711432&amp;gp=2[1]"/>
          <p:cNvPicPr/>
          <p:nvPr/>
        </p:nvPicPr>
        <p:blipFill>
          <a:blip r:embed="rId1"/>
          <a:stretch/>
        </p:blipFill>
        <p:spPr>
          <a:xfrm>
            <a:off x="5486400" y="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690" name="图片 5" descr="QQ截图20131022092829.jpg"/>
          <p:cNvPicPr/>
          <p:nvPr/>
        </p:nvPicPr>
        <p:blipFill>
          <a:blip r:embed="rId2"/>
          <a:stretch/>
        </p:blipFill>
        <p:spPr>
          <a:xfrm>
            <a:off x="2666880" y="6172200"/>
            <a:ext cx="4391280" cy="3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9933ff"/>
                </a:solidFill>
                <a:latin typeface="Arial"/>
                <a:ea typeface="楷体_GB2312"/>
              </a:rPr>
              <a:t>重点问题探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本文在写景时是按照怎样的顺序进行的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　　本文写景时是按照由远及近，又由近及远的顺序来描绘景物的变化的。比如第一二段是写远处的树林、垂柳；第三段是写家里的羊与牵羊女孩；第四、五段仍然写近处的葡萄藤、苍蝇、鸟巢、鸟儿等；第六段视野又延伸到了巷道，第七段又到了远处的池塘；第八段则又回到了近处的屋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本文题目是“风雨”，可是文中大多写到了风，很少出现雨，文章内容是不是与题目不相符？你怎样看待这个问题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文章内容与题目相符。因为从本文内容上我们就会发现，此时的天气变化是先刮起了狂风，然后是风里带来了大雨。因为这次狂风太猛烈，周围的景物都被狂风掀动起来，到处是一片狼藉，以至于大雨也被狂风吹得乱了方向，看不出形态。文中写风虽然没有出现“风”字，写雨也没有出现“雨”字，但是处处紧扣这两点来写。所以内容与题目相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oldq.com.cn</dc:creator>
  <dc:description>www.oldq.com.cn</dc:description>
  <cp:keywords>www.oldq.com.cn</cp:keywords>
  <dc:language>en-US</dc:language>
  <cp:lastModifiedBy>pepuser</cp:lastModifiedBy>
  <dcterms:modified xsi:type="dcterms:W3CDTF">2013-10-22T01:35:29Z</dcterms:modified>
  <cp:revision>13</cp:revision>
  <dc:subject>www.oldq.com.cn</dc:subject>
  <dc:title>www.oldq.com.c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