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A6F-E3CD-4785-8EDF-59188386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9EF-E6EC-42D5-BB15-0DE12FB4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042-C8DC-43A5-AF0E-979AACE1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954-3203-47B9-B477-85D6899B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946-3574-4636-90F1-72E4C40B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F2D-74C9-4F12-99B9-30FC9AA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A9A-98F7-4523-B51C-42C84EC5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811-D492-4C14-BB8C-B5BF7ABD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401-9005-4BA6-AA42-B1C9A352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618-B1EC-458F-8A95-FBE5A5A7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D20-079B-400F-AEC5-EB4F9BC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7F1-015C-4848-B8DE-0C1CD5A0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584F-770A-44BD-A527-E70F65D75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125360"/>
            <a:ext cx="5400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琥珀"/>
              </a:rPr>
              <a:t>雨的诉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5661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山东滨州北城英才学校        刘晓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14972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琥珀"/>
              </a:rPr>
              <a:t>　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琥珀"/>
              </a:rPr>
              <a:t>　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华文琥珀"/>
              </a:rPr>
              <a:t>规则：每个组必须在十秒之内唱出一句有“雨”字的歌，完成一人次计一分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华文琥珀"/>
              </a:rPr>
              <a:t>,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华文琥珀"/>
              </a:rPr>
              <a:t>完不成不计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26920" y="620640"/>
            <a:ext cx="504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648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S Gothic"/>
              </a:rPr>
              <a:t>雨中放歌～～</a:t>
            </a:r>
            <a:endParaRPr b="1" i="1" lang="en-US" sz="2800" spc="1" strike="noStrike">
              <a:ln w="648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3213000"/>
            <a:ext cx="871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规则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隶书"/>
              </a:rPr>
              <a:t>先请同学们写出带雨的成语（或四字短语）再请每大组抽取一组短语，然后派一名代表任选其中三个即兴口头表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要求：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隶书"/>
              </a:rPr>
              <a:t>切合短语的意境，想象丰富，表达力求准确而有创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隶书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21402000">
            <a:off x="1050480" y="609120"/>
            <a:ext cx="3951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妙“雨”连句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278136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要求：每组在五分钟内写出尽可能多的带“雨”字的诗句，诵读交流。活动开始后各组轮答，每句记一分。各组必须独立完成，如有违规，记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0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620640"/>
            <a:ext cx="4248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诗情雨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142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好雨知时节，当春乃发生。（杜甫《春夜喜雨》）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  <a:ea typeface="楷体_GB2312"/>
              </a:rPr>
              <a:t>空山新雨后，天气晚来秋。</a:t>
            </a: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 （王维《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  <a:ea typeface="楷体_GB2312"/>
              </a:rPr>
              <a:t>山居秋暝</a:t>
            </a: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 》）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黄梅时节家家雨，青草池塘处处蛙。（赵师秀《约客》）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夜来风雨声，花落知多少？（孟浩然《春晓》）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渭城朝雨浥轻尘，客舍青青柳色新。（王维《渭城曲》）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  <a:ea typeface="楷体_GB2312"/>
              </a:rPr>
              <a:t>天街小雨润如酥，草色遥看近却无。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  <a:ea typeface="楷体_GB2312"/>
              </a:rPr>
              <a:t>韩愈《早春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  <a:ea typeface="楷体_GB2312"/>
              </a:rPr>
              <a:t>七八个星天外</a:t>
            </a: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  <a:ea typeface="楷体_GB2312"/>
              </a:rPr>
              <a:t>两三点雨山前。</a:t>
            </a: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                       </a:t>
            </a: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（辛弃疾《清平乐 村居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水光潋滟晴方好，山色空蒙雨亦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                        </a:t>
            </a: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（苏轼《饮湖上初晴后雨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君问归期未有期，巴山夜雨涨秋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                       </a:t>
            </a: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楷体_GB2312"/>
              </a:rPr>
              <a:t>（李商隐《夜雨寄北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87800" y="401760"/>
            <a:ext cx="32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00"/>
                </a:solidFill>
                <a:latin typeface="Arial"/>
                <a:ea typeface="幼圆"/>
              </a:rPr>
              <a:t>古诗文中的“</a:t>
            </a:r>
            <a:r>
              <a:rPr b="1" i="1" lang="zh-CN" sz="4400" spc="-1" strike="noStrike">
                <a:solidFill>
                  <a:srgbClr val="006600"/>
                </a:solidFill>
                <a:latin typeface="Arial"/>
                <a:ea typeface="幼圆"/>
              </a:rPr>
              <a:t>雨</a:t>
            </a:r>
            <a:r>
              <a:rPr b="1" i="1" lang="zh-CN" sz="4400" spc="-1" strike="noStrike">
                <a:solidFill>
                  <a:srgbClr val="ff6600"/>
                </a:solidFill>
                <a:latin typeface="Arial"/>
                <a:ea typeface="幼圆"/>
              </a:rPr>
              <a:t>”</a:t>
            </a:r>
            <a:r>
              <a:rPr b="1" i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325440"/>
            <a:ext cx="566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00"/>
                </a:solidFill>
                <a:latin typeface="Arial"/>
                <a:ea typeface="幼圆"/>
              </a:rPr>
              <a:t>古诗文中的“</a:t>
            </a:r>
            <a:r>
              <a:rPr b="1" i="1" lang="zh-CN" sz="4400" spc="-1" strike="noStrike">
                <a:solidFill>
                  <a:srgbClr val="006600"/>
                </a:solidFill>
                <a:latin typeface="Arial"/>
                <a:ea typeface="幼圆"/>
              </a:rPr>
              <a:t>雨</a:t>
            </a:r>
            <a:r>
              <a:rPr b="1" i="1" lang="zh-CN" sz="4400" spc="-1" strike="noStrike">
                <a:solidFill>
                  <a:srgbClr val="ff6600"/>
                </a:solidFill>
                <a:latin typeface="Arial"/>
                <a:ea typeface="幼圆"/>
              </a:rPr>
              <a:t>”</a:t>
            </a:r>
            <a:r>
              <a:rPr b="1" i="1" lang="zh-CN" sz="3600" spc="-1" strike="noStrike">
                <a:solidFill>
                  <a:srgbClr val="ff6600"/>
                </a:solidFill>
                <a:latin typeface="Arial"/>
                <a:ea typeface="幼圆"/>
              </a:rPr>
              <a:t>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066680"/>
            <a:ext cx="8659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春潮带雨晚来急，野渡无人舟自横。（韦应物《滁州西涧》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明时节雨纷纷，路上行人欲断魂。（杜牧《清明》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朝四百八十寺，多少楼台烟雨中。（杜牧《江南春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山河破碎风飘絮，身世浮尘雨打萍。（文天祥《过零丁洋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若夫霪雨霏霏，连月不开。        （范仲淹《岳阳楼记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一蓑烟雨任平生。     （苏轼《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楷体_GB2312"/>
              </a:rPr>
              <a:t>定风波（沙湖道中遇雨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夜阑卧听风吹雨，铁马冰河入梦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（陆游《十一月四日风雨大作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床头屋漏无干处，雨脚如麻未断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杜甫《茅屋为秋风所破歌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3600" y="57150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  <a:ea typeface="幼圆"/>
              </a:rPr>
              <a:t>你能品出这雨中多少欢喜多少忧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21402000">
            <a:off x="3203280" y="4149360"/>
            <a:ext cx="4356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听雨诉情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087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9051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《春》        （朱自清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《雨说》      （郑愁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《雨的随想》   （汪国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《听听那冷雨》 （余光中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行楷"/>
              </a:rPr>
              <a:t>        《雨巷》       （戴望舒）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62064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精彩推荐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5:20:06Z</dcterms:created>
  <dc:creator>罗辑</dc:creator>
  <dc:description/>
  <dc:language>en-US</dc:language>
  <cp:lastModifiedBy>微软中国</cp:lastModifiedBy>
  <dcterms:modified xsi:type="dcterms:W3CDTF">2007-10-14T05:03:59Z</dcterms:modified>
  <cp:revision>54</cp:revision>
  <dc:subject/>
  <dc:title>幻灯片 1</dc:title>
</cp:coreProperties>
</file>