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3.png" ContentType="image/png"/>
  <Override PartName="/ppt/media/image11.gif" ContentType="image/gif"/>
  <Override PartName="/ppt/media/image14.png" ContentType="image/png"/>
  <Override PartName="/ppt/media/image9.png" ContentType="image/png"/>
  <Override PartName="/ppt/media/image7.gif" ContentType="image/gif"/>
  <Override PartName="/ppt/media/image8.png" ContentType="image/pn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73F-88BE-4C74-8464-55E5A9A5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3CB7-893B-4747-9883-5B28EC9F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DDCE-6270-446D-81FD-3CD5DE0E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BBD9-2F6D-464F-BEB8-922BDBDD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82C1-209A-44F1-91EA-9251CFEF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BE97-2079-4D11-BFB2-B22CCA93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55F4-3CD4-44EC-89ED-1833C6A3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082D-26BB-463A-9711-3258AC97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CF2B-2E05-4E51-8431-E97743F5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5C7-41A9-401C-8222-6DAC239D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AC78-6772-46A0-86CC-CCD6A45C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4E7-6489-44B8-950B-25893528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3804-085A-4153-BC81-BDF7992CED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1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SzPct val="50000"/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1928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SzPct val="50000"/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215892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SzPct val="50000"/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69892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SzPct val="50000"/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69892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SzPct val="50000"/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69892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SzPct val="50000"/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5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51640" y="6245280"/>
            <a:ext cx="2135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6000" y="980640"/>
            <a:ext cx="1295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89000"/>
            <a:ext cx="120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33336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67280" y="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52480" y="515772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城东中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郑国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8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38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38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38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16000" y="2349360"/>
            <a:ext cx="7129440" cy="3024360"/>
          </a:xfrm>
          <a:prstGeom prst="cloudCallout">
            <a:avLst>
              <a:gd name="adj1" fmla="val -38087"/>
              <a:gd name="adj2" fmla="val 2754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7440" y="2637000"/>
            <a:ext cx="31388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ff"/>
                </a:solidFill>
                <a:latin typeface="Arial"/>
                <a:ea typeface="华文新魏"/>
              </a:rPr>
              <a:t>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f0d43"/>
                </a:solidFill>
                <a:latin typeface="Arial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ef0d43"/>
                </a:solidFill>
                <a:latin typeface="Arial"/>
                <a:ea typeface="楷体_GB2312"/>
              </a:rPr>
              <a:t>不写错别字，能正确使用标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f0d43"/>
                </a:solidFill>
                <a:latin typeface="Arial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ef0d43"/>
                </a:solidFill>
                <a:latin typeface="Arial"/>
                <a:ea typeface="楷体_GB2312"/>
              </a:rPr>
              <a:t>条理清晰，敢说真话，肯吐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f0d43"/>
                </a:solidFill>
                <a:latin typeface="Arial"/>
                <a:ea typeface="楷体_GB2312"/>
              </a:rPr>
              <a:t>声，有真情实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f0d43"/>
                </a:solidFill>
                <a:latin typeface="Arial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ef0d43"/>
                </a:solidFill>
                <a:latin typeface="Arial"/>
                <a:ea typeface="楷体_GB2312"/>
              </a:rPr>
              <a:t>交给父母阅</a:t>
            </a:r>
            <a:r>
              <a:rPr b="0" lang="zh-CN" sz="2800" spc="-1" strike="noStrike">
                <a:solidFill>
                  <a:srgbClr val="ef0d43"/>
                </a:solidFill>
                <a:latin typeface="Arial"/>
              </a:rPr>
              <a:t>评</a:t>
            </a:r>
            <a:r>
              <a:rPr b="0" lang="zh-CN" sz="2800" spc="-1" strike="noStrike">
                <a:solidFill>
                  <a:srgbClr val="ef0d43"/>
                </a:solidFill>
                <a:latin typeface="Arial"/>
                <a:ea typeface="楷体_GB2312"/>
              </a:rPr>
              <a:t>、反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765000"/>
            <a:ext cx="7920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7125"/>
                </a:solidFill>
                <a:latin typeface="Arial"/>
                <a:ea typeface="华文行楷"/>
              </a:rPr>
              <a:t>给自己的爸爸妈妈写一封信，说说藏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7125"/>
                </a:solidFill>
                <a:latin typeface="Arial"/>
                <a:ea typeface="华文行楷"/>
              </a:rPr>
              <a:t>心里很久却没有机会表达的爱与感激吧</a:t>
            </a:r>
            <a:r>
              <a:rPr b="0" lang="zh-CN" sz="3200" spc="-1" strike="noStrike">
                <a:solidFill>
                  <a:srgbClr val="257125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1125360"/>
            <a:ext cx="8820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5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珍视亲情，体会</a:t>
            </a:r>
            <a:r>
              <a:rPr b="0" i="1" lang="zh-CN" sz="3500" spc="-1" strike="noStrike">
                <a:solidFill>
                  <a:srgbClr val="000000"/>
                </a:solidFill>
                <a:latin typeface="Arial"/>
                <a:ea typeface="华文行楷"/>
              </a:rPr>
              <a:t>亲情</a:t>
            </a:r>
            <a:r>
              <a:rPr b="0" i="1" lang="zh-CN" sz="35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，感恩</a:t>
            </a:r>
            <a:r>
              <a:rPr b="0" i="1" lang="zh-CN" sz="3500" spc="-1" strike="noStrike">
                <a:solidFill>
                  <a:srgbClr val="000000"/>
                </a:solidFill>
                <a:latin typeface="Arial"/>
                <a:ea typeface="华文行楷"/>
              </a:rPr>
              <a:t>亲情</a:t>
            </a:r>
            <a:r>
              <a:rPr b="0" i="1" lang="zh-CN" sz="35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，报答</a:t>
            </a:r>
            <a:r>
              <a:rPr b="0" i="1" lang="zh-CN" sz="3500" spc="-1" strike="noStrike">
                <a:solidFill>
                  <a:srgbClr val="000000"/>
                </a:solidFill>
                <a:latin typeface="Arial"/>
                <a:ea typeface="华文行楷"/>
              </a:rPr>
              <a:t>亲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18900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感恩宣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76360" y="220500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彩云"/>
              </a:rPr>
              <a:t>尊师长，勤学习，让父母开心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彩云"/>
              </a:rPr>
              <a:t>遇困难，能战胜，让父母称心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彩云"/>
              </a:rPr>
              <a:t>有错误，善改正，让父母放心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彩云"/>
              </a:rPr>
              <a:t>常问好，讲礼貌，让父母舒心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彩云"/>
              </a:rPr>
              <a:t>少空谈，多帮忙，让父母省心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彩云"/>
              </a:rPr>
              <a:t>遇矛盾，能宽容，让父母顺心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 rot="5400000">
            <a:off x="-577080" y="3682080"/>
            <a:ext cx="3168720" cy="50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256d5c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从现在开始 </a:t>
            </a:r>
            <a:endParaRPr b="0" lang="en-US" sz="1800" spc="1" strike="noStrike">
              <a:ln w="12600">
                <a:solidFill>
                  <a:srgbClr val="256d5c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11280" y="5373720"/>
            <a:ext cx="790560" cy="735120"/>
            <a:chOff x="611280" y="5373720"/>
            <a:chExt cx="790560" cy="735120"/>
          </a:xfrm>
        </p:grpSpPr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611280" y="5373720"/>
              <a:ext cx="790560" cy="7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 txBox="1"/>
            <p:nvPr/>
          </p:nvSpPr>
          <p:spPr>
            <a:xfrm>
              <a:off x="611280" y="5373720"/>
              <a:ext cx="790560" cy="73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101080" y="1628640"/>
            <a:ext cx="792000" cy="3311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79600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289536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abae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0"/>
            <a:ext cx="78548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赵鼓瑟（儿子）：爸爸、妈妈、唔、姐姐哦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赵丝弦（女儿）：我爱我的家 弟弟爸爸妈妈 爱是不吵架常常陪我玩耍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麦玮婷（妻子）：我爱我的家 儿子女儿我的他 爱就是忍耐家庭所有繁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赵明（丈夫）：我爱我的家 儿子女儿我亲爱的她 爱就是付出让家不缺乏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合唱：让爱天天住你家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让爱天天住我家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不分日夜秋冬春夏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全心全意爱我们的家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让爱天天住你家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让爱天天住我家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充满快乐拥有平安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让爱永远住我们的家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赵丝弦（女儿）：我爱我的家 弟弟爸爸妈妈 爱是不嫉妒弟弟有啥我有啥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麦玮婷（妻子）：我爱我的家 儿子女儿我的他 爱就是感谢不记任何代价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赵明（丈夫）：我爱我的家 儿子女儿我亲爱的她 爱就是珍惜时光和年华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合唱：让爱天天住你家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让爱天天住我家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不分日夜秋冬春夏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全心全意爱我们的家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让爱天天住你家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让爱天天住我家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充满快乐拥有平安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让爱永远住我们的家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赵丝弦（女儿）：让爱永远住我们的家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4221000"/>
            <a:ext cx="3240000" cy="2160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716360" y="206064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05cec"/>
                </a:solidFill>
                <a:latin typeface="Arial"/>
                <a:ea typeface="华文新魏"/>
              </a:rPr>
              <a:t>我唱我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64328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49 0.38266 C -0.05538 0.36832 0.0243 0.35399 0.03333 0.31514 C 0.04236 0.2763 -0.07153 0.20277 -0.08108 0.15029 C -0.09063 0.0978 -0.03733 0.02497 -0.02379 3.12139E-006 C -0.01024 -0.02497 -0.00521 -0.0007 1.94444E-006 3.12139E-006 E">
                                      <p:cBhvr>
                                        <p:cTn id="3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8116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-6543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6877080" cy="6858000"/>
            <a:chOff x="0" y="0"/>
            <a:chExt cx="6877080" cy="685800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77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 txBox="1"/>
            <p:nvPr/>
          </p:nvSpPr>
          <p:spPr>
            <a:xfrm>
              <a:off x="0" y="0"/>
              <a:ext cx="687708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513560" y="1844640"/>
            <a:ext cx="79236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vert="eaVert">
            <a:noAutofit/>
          </a:bodyPr>
          <a:p>
            <a:pPr>
              <a:spcBef>
                <a:spcPts val="2551"/>
              </a:spcBef>
              <a:buClr>
                <a:srgbClr val="ffffff"/>
              </a:buClr>
              <a:buFont typeface="Arial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ffff"/>
                </a:solidFill>
                <a:latin typeface="Arial"/>
                <a:ea typeface="楷体_GB2312"/>
              </a:rPr>
              <a:t>有一种等待叫希望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667640" y="836640"/>
            <a:ext cx="522360" cy="522360"/>
            <a:chOff x="7667640" y="836640"/>
            <a:chExt cx="522360" cy="52236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7667640" y="836640"/>
              <a:ext cx="522360" cy="5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 txBox="1"/>
            <p:nvPr/>
          </p:nvSpPr>
          <p:spPr>
            <a:xfrm>
              <a:off x="7667640" y="83664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2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1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-6543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940360" y="-171360"/>
            <a:ext cx="1511280" cy="2038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093080" y="37162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1640" y="4292640"/>
            <a:ext cx="865080" cy="1081080"/>
          </a:xfrm>
          <a:custGeom>
            <a:avLst/>
            <a:gdLst>
              <a:gd name="textAreaLeft" fmla="*/ 197280 w 865080"/>
              <a:gd name="textAreaRight" fmla="*/ 667800 w 865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33577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32000" y="1125360"/>
            <a:ext cx="151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方正舒体"/>
              </a:rPr>
              <a:t>上网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方正舒体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方正舒体"/>
              <a:ea typeface="方正舒体"/>
            </a:endParaRPr>
          </a:p>
        </p:txBody>
      </p:sp>
      <p:sp>
        <p:nvSpPr>
          <p:cNvPr id="104" name="Lock"/>
          <p:cNvSpPr/>
          <p:nvPr/>
        </p:nvSpPr>
        <p:spPr>
          <a:xfrm>
            <a:off x="3348000" y="260280"/>
            <a:ext cx="2665440" cy="2016360"/>
          </a:xfrm>
          <a:prstGeom prst="pie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708360" y="1197000"/>
            <a:ext cx="1871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隶书"/>
              </a:rPr>
              <a:t>隐私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隶书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隶书"/>
              <a:ea typeface="隶书"/>
            </a:endParaRPr>
          </a:p>
        </p:txBody>
      </p:sp>
      <p:sp>
        <p:nvSpPr>
          <p:cNvPr id="106" name=""/>
          <p:cNvSpPr txBox="1"/>
          <p:nvPr/>
        </p:nvSpPr>
        <p:spPr>
          <a:xfrm rot="5400000">
            <a:off x="6060600" y="2588400"/>
            <a:ext cx="42494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有一种关爱叫唠叨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451640" y="4941720"/>
            <a:ext cx="1692360" cy="1678320"/>
            <a:chOff x="7451640" y="4941720"/>
            <a:chExt cx="1692360" cy="1678320"/>
          </a:xfrm>
        </p:grpSpPr>
        <p:pic>
          <p:nvPicPr>
            <p:cNvPr id="108" name="" descr=""/>
            <p:cNvPicPr/>
            <p:nvPr/>
          </p:nvPicPr>
          <p:blipFill>
            <a:blip r:embed="rId6"/>
            <a:stretch/>
          </p:blipFill>
          <p:spPr>
            <a:xfrm>
              <a:off x="7451640" y="4941720"/>
              <a:ext cx="1692360" cy="16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 txBox="1"/>
            <p:nvPr/>
          </p:nvSpPr>
          <p:spPr>
            <a:xfrm>
              <a:off x="7451640" y="4941720"/>
              <a:ext cx="1692360" cy="167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276720" y="4853160"/>
            <a:ext cx="1923840" cy="2004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1116000" y="1916280"/>
            <a:ext cx="1584360" cy="1152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132000" y="2421000"/>
            <a:ext cx="1368720" cy="2592360"/>
          </a:xfrm>
          <a:prstGeom prst="cloudCallout">
            <a:avLst>
              <a:gd name="adj1" fmla="val -45013"/>
              <a:gd name="adj2" fmla="val 63351"/>
            </a:avLst>
          </a:prstGeom>
          <a:gradFill rotWithShape="0">
            <a:gsLst>
              <a:gs pos="0">
                <a:srgbClr val="e8f4f5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57125"/>
                </a:solidFill>
                <a:latin typeface="Arial"/>
                <a:ea typeface="华文行楷"/>
              </a:rPr>
              <a:t>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57125"/>
                </a:solidFill>
                <a:latin typeface="Arial"/>
                <a:ea typeface="华文行楷"/>
              </a:rPr>
              <a:t>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57125"/>
                </a:solidFill>
                <a:latin typeface="Arial"/>
                <a:ea typeface="华文行楷"/>
              </a:rPr>
              <a:t>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89320" y="3382920"/>
            <a:ext cx="4586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476280"/>
            <a:ext cx="8497800" cy="53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vert="eaVert">
            <a:noAutofit/>
          </a:bodyPr>
          <a:p>
            <a:pPr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华文行楷"/>
              </a:rPr>
              <a:t>            </a:t>
            </a:r>
            <a:r>
              <a:rPr b="0" lang="zh-CN" sz="3600" spc="-1" strike="noStrike">
                <a:solidFill>
                  <a:srgbClr val="cc99ff"/>
                </a:solidFill>
                <a:latin typeface="Arial"/>
                <a:ea typeface="华文行楷"/>
              </a:rPr>
              <a:t>照片记录着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99ff"/>
                </a:solidFill>
                <a:latin typeface="Arial"/>
                <a:ea typeface="华文行楷"/>
              </a:rPr>
              <a:t>            </a:t>
            </a:r>
            <a:r>
              <a:rPr b="0" lang="zh-CN" sz="3600" spc="-1" strike="noStrike">
                <a:solidFill>
                  <a:srgbClr val="cc99ff"/>
                </a:solidFill>
                <a:latin typeface="Arial"/>
                <a:ea typeface="华文行楷"/>
              </a:rPr>
              <a:t>记录着我们的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99ff"/>
                </a:solidFill>
                <a:latin typeface="Arial"/>
                <a:ea typeface="华文行楷"/>
              </a:rPr>
              <a:t>            </a:t>
            </a:r>
            <a:r>
              <a:rPr b="0" lang="zh-CN" sz="3600" spc="-1" strike="noStrike">
                <a:solidFill>
                  <a:srgbClr val="cc99ff"/>
                </a:solidFill>
                <a:latin typeface="Arial"/>
                <a:ea typeface="华文行楷"/>
              </a:rPr>
              <a:t>去和现在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99ff"/>
                </a:solidFill>
                <a:latin typeface="Arial"/>
                <a:ea typeface="华文行楷"/>
              </a:rPr>
              <a:t>  </a:t>
            </a:r>
            <a:r>
              <a:rPr b="0" lang="zh-CN" sz="3600" spc="-1" strike="noStrike">
                <a:solidFill>
                  <a:srgbClr val="cc99ff"/>
                </a:solidFill>
                <a:latin typeface="Arial"/>
                <a:ea typeface="华文行楷"/>
              </a:rPr>
              <a:t>不管它是苦涩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99ff"/>
                </a:solidFill>
                <a:latin typeface="Arial"/>
                <a:ea typeface="华文行楷"/>
              </a:rPr>
              <a:t>  </a:t>
            </a:r>
            <a:r>
              <a:rPr b="0" lang="zh-CN" sz="3600" spc="-1" strike="noStrike">
                <a:solidFill>
                  <a:srgbClr val="cc99ff"/>
                </a:solidFill>
                <a:latin typeface="Arial"/>
                <a:ea typeface="华文行楷"/>
              </a:rPr>
              <a:t>亦或是甜蜜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99ff"/>
                </a:solidFill>
                <a:latin typeface="Arial"/>
                <a:ea typeface="华文行楷"/>
              </a:rPr>
              <a:t>  </a:t>
            </a:r>
            <a:r>
              <a:rPr b="0" lang="zh-CN" sz="3600" spc="-1" strike="noStrike">
                <a:solidFill>
                  <a:srgbClr val="cc99ff"/>
                </a:solidFill>
                <a:latin typeface="Arial"/>
                <a:ea typeface="华文行楷"/>
              </a:rPr>
              <a:t>都将是我们心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99ff"/>
                </a:solidFill>
                <a:latin typeface="Arial"/>
                <a:ea typeface="华文行楷"/>
              </a:rPr>
              <a:t>  </a:t>
            </a:r>
            <a:r>
              <a:rPr b="0" lang="zh-CN" sz="3600" spc="-1" strike="noStrike">
                <a:solidFill>
                  <a:srgbClr val="cc99ff"/>
                </a:solidFill>
                <a:latin typeface="Arial"/>
                <a:ea typeface="华文行楷"/>
              </a:rPr>
              <a:t>珍藏的记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99ff"/>
                </a:solidFill>
                <a:latin typeface="Arial"/>
                <a:ea typeface="华文行楷"/>
              </a:rPr>
              <a:t>  </a:t>
            </a:r>
            <a:r>
              <a:rPr b="0" lang="zh-CN" sz="3600" spc="-1" strike="noStrike">
                <a:solidFill>
                  <a:srgbClr val="cc99ff"/>
                </a:solidFill>
                <a:latin typeface="Arial"/>
                <a:ea typeface="华文行楷"/>
              </a:rPr>
              <a:t>请打开你的记忆之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99ff"/>
                </a:solidFill>
                <a:latin typeface="Arial"/>
                <a:ea typeface="华文行楷"/>
              </a:rPr>
              <a:t>  </a:t>
            </a:r>
            <a:r>
              <a:rPr b="0" lang="zh-CN" sz="3600" spc="-1" strike="noStrike">
                <a:solidFill>
                  <a:srgbClr val="cc99ff"/>
                </a:solidFill>
                <a:latin typeface="Arial"/>
                <a:ea typeface="华文行楷"/>
              </a:rPr>
              <a:t>让我们一起回想，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99ff"/>
                </a:solidFill>
                <a:latin typeface="Arial"/>
                <a:ea typeface="华文行楷"/>
              </a:rPr>
              <a:t>  </a:t>
            </a:r>
            <a:r>
              <a:rPr b="0" lang="zh-CN" sz="3600" spc="-1" strike="noStrike">
                <a:solidFill>
                  <a:srgbClr val="cc99ff"/>
                </a:solidFill>
                <a:latin typeface="Arial"/>
                <a:ea typeface="华文行楷"/>
              </a:rPr>
              <a:t>一起倾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71640" y="5157720"/>
            <a:ext cx="374508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99cc00"/>
                </a:solidFill>
                <a:latin typeface="Arial"/>
                <a:ea typeface="楷体_GB2312"/>
              </a:rPr>
              <a:t>老照片的故事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700"/>
                            </p:stCondLst>
                            <p:childTnLst>
                              <p:par>
                                <p:cTn id="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8360" y="2358720"/>
            <a:ext cx="842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257125"/>
                </a:solidFill>
                <a:latin typeface="Arial"/>
              </a:rPr>
              <a:t>我家三口人，爸爸、妈妈和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57125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257125"/>
                </a:solidFill>
                <a:latin typeface="Arial"/>
              </a:rPr>
              <a:t>我家住六层顶楼，冬冷夏热，两间卧室一个小厅，厨房不大厕所很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57125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257125"/>
                </a:solidFill>
                <a:latin typeface="Arial"/>
              </a:rPr>
              <a:t>爸爸很勤奋，总是见他伏案工作。可家里没人时，他也会偷懒看电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57125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257125"/>
                </a:solidFill>
                <a:latin typeface="Arial"/>
              </a:rPr>
              <a:t>妈妈很懒惰，连备课也躺在床上，她嫌她的写字台光线不好，我和爸爸不敢说她，怕她惹急了不给我们做饭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57125"/>
                </a:solidFill>
                <a:latin typeface="Arial"/>
              </a:rPr>
              <a:t>      </a:t>
            </a:r>
            <a:r>
              <a:rPr b="0" lang="zh-CN" sz="1600" spc="-1" strike="noStrike">
                <a:solidFill>
                  <a:srgbClr val="257125"/>
                </a:solidFill>
                <a:latin typeface="Arial"/>
              </a:rPr>
              <a:t>我最幸福，有单间儿，有写字台有书架有钢琴有床有床头柜有大笨熊。我最喜欢一边抱着熊，一边听音乐，一边吃冰淇凌，一边趴在床上看小说，可惜这只是我的生命狂想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57125"/>
                </a:solidFill>
                <a:latin typeface="Arial"/>
              </a:rPr>
              <a:t>      </a:t>
            </a:r>
            <a:r>
              <a:rPr b="0" lang="zh-CN" sz="1600" spc="-1" strike="noStrike">
                <a:solidFill>
                  <a:srgbClr val="257125"/>
                </a:solidFill>
                <a:latin typeface="Arial"/>
              </a:rPr>
              <a:t>爸爸妈妈爱吵架，并以此为乐（至少我是这么认为），一点鸡毛蒜皮的小事能吵</a:t>
            </a:r>
            <a:r>
              <a:rPr b="0" lang="zh-CN" sz="1600" spc="-1" strike="noStrike">
                <a:solidFill>
                  <a:srgbClr val="257125"/>
                </a:solidFill>
                <a:latin typeface="Arial"/>
              </a:rPr>
              <a:t>20</a:t>
            </a:r>
            <a:r>
              <a:rPr b="0" lang="zh-CN" sz="1600" spc="-1" strike="noStrike">
                <a:solidFill>
                  <a:srgbClr val="257125"/>
                </a:solidFill>
                <a:latin typeface="Arial"/>
              </a:rPr>
              <a:t>分钟。一般一天有这么几场：早上起来吵一架，晚上回家吵一架，厨房里面吵一架，饭桌上吵一架，茶余饭后再吵一架，晚上关灯睡觉之前还要吵一架，也许连做梦都要吵架。好在二人都是君子，只动口不动手，所以我家的家具器皿比较安全。但吵架归吵架，真要有谁病了，另一位则端茶倒水关怀备至。凭心而论，爸爸妈妈还算是一对模范夫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57125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257125"/>
                </a:solidFill>
                <a:latin typeface="Arial"/>
              </a:rPr>
              <a:t>我和爸爸平时是“铁哥们儿”，互相叫外号。我们惟一的冲突是在吃完饭决定谁刷碗的时候，都犯懒，就只好猜拳决定。我一向主张一局一胜，速战速决。而爸爸老玩五局三胜，还要玩三盘，很会给自己留后路，狡猾狡猾的。平常虽好得没话说，但我若真犯了错，爸爸也会严厉起来，狠狠批我一顿，丝毫不留情面，不讲“哥们儿”义气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57125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257125"/>
                </a:solidFill>
                <a:latin typeface="Arial"/>
              </a:rPr>
              <a:t>妈妈老对我唠唠叨叨，而且唠叨的范围极广。这两天她心血来潮看起了佛教书。每看完一章，都要发发感慨：“哎呀，佛说得真对！”饭桌上，经常引用佛的话教育我。可以总结为：“佛说了……”“佛又说……”“佛接着说……”“……佛还说……”“佛继续说……”“佛最后说……”“佛总结说……”“佛强调说……”“佛顺便说……”“佛补充说……”话虽有些多，但都能说到点子上，不乏精辟之语，令我大彻大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57125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257125"/>
                </a:solidFill>
                <a:latin typeface="Arial"/>
              </a:rPr>
              <a:t>三个人真是一个奇妙的组合。冤家间的互爱，“铁哥们儿”的斥责，唠叨碎语的教诲，组成了一个温暖而不乏幽默的家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51280" y="260280"/>
            <a:ext cx="1657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648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我的家</a:t>
            </a:r>
            <a:endParaRPr b="0" lang="en-US" sz="1800" spc="1" strike="noStrike">
              <a:ln w="6480">
                <a:solidFill>
                  <a:srgbClr val="0080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900000" y="590400"/>
          <a:ext cx="7162920" cy="626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90400"/>
                    <a:ext cx="7162920" cy="62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028000" y="0"/>
            <a:ext cx="1116000" cy="6021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411280" y="549360"/>
            <a:ext cx="4464360" cy="71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说真话，诉真情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556000" y="2276640"/>
            <a:ext cx="367164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24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297b2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用最真实、最感人</a:t>
            </a:r>
            <a:endParaRPr b="0" lang="en-US" sz="1800" spc="1" strike="noStrike">
              <a:ln w="324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297b2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24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297b2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的语言描叙“家”</a:t>
            </a:r>
            <a:endParaRPr b="0" lang="en-US" sz="1800" spc="1" strike="noStrike">
              <a:ln w="324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297b2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24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297b2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的故事。题目</a:t>
            </a:r>
            <a:endParaRPr b="0" lang="en-US" sz="1800" spc="1" strike="noStrike">
              <a:ln w="324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297b2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24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297b2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自拟（</a:t>
            </a:r>
            <a:r>
              <a:rPr b="0" lang="en-US" sz="1800" spc="1" strike="noStrike">
                <a:ln w="324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297b2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500</a:t>
            </a:r>
            <a:r>
              <a:rPr b="0" lang="zh-CN" sz="1800" spc="1" strike="noStrike">
                <a:ln w="324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297b2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字</a:t>
            </a:r>
            <a:endParaRPr b="0" lang="en-US" sz="1800" spc="1" strike="noStrike">
              <a:ln w="324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297b2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24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297b2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左右）</a:t>
            </a:r>
            <a:endParaRPr b="0" lang="en-US" sz="1800" spc="1" strike="noStrike">
              <a:ln w="324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297b2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56000" y="333360"/>
            <a:ext cx="61912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Arial"/>
              </a:rPr>
              <a:t>                      </a:t>
            </a:r>
            <a:r>
              <a:rPr b="1" lang="zh-CN" sz="2000" spc="-1" strike="noStrike">
                <a:solidFill>
                  <a:srgbClr val="3366ff"/>
                </a:solidFill>
                <a:latin typeface="Arial"/>
              </a:rPr>
              <a:t>作文评分细则   </a:t>
            </a:r>
            <a:r>
              <a:rPr b="0" lang="zh-CN" sz="1800" spc="-1" strike="noStrike">
                <a:solidFill>
                  <a:srgbClr val="3366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3366ff"/>
                </a:solidFill>
                <a:latin typeface="Arial"/>
              </a:rPr>
              <a:t>满分</a:t>
            </a:r>
            <a:r>
              <a:rPr b="0" lang="zh-CN" sz="1800" spc="-1" strike="noStrike">
                <a:solidFill>
                  <a:srgbClr val="3366ff"/>
                </a:solidFill>
                <a:latin typeface="Arial"/>
              </a:rPr>
              <a:t>100</a:t>
            </a:r>
            <a:r>
              <a:rPr b="0" lang="zh-CN" sz="1800" spc="-1" strike="noStrike">
                <a:solidFill>
                  <a:srgbClr val="3366ff"/>
                </a:solidFill>
                <a:latin typeface="Arial"/>
              </a:rPr>
              <a:t>分</a:t>
            </a:r>
            <a:r>
              <a:rPr b="0" lang="zh-CN" sz="1800" spc="-1" strike="noStrike">
                <a:solidFill>
                  <a:srgbClr val="3366ff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3366ff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．文从字顺，满分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分。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错别字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个扣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分，病句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句扣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分。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．叙事具体，能交代清楚事情的来龙去脉，满分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．能体现出“我爱我家”或“我爱家人”的主题，有真情实感，满分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．内容充实，文面工整，满分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分。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内容充实，文面工整，满分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分。以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480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字计，每少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字扣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分；文面酌情，最多扣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分。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ff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3366ff"/>
                </a:solidFill>
                <a:latin typeface="Arial"/>
              </a:rPr>
              <a:t>『自评、互评』</a:t>
            </a:r>
            <a:r>
              <a:rPr b="0" lang="zh-CN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① </a:t>
            </a:r>
            <a:r>
              <a:rPr b="1" lang="zh-CN" sz="1800" spc="-1" strike="noStrike">
                <a:solidFill>
                  <a:srgbClr val="0036e2"/>
                </a:solidFill>
                <a:latin typeface="Arial"/>
              </a:rPr>
              <a:t>自评：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．</a:t>
            </a:r>
            <a:r>
              <a:rPr b="0" lang="zh-CN" sz="1800" spc="-1" strike="noStrike">
                <a:solidFill>
                  <a:srgbClr val="0036e2"/>
                </a:solidFill>
                <a:latin typeface="宋体"/>
              </a:rPr>
              <a:t>发现和修改错别字、病句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6e2"/>
                </a:solidFill>
                <a:latin typeface="宋体"/>
              </a:rPr>
              <a:t>B</a:t>
            </a:r>
            <a:r>
              <a:rPr b="0" lang="zh-CN" sz="1800" spc="-1" strike="noStrike">
                <a:solidFill>
                  <a:srgbClr val="0036e2"/>
                </a:solidFill>
                <a:latin typeface="宋体"/>
              </a:rPr>
              <a:t>．细心阅读，根据评分细则对自己的作文逐项评价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② </a:t>
            </a:r>
            <a:r>
              <a:rPr b="1" lang="zh-CN" sz="1800" spc="-1" strike="noStrike">
                <a:solidFill>
                  <a:srgbClr val="0036e2"/>
                </a:solidFill>
                <a:latin typeface="Arial"/>
              </a:rPr>
              <a:t>互评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．同桌互评，商讨病句修改，再四人一小组共同评改，评定成绩，写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字总评，四人签名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36e2"/>
                </a:solidFill>
                <a:latin typeface="Arial"/>
              </a:rPr>
              <a:t>．各大组挑选出范文一篇，并推选主讲人讲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 rot="5400000">
            <a:off x="-613080" y="2852640"/>
            <a:ext cx="482436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2232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>
                        <a:alpha val="86274"/>
                      </a:srgbClr>
                    </a:gs>
                    <a:gs pos="50000">
                      <a:srgbClr val="ffcc00"/>
                    </a:gs>
                    <a:gs pos="100000">
                      <a:srgbClr val="520402">
                        <a:alpha val="86274"/>
                      </a:srgbClr>
                    </a:gs>
                  </a:gsLst>
                  <a:lin ang="13500000"/>
                </a:gradFill>
                <a:latin typeface="华文行楷"/>
              </a:rPr>
              <a:t>互动评改，推荐展评</a:t>
            </a:r>
            <a:endParaRPr b="0" lang="en-US" sz="2400" spc="1" strike="noStrike">
              <a:ln w="2232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>
                      <a:alpha val="86274"/>
                    </a:srgbClr>
                  </a:gs>
                  <a:gs pos="50000">
                    <a:srgbClr val="ffcc00"/>
                  </a:gs>
                  <a:gs pos="100000">
                    <a:srgbClr val="520402">
                      <a:alpha val="86274"/>
                    </a:srgbClr>
                  </a:gs>
                </a:gsLst>
                <a:lin ang="13500000"/>
              </a:gradFill>
              <a:latin typeface="华文行楷"/>
              <a:ea typeface="华文行楷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404640"/>
            <a:ext cx="39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05cec"/>
                </a:solidFill>
                <a:latin typeface="Times New Roman"/>
                <a:ea typeface="华文行楷"/>
              </a:rPr>
              <a:t>悟道践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844640"/>
            <a:ext cx="863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3ddd"/>
                </a:solidFill>
                <a:latin typeface="Times New Roman"/>
                <a:ea typeface="华文新魏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3350880"/>
            <a:ext cx="7920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600" spc="-1" strike="noStrike">
                <a:solidFill>
                  <a:srgbClr val="206220"/>
                </a:solidFill>
                <a:latin typeface="隶书"/>
                <a:ea typeface="隶书"/>
              </a:rPr>
              <a:t>家是温馨的港湾，当你受伤时，会想到它；家是心情的驿站，当你郁闷时，会记起它。家中有唠叨的母亲，严厉的父亲，当然还有一个调皮懂事的你。我们每一个人都应从家庭中得到过深深的母爱，浓浓的父爱，都从家中一点一滴的小事，小物品中感受过家庭的温馨，当然也有一些同学认为，家中也少不了烦恼的变奏曲，在家里每天都会发生普通而又感人的故事。请同学们敞开心扉</a:t>
            </a:r>
            <a:r>
              <a:rPr b="0" lang="zh-CN" sz="2600" spc="-1" strike="noStrike">
                <a:solidFill>
                  <a:srgbClr val="206220"/>
                </a:solidFill>
                <a:latin typeface="隶书"/>
                <a:ea typeface="隶书"/>
              </a:rPr>
              <a:t>,</a:t>
            </a:r>
            <a:r>
              <a:rPr b="0" lang="zh-CN" sz="2600" spc="-1" strike="noStrike">
                <a:solidFill>
                  <a:srgbClr val="206220"/>
                </a:solidFill>
                <a:latin typeface="隶书"/>
                <a:ea typeface="隶书"/>
              </a:rPr>
              <a:t>课后继续以</a:t>
            </a:r>
            <a:r>
              <a:rPr b="1" lang="zh-CN" sz="2600" spc="-1" strike="noStrike">
                <a:solidFill>
                  <a:srgbClr val="206220"/>
                </a:solidFill>
                <a:latin typeface="隶书"/>
                <a:ea typeface="隶书"/>
              </a:rPr>
              <a:t>   </a:t>
            </a:r>
            <a:r>
              <a:rPr b="0" lang="zh-CN" sz="2600" spc="-1" strike="noStrike">
                <a:solidFill>
                  <a:srgbClr val="206220"/>
                </a:solidFill>
                <a:latin typeface="隶书"/>
                <a:ea typeface="隶书"/>
              </a:rPr>
              <a:t>为话题，谈谈你对家庭的看法和</a:t>
            </a:r>
            <a:r>
              <a:rPr b="0" lang="zh-CN" sz="2800" spc="-1" strike="noStrike">
                <a:solidFill>
                  <a:srgbClr val="7d1569"/>
                </a:solidFill>
                <a:latin typeface="黑体"/>
                <a:ea typeface="黑体"/>
              </a:rPr>
              <a:t>新</a:t>
            </a:r>
            <a:r>
              <a:rPr b="0" lang="zh-CN" sz="2600" spc="-1" strike="noStrike">
                <a:solidFill>
                  <a:srgbClr val="206220"/>
                </a:solidFill>
                <a:latin typeface="隶书"/>
                <a:ea typeface="隶书"/>
              </a:rPr>
              <a:t>的认识，说说你准备为家庭</a:t>
            </a:r>
            <a:r>
              <a:rPr b="0" lang="zh-CN" sz="2800" spc="-1" strike="noStrike">
                <a:solidFill>
                  <a:srgbClr val="7d1569"/>
                </a:solidFill>
                <a:latin typeface="黑体"/>
                <a:ea typeface="黑体"/>
              </a:rPr>
              <a:t>做</a:t>
            </a:r>
            <a:r>
              <a:rPr b="0" lang="zh-CN" sz="2600" spc="-1" strike="noStrike">
                <a:solidFill>
                  <a:srgbClr val="206220"/>
                </a:solidFill>
                <a:latin typeface="隶书"/>
                <a:ea typeface="隶书"/>
              </a:rPr>
              <a:t>些什么以表达对家庭的爱？心动不如行动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796000" y="4653000"/>
            <a:ext cx="50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b2b2b2">
                    <a:alpha val="88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“</a:t>
            </a:r>
            <a:r>
              <a:rPr b="0" lang="zh-CN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b2b2b2">
                    <a:alpha val="88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家”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b2b2b2">
                  <a:alpha val="88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08:02:32Z</dcterms:created>
  <dc:creator>zgb</dc:creator>
  <dc:description/>
  <dc:language>en-US</dc:language>
  <cp:lastModifiedBy>微软用户</cp:lastModifiedBy>
  <dcterms:modified xsi:type="dcterms:W3CDTF">2008-04-21T13:40:10Z</dcterms:modified>
  <cp:revision>18</cp:revision>
  <dc:subject/>
  <dc:title>爱</dc:title>
</cp:coreProperties>
</file>