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DB5-782D-4022-BD68-6A3E96D7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6DC-AD11-4601-B397-130778BB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E87-FECA-4595-B110-8168482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30C-D337-4037-BC10-729EBF62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0450-A6EC-4913-AF9E-1D7A2694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16D-D2FC-477D-ADC4-A2C56E6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3716-A89D-4C59-8E47-E91AAF5F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E349-389F-4DC8-B6ED-A8F894FF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32BB-7D15-4A31-81A0-10DDEAEC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F0A7-1024-47D9-B64A-DE46BCE8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39A7-5A04-4A68-A486-905A9D4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DC0-CC83-4378-8FF8-347FD4D9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DA8A-F59A-495B-BE87-BD9969F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76D-201F-4973-BD3F-16E95C66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71CE-43F9-4F18-B084-8DE1C098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59F4-4FB0-406C-83C6-0B9FCDF0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663-2847-4B34-B25A-0A95AE8E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116-9072-43DA-94F3-D80510C9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C92-50C6-41E5-BB10-3E015AA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558-F0B9-499C-B3F8-2146C9D3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B10-C9D4-42FB-8611-D9EFAF2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CA9-3D76-4D9E-BF3D-2F74F346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FA3-4EF5-499A-9EA3-C6D29377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157-2B51-4DF0-899E-DED77F82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0D0-C652-42A0-A813-A32793FC2AF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2D0C-23B0-4BF3-94D8-053DDFBB429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53388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6243840" cy="2982960"/>
          </a:xfrm>
          <a:prstGeom prst="rect">
            <a:avLst/>
          </a:prstGeom>
          <a:ln w="0">
            <a:noFill/>
          </a:ln>
        </p:spPr>
      </p:pic>
      <p:pic>
        <p:nvPicPr>
          <p:cNvPr id="84" name="u=555626378,684270427&amp;fm=15&amp;gp=0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2286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8600" y="685800"/>
            <a:ext cx="9372600" cy="5105520"/>
            <a:chOff x="228600" y="685800"/>
            <a:chExt cx="9372600" cy="51055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93726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228600" y="685800"/>
              <a:ext cx="93726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7a77"/>
                </a:solidFill>
                <a:latin typeface="Arial"/>
              </a:rPr>
              <a:t>讨论交流：</a:t>
            </a:r>
            <a:endParaRPr b="0" lang="en-US" sz="5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4100" spc="-1" strike="noStrike">
                <a:solidFill>
                  <a:srgbClr val="007a77"/>
                </a:solidFill>
                <a:latin typeface="宋体"/>
              </a:rPr>
              <a:t>诗的四联各写了什么内容</a:t>
            </a:r>
            <a:r>
              <a:rPr b="1" lang="en-US" sz="41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4100" spc="-1" strike="noStrike">
                <a:solidFill>
                  <a:srgbClr val="007a77"/>
                </a:solidFill>
                <a:latin typeface="宋体"/>
              </a:rPr>
              <a:t>四联之间有怎样的关系</a:t>
            </a:r>
            <a:r>
              <a:rPr b="1" lang="en-US" sz="4100" spc="-1" strike="noStrike">
                <a:solidFill>
                  <a:srgbClr val="007a77"/>
                </a:solidFill>
                <a:latin typeface="宋体"/>
              </a:rPr>
              <a:t>? </a:t>
            </a:r>
            <a:endParaRPr b="0" lang="en-US" sz="41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4100" spc="-1" strike="noStrike">
                <a:solidFill>
                  <a:srgbClr val="007a77"/>
                </a:solidFill>
                <a:latin typeface="宋体"/>
              </a:rPr>
              <a:t>哪些诗句直接表达了思乡之情</a:t>
            </a:r>
            <a:r>
              <a:rPr b="1" lang="en-US" sz="41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首联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诗人在船上，想像船到镇江后，还要乘驿车到别处，暗含旅途奔波之劳。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颔联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船上所见景色。“潮平”，两岸才显得宽阔；“风正”，帆才有悬空的态势。“潮平”又为“江春”作铺垫。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颈联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既写景又点明了时令。“残夜”指夜将尽而未尽之际，即将是天亮时的情景，残夜而东方海日已升，旧年而江上已是春天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时间过得太快了，诗人已来，少有此句。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尾联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诗人离家已久，尚不能归，见到此景，自然想到要借雁足来传递家书了。这首五言律诗四联之间，相为因果，浑然一体。 </a:t>
            </a:r>
            <a:br>
              <a:rPr sz="28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尾联直接表达思乡之情。全诗笼罩着一层淡淡的乡思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绪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研读与赏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想像“潮平两岸阔，风正一帆悬’’是怎样的情景。如果你身临其境，将会有怎样的感受 ？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阔”是“潮平”的结果。春潮涌涨，江水浩淼，放眼望去，江面似乎与岸平了。船上的人视野也因之开阔。此句写得恢弘阔大；“风正一帆悬”愈见精彩。“悬”是端端直直高挂着的样子。诗人不用“风顺”而用“风正”，是因为光“风顺”还不足以保证“一帆悬”，风虽顺，却很猛，那帆就鼓成弧形了。只有既是顺风，又是和风，帆才能“悬”，而“正”字兼包“顺”与“和”的内容。可见写景极为传神。全诗和谐优美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2743200"/>
            <a:ext cx="6934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7:00:56Z</dcterms:created>
  <dc:creator/>
  <dc:description/>
  <dc:language>en-US</dc:language>
  <cp:lastModifiedBy>CXPC</cp:lastModifiedBy>
  <dcterms:modified xsi:type="dcterms:W3CDTF">2014-03-06T14:19:5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  <property fmtid="{D5CDD505-2E9C-101B-9397-08002B2CF9AE}" pid="3" name="Version">
    <vt:r8>1</vt:r8>
  </property>
</Properties>
</file>