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gif" ContentType="image/gif"/>
  <Override PartName="/ppt/media/image14.jpeg" ContentType="image/jpe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2F06-E2E7-4621-A2E7-10E10996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F915-87C7-456E-9145-95D5B99C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025-01A6-4BFF-8069-A21CAF19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5FE-7EF3-4FA5-B4B0-91A8F4B5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D9FC-B7B9-4C47-9B4B-CA4E4C9A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81A-40B1-4D4A-AEF4-A93A5A36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8255-166B-4AF0-81E3-56A8FAE9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57AB-83F4-404E-9BAF-59C93DDD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2BFD-00DB-4C16-84C8-A3212225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79B-4139-45F0-8901-906EEEA7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B3F2-1BD8-401C-9716-881CEB27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F1FB-21C0-402D-A0AA-3EC83AAD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4C26-F40E-452D-8D74-693747B6FB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8390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066680" y="533520"/>
            <a:ext cx="2743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盲孩子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33920" y="4191120"/>
            <a:ext cx="4876560" cy="20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他的影子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9880" y="1371600"/>
            <a:ext cx="121932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和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9280" y="1981080"/>
            <a:ext cx="89488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Times New Roman"/>
                <a:ea typeface="黑体"/>
              </a:rPr>
              <a:t>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402680" y="5121360"/>
            <a:ext cx="1293480" cy="1523880"/>
            <a:chOff x="7402680" y="5121360"/>
            <a:chExt cx="1293480" cy="152388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7402680" y="5121360"/>
              <a:ext cx="93132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8169840" y="5730840"/>
              <a:ext cx="526320" cy="43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"/>
          <p:cNvSpPr/>
          <p:nvPr/>
        </p:nvSpPr>
        <p:spPr>
          <a:xfrm>
            <a:off x="150840" y="5121360"/>
            <a:ext cx="7488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4570560"/>
            <a:ext cx="584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9680" y="1644480"/>
            <a:ext cx="898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家一起来说说看，你认为哪些人或者物需要我们的关爱，你选择怎样的方式去关爱他们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0840" y="5121360"/>
            <a:ext cx="83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7920" y="4175280"/>
            <a:ext cx="89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05120" y="343224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19320" y="3962520"/>
            <a:ext cx="968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329600" y="5334120"/>
            <a:ext cx="1798560" cy="1523880"/>
            <a:chOff x="7329600" y="5334120"/>
            <a:chExt cx="1798560" cy="152388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7329600" y="5334120"/>
              <a:ext cx="129528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8396280" y="5943600"/>
              <a:ext cx="731880" cy="43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"/>
          <p:cNvSpPr/>
          <p:nvPr/>
        </p:nvSpPr>
        <p:spPr>
          <a:xfrm>
            <a:off x="539640" y="2565360"/>
            <a:ext cx="8085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5960" y="1585800"/>
            <a:ext cx="323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585800"/>
            <a:ext cx="849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以“爱”为主题选择你一种自己最擅长的表达方式（书法、作文、绘画、雕刻、手工、剪纸、舞蹈、歌曲等）来表达你对爱的理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 rot="772800">
            <a:off x="-22320" y="3958920"/>
            <a:ext cx="764856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让爱永驻心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487440"/>
            <a:ext cx="306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-395280"/>
            <a:ext cx="7010280" cy="1982160"/>
            <a:chOff x="0" y="-395280"/>
            <a:chExt cx="7010280" cy="1982160"/>
          </a:xfrm>
        </p:grpSpPr>
        <p:sp>
          <p:nvSpPr>
            <p:cNvPr id="143" name=""/>
            <p:cNvSpPr/>
            <p:nvPr/>
          </p:nvSpPr>
          <p:spPr>
            <a:xfrm>
              <a:off x="1752480" y="487440"/>
              <a:ext cx="5257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五、作业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4"/>
            <a:stretch/>
          </p:blipFill>
          <p:spPr>
            <a:xfrm>
              <a:off x="0" y="-395280"/>
              <a:ext cx="1752480" cy="1981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624880" y="6378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609480"/>
            <a:ext cx="791856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作业本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课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预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350" dur="indefinite" restart="never" nodeType="tmRoot">
          <p:childTnLst>
            <p:seq>
              <p:cTn id="35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01480" y="2057400"/>
            <a:ext cx="845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盲孩子和他的影子是什么关系？影子的出现使盲孩子的生活发生了什么变化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4191120"/>
            <a:ext cx="8305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7156440" y="5381640"/>
            <a:ext cx="1798560" cy="1523880"/>
            <a:chOff x="7156440" y="5381640"/>
            <a:chExt cx="1798560" cy="152388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7156440" y="5381640"/>
              <a:ext cx="129528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8223120" y="5991120"/>
              <a:ext cx="731880" cy="43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501480" y="3978360"/>
            <a:ext cx="222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333399"/>
                </a:solidFill>
                <a:latin typeface="Times New Roman"/>
                <a:ea typeface="黑体"/>
              </a:rPr>
              <a:t>寂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30520" y="3978360"/>
            <a:ext cx="20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333399"/>
                </a:solidFill>
                <a:latin typeface="Times New Roman"/>
                <a:ea typeface="黑体"/>
              </a:rPr>
              <a:t>快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02320" y="4070520"/>
            <a:ext cx="227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333399"/>
                </a:solidFill>
                <a:latin typeface="Times New Roman"/>
                <a:ea typeface="黑体"/>
              </a:rPr>
              <a:t>伤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156440" y="4191120"/>
            <a:ext cx="142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333399"/>
                </a:solidFill>
                <a:latin typeface="Times New Roman"/>
                <a:ea typeface="黑体"/>
              </a:rPr>
              <a:t>幸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98640" y="3778200"/>
            <a:ext cx="731880" cy="1282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61040" y="3778200"/>
            <a:ext cx="907920" cy="1558800"/>
          </a:xfrm>
          <a:prstGeom prst="rightArrow">
            <a:avLst>
              <a:gd name="adj1" fmla="val 35231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27360" y="3778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67280" y="3978360"/>
            <a:ext cx="731880" cy="915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46160" y="-260280"/>
            <a:ext cx="7010280" cy="1982160"/>
            <a:chOff x="146160" y="-260280"/>
            <a:chExt cx="7010280" cy="1982160"/>
          </a:xfrm>
        </p:grpSpPr>
        <p:sp>
          <p:nvSpPr>
            <p:cNvPr id="60" name=""/>
            <p:cNvSpPr/>
            <p:nvPr/>
          </p:nvSpPr>
          <p:spPr>
            <a:xfrm>
              <a:off x="1898640" y="622440"/>
              <a:ext cx="5257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、整体感知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146160" y="-260280"/>
              <a:ext cx="1752480" cy="1981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38080" y="4191120"/>
            <a:ext cx="8305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56440" y="5229360"/>
            <a:ext cx="1798560" cy="1523880"/>
            <a:chOff x="7156440" y="5229360"/>
            <a:chExt cx="1798560" cy="152388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7156440" y="5229360"/>
              <a:ext cx="129528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8223120" y="5838840"/>
              <a:ext cx="731880" cy="43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2727360" y="3778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136520"/>
            <a:ext cx="799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盲孩子的心情变化，请用一句话来说说这个童话故事。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学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科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网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90720" y="4667400"/>
            <a:ext cx="7824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4960" y="228600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497720" y="5305320"/>
            <a:ext cx="1646280" cy="1523880"/>
            <a:chOff x="7497720" y="5305320"/>
            <a:chExt cx="1646280" cy="1523880"/>
          </a:xfrm>
        </p:grpSpPr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7497720" y="5305320"/>
              <a:ext cx="12956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8412120" y="5991120"/>
              <a:ext cx="731880" cy="43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"/>
          <p:cNvSpPr/>
          <p:nvPr/>
        </p:nvSpPr>
        <p:spPr>
          <a:xfrm>
            <a:off x="990720" y="4667400"/>
            <a:ext cx="7824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-307800"/>
            <a:ext cx="7156440" cy="2013480"/>
            <a:chOff x="0" y="-307800"/>
            <a:chExt cx="7156440" cy="2013480"/>
          </a:xfrm>
        </p:grpSpPr>
        <p:sp>
          <p:nvSpPr>
            <p:cNvPr id="77" name=""/>
            <p:cNvSpPr/>
            <p:nvPr/>
          </p:nvSpPr>
          <p:spPr>
            <a:xfrm>
              <a:off x="1752480" y="606240"/>
              <a:ext cx="5403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二、研读赏析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4"/>
            <a:stretch/>
          </p:blipFill>
          <p:spPr>
            <a:xfrm>
              <a:off x="0" y="-307800"/>
              <a:ext cx="1752480" cy="198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990720" y="1797120"/>
            <a:ext cx="77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看看哪些词句能够具体体现盲孩子的寂寞和伤心。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学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科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网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8640720" y="6426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90720" y="4011480"/>
            <a:ext cx="73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请分别在文中找出能盲孩子感到幸福的句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25320" y="5952960"/>
            <a:ext cx="120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497720" y="5305320"/>
            <a:ext cx="1646280" cy="1523880"/>
            <a:chOff x="7497720" y="5305320"/>
            <a:chExt cx="1646280" cy="152388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7497720" y="5305320"/>
              <a:ext cx="12956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8412120" y="5991120"/>
              <a:ext cx="731880" cy="43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838080" y="3875040"/>
            <a:ext cx="8305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600200"/>
            <a:ext cx="79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5320" y="2940120"/>
            <a:ext cx="1049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7621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影子在给盲孩子带来幸福的同时，自己的生活最后发生了怎样的改变？从盲孩子和影子的前后的改变中得到了什么启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1706040" y="3067200"/>
            <a:ext cx="950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  </a:t>
            </a:r>
            <a:r>
              <a:rPr b="0" lang="zh-CN" sz="6000" spc="-1" strike="noStrike">
                <a:solidFill>
                  <a:srgbClr val="3333cc"/>
                </a:solidFill>
                <a:latin typeface="Times New Roman"/>
                <a:ea typeface="黑体"/>
              </a:rPr>
              <a:t>得到关爱是快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                       </a:t>
            </a:r>
            <a:r>
              <a:rPr b="0" lang="zh-CN" sz="6000" spc="-1" strike="noStrike">
                <a:solidFill>
                  <a:srgbClr val="3333cc"/>
                </a:solidFill>
                <a:latin typeface="Times New Roman"/>
                <a:ea typeface="黑体"/>
              </a:rPr>
              <a:t>关爱他人是幸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5711760"/>
            <a:ext cx="705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4581360"/>
            <a:ext cx="554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238880" y="5025960"/>
            <a:ext cx="1646280" cy="1523880"/>
            <a:chOff x="7238880" y="5025960"/>
            <a:chExt cx="1646280" cy="1523880"/>
          </a:xfrm>
        </p:grpSpPr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238880" y="5025960"/>
              <a:ext cx="12956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8153280" y="5711760"/>
              <a:ext cx="731880" cy="43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"/>
          <p:cNvSpPr/>
          <p:nvPr/>
        </p:nvSpPr>
        <p:spPr>
          <a:xfrm>
            <a:off x="539640" y="2276640"/>
            <a:ext cx="8274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28600" y="-108000"/>
            <a:ext cx="7010280" cy="1981080"/>
            <a:chOff x="228600" y="-108000"/>
            <a:chExt cx="7010280" cy="1981080"/>
          </a:xfrm>
        </p:grpSpPr>
        <p:sp>
          <p:nvSpPr>
            <p:cNvPr id="98" name=""/>
            <p:cNvSpPr/>
            <p:nvPr/>
          </p:nvSpPr>
          <p:spPr>
            <a:xfrm>
              <a:off x="1981080" y="774720"/>
              <a:ext cx="525780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228600" y="-108000"/>
              <a:ext cx="175248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"/>
          <p:cNvSpPr/>
          <p:nvPr/>
        </p:nvSpPr>
        <p:spPr>
          <a:xfrm>
            <a:off x="1900080" y="774720"/>
            <a:ext cx="418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Times New Roman"/>
                <a:ea typeface="黑体"/>
              </a:rPr>
              <a:t>三</a:t>
            </a:r>
            <a:r>
              <a:rPr b="0" lang="zh-CN" sz="6000" spc="-1" strike="noStrike">
                <a:solidFill>
                  <a:srgbClr val="333399"/>
                </a:solidFill>
                <a:latin typeface="Times New Roman"/>
                <a:ea typeface="黑体"/>
              </a:rPr>
              <a:t>.</a:t>
            </a:r>
            <a:r>
              <a:rPr b="0" lang="zh-CN" sz="6000" spc="-1" strike="noStrike">
                <a:solidFill>
                  <a:srgbClr val="333399"/>
                </a:solidFill>
                <a:latin typeface="Times New Roman"/>
                <a:ea typeface="黑体"/>
              </a:rPr>
              <a:t>体验反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54040" y="2276640"/>
            <a:ext cx="499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如果让你来选择，你愿意做文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哪一个角色？说说你的理由。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学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科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网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7329600" y="5334120"/>
            <a:ext cx="1798560" cy="1523880"/>
            <a:chOff x="7329600" y="5334120"/>
            <a:chExt cx="1798560" cy="152388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7329600" y="5334120"/>
              <a:ext cx="129528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8396280" y="5943600"/>
              <a:ext cx="731880" cy="43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0" y="0"/>
            <a:ext cx="7010280" cy="1981080"/>
            <a:chOff x="0" y="0"/>
            <a:chExt cx="7010280" cy="1981080"/>
          </a:xfrm>
        </p:grpSpPr>
        <p:sp>
          <p:nvSpPr>
            <p:cNvPr id="106" name=""/>
            <p:cNvSpPr/>
            <p:nvPr/>
          </p:nvSpPr>
          <p:spPr>
            <a:xfrm>
              <a:off x="1752480" y="882720"/>
              <a:ext cx="525780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5248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395280" y="2192400"/>
            <a:ext cx="84549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70160" y="3930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616280"/>
            <a:ext cx="8202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882720"/>
            <a:ext cx="5213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Times New Roman"/>
                <a:ea typeface="黑体"/>
              </a:rPr>
              <a:t>四、拓展延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841400" y="-76320"/>
            <a:ext cx="5291280" cy="6629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600200" y="-685800"/>
            <a:ext cx="6446880" cy="8001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808280" y="152280"/>
            <a:ext cx="5857920" cy="6629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2036880" y="-304920"/>
            <a:ext cx="5519520" cy="7620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1600200" y="152280"/>
            <a:ext cx="5562720" cy="6400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1600200" y="457200"/>
            <a:ext cx="5257800" cy="6095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2036880" y="457200"/>
            <a:ext cx="5324400" cy="6172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1579680" y="-304920"/>
            <a:ext cx="5553000" cy="6629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 rot="5400000">
            <a:off x="-757080" y="3124080"/>
            <a:ext cx="312444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爱的渴望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1371600" y="-76320"/>
            <a:ext cx="5761080" cy="6629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1600200" y="152280"/>
            <a:ext cx="63705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XPC</cp:lastModifiedBy>
  <dcterms:modified xsi:type="dcterms:W3CDTF">2013-10-29T07:59:33Z</dcterms:modified>
  <cp:revision>9</cp:revision>
  <dc:subject/>
  <dc:title>PowerPoint 演示文稿</dc:title>
</cp:coreProperties>
</file>