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95E-4578-482B-9208-E49C404E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28E-C5A2-4AE6-A943-37A83CC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86C-EA8B-4273-90A6-2202D71C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DEB-ED9A-4EA3-B0D5-3B0CAB41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100-5507-44D5-A31C-2A8D877F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283-4E43-4ADF-8A81-FE4814F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5582-9563-43E6-B25E-3ECDB48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011-4F80-48B3-90BC-7AF82D7C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DE1-9023-4DE9-B6FB-EF49E72A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71F-0545-4E3C-9CA5-C416DB3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DC50-1033-43F4-908E-3BB2925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ABD-8A08-4284-955B-96D6C454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58B-2A4F-48FB-8AF7-4658CDC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0D7C-44AE-4AD2-8E46-2863B4E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3E2E-AA4B-4DE5-9150-0815589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3B8C-AAB8-4827-A658-B8B468B6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2DCE-3181-498E-9518-7DFC60BE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66D-71E4-4D45-BE8E-140AAD7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78C-B2D4-4BEA-A491-9DD99EC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9AF-6357-4B49-AEAF-B2A50432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CCA-B520-4E5E-B21F-9A521B6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E09-B363-42D4-B960-2F1971B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0B2-5093-476A-A902-E4C7A6C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8E3-B89C-49C6-8535-9616CC5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630-B91E-47BB-A15C-3B5CF7A8C92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2644-D5F9-4167-BE43-6377D6CB90A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56386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5829120" cy="3038400"/>
          </a:xfrm>
          <a:prstGeom prst="rect">
            <a:avLst/>
          </a:prstGeom>
          <a:ln w="0">
            <a:noFill/>
          </a:ln>
        </p:spPr>
      </p:pic>
      <p:pic>
        <p:nvPicPr>
          <p:cNvPr id="84" name="dc854fda155909e2b7fd4868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25002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89440" y="1413000"/>
            <a:ext cx="5254560" cy="394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3520" y="990720"/>
            <a:ext cx="8351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1680" y="762120"/>
            <a:ext cx="88423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讨论交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700" spc="-1" strike="noStrike">
                <a:solidFill>
                  <a:srgbClr val="007a77"/>
                </a:solidFill>
                <a:latin typeface="宋体"/>
              </a:rPr>
              <a:t>、诗的四联各写了什么内容</a:t>
            </a:r>
            <a:r>
              <a:rPr b="1" lang="en-US" sz="37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3700" spc="-1" strike="noStrike">
                <a:solidFill>
                  <a:srgbClr val="007a77"/>
                </a:solidFill>
                <a:latin typeface="宋体"/>
              </a:rPr>
              <a:t>从哪些词语可以看出是初春的景色</a:t>
            </a:r>
            <a:r>
              <a:rPr b="1" lang="en-US" sz="3700" spc="-1" strike="noStrike">
                <a:solidFill>
                  <a:srgbClr val="007a77"/>
                </a:solidFill>
                <a:latin typeface="宋体"/>
              </a:rPr>
              <a:t>? </a:t>
            </a:r>
            <a:endParaRPr b="0" lang="en-US" sz="37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700" spc="-1" strike="noStrike">
                <a:solidFill>
                  <a:srgbClr val="007a77"/>
                </a:solidFill>
                <a:latin typeface="宋体"/>
              </a:rPr>
              <a:t>、哪句诗说明诗人已陶醉在美好的湖光山色之中了</a:t>
            </a:r>
            <a:r>
              <a:rPr b="1" lang="en-US" sz="3700" spc="-1" strike="noStrike">
                <a:solidFill>
                  <a:srgbClr val="007a77"/>
                </a:solidFill>
                <a:latin typeface="宋体"/>
              </a:rPr>
              <a:t>? </a:t>
            </a:r>
            <a:endParaRPr b="0" lang="en-US" sz="37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首联：诗人从大处落笔，写行经孤山寺贾亭时看到的山光水色。“初平”，写春水初生，略与堤平。“云脚低”，写白云低垂，与湖水相连，勾出了早春的轮廓。 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颔联：写莺燕，是诗人所见。莺是春的歌手，都争着飞到向阳的树上去歌唱；燕是春的信使，已开始衔泥筑巢，一片生机勃勃之势。颈联：写花草，着重表现诗人的感受。马在浅草地上走得很轻快，看花的时间长了，眼前一片姹紫嫣红，使人目不暇接，会产生迷乱的感觉。 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尾联：直抒胸臆，表达诗人喜悦的心情。“行不足”，是因为看不足，说明诗人流连忘返。 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②“最爱湖东行不足”一句说明诗人流连忘返，已完全陶醉在这美好的湖光山色中了  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7a77"/>
                </a:solidFill>
                <a:latin typeface="宋体"/>
              </a:rPr>
              <a:t>研读与赏析</a:t>
            </a:r>
            <a:endParaRPr b="0" lang="en-US" sz="6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4600" spc="-1" strike="noStrike">
                <a:solidFill>
                  <a:srgbClr val="007a77"/>
                </a:solidFill>
                <a:latin typeface="宋体"/>
              </a:rPr>
              <a:t>学生自主合作探究：“几处”为什么不是“处处”，“谁家”为什么不是“家家”</a:t>
            </a:r>
            <a:r>
              <a:rPr b="1" lang="en-US" sz="4600" spc="-1" strike="noStrike">
                <a:solidFill>
                  <a:srgbClr val="007a77"/>
                </a:solidFill>
                <a:latin typeface="宋体"/>
              </a:rPr>
              <a:t>? 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诗人对周围事物的选择是典型的。莺是歌手，燕是春的信使。只因是初春，故不是处处，不是家家。从这莺和燕的动态中，把春的活力，大自然从秋冬沉睡中苏醒过来的春意生动地描绘出来，使人可以想像出，过不多久，姹紫嫣红开遍，草长莺飞的景色就会到来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7:00:56Z</dcterms:created>
  <dc:creator/>
  <dc:description/>
  <dc:language>en-US</dc:language>
  <cp:lastModifiedBy>CXPC</cp:lastModifiedBy>
  <dcterms:modified xsi:type="dcterms:W3CDTF">2014-03-06T14:21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