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CD6-809E-4B82-9EE4-F5A26956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2914-1479-448E-9E0D-C335BEA7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90C-EC0C-4206-81C2-B88D4017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B96B-7631-47E0-A886-B4DB8E0C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1BC9-A97B-4102-878D-7EA3A5E5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67C0-E108-4936-B33C-48DBBB40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D9F2-2795-41B5-975D-A63FB98D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A1CD-C4F5-4E33-BA3F-7B379104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4B3A-C422-4682-8934-9E061D99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4F64-18C8-4B1A-998D-50A9C738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8BCD-A7B9-4914-B0A5-88947389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C25B-6959-431A-B0AA-F9123405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FC46-A22A-48CD-ADA8-435F099A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082D-32F6-4772-B582-ED3CE2EC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A387-87F2-44CC-93FF-49438192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0F7B-73AE-4DF6-BD68-AF691098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24BF-E5F5-48A1-AF15-B7CCE0E0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64AE-0F4B-490E-9104-6D6191F8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530-3EFE-4306-9BBA-127197A9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1CA5-D468-4CD8-B316-9744D22F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1602-A446-402D-B52A-CB0AC4D0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3B35-D0FE-4155-89EC-24404B95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2167-E53E-43CE-8391-0253F46C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2530-E00B-440B-8ED3-9710ED81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6067-956B-4968-A714-28FEE6454395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1D57-CD20-47DC-A6E7-94C0FB2C3F80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7772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819520" y="2362320"/>
            <a:ext cx="5771880" cy="2939760"/>
          </a:xfrm>
          <a:prstGeom prst="rect">
            <a:avLst/>
          </a:prstGeom>
          <a:ln w="0">
            <a:noFill/>
          </a:ln>
        </p:spPr>
      </p:pic>
      <p:pic>
        <p:nvPicPr>
          <p:cNvPr id="84" name="24a0767440824334b86e85c380bece43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228600" y="1981080"/>
            <a:ext cx="23814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4267080" cy="4190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>
            <a:grayscl/>
          </a:blip>
          <a:srcRect l="0" t="0" r="0" b="8351"/>
          <a:stretch/>
        </p:blipFill>
        <p:spPr>
          <a:xfrm>
            <a:off x="3290760" y="1341360"/>
            <a:ext cx="585324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6560" y="1143000"/>
            <a:ext cx="8209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作品中前三行全写景，人物未出场，但每一个景物细节都意味着他的存在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枯藤，老树，昏鸦，小桥，流水，人家，是主人公眼中的景物，景物紧紧扣着“情”；古道，是他的行经路；瘦马，是他所骑；而西风，也正吹在他身上，透着一种悲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仅仅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8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个字，一个长期漂流他乡的游子的悲哀就这样淋漓尽致地表现出来，文字不多，然而思乡之情却绵绵柔长，缠绕在读者心头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5486400" cy="685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6124680" cy="990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7772400" cy="838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0" y="3200400"/>
            <a:ext cx="8153280" cy="914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0" y="4114800"/>
            <a:ext cx="883908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0" y="5029200"/>
            <a:ext cx="9144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7:00:56Z</dcterms:created>
  <dc:creator/>
  <dc:description/>
  <dc:language>en-US</dc:language>
  <cp:lastModifiedBy>CXPC</cp:lastModifiedBy>
  <dcterms:modified xsi:type="dcterms:W3CDTF">2014-03-06T14:54:4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89</vt:lpwstr>
  </property>
  <property fmtid="{D5CDD505-2E9C-101B-9397-08002B2CF9AE}" pid="3" name="Version">
    <vt:r8>1</vt:r8>
  </property>
</Properties>
</file>