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setup0.wav" ContentType="audio/x-wav"/>
  <Override PartName="/ppt/media/image6.jpeg" ContentType="image/jpeg"/>
  <Override PartName="/ppt/media/image13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A00-354F-48AD-8380-A28647CF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E5C-2625-4C82-B0B8-04681620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806-FFD1-455D-B9A1-3EA6A126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402-05BF-427A-A5AD-9F6D5309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21BD-0147-4F5F-847D-431A73DE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8A57-DB74-452A-AFA9-D02B55C6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AFDD-DE35-4417-BCF2-51A0761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8296-6FE2-45E8-89CC-23D81749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0309-83F1-4A4E-B6DB-322674AA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91D7-A5D0-4E4D-B1F0-56066AB5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8D8F-4BE7-49B9-B7A4-16A092F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F01-FBFA-401E-A1CA-F813A79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B35D-4A27-432C-9AE3-1D97BC03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34D5-968C-4C69-9CF9-3119DC76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E011-5E43-41CB-8EF7-03496EF1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60BC-881B-4176-8DBA-2C47DAB6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4E30-7657-484A-B7AB-B915416A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DDD-9F7C-4FF1-9D6A-1B4353FB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284-EC30-449F-ACA9-4B8B7C1F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BB3-05F1-4194-B357-918BE130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BEC-58B8-48B7-ABDC-6EC506DC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EAD-BA31-416B-88CF-4C13A3D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048-D641-4BB2-BC97-535D3A9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56F-ACB3-4705-8291-B5689252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A71D-5836-4184-B980-F873E9D5F1C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856D-9EBC-4916-AFE8-E7476ACFAC0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setup0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.jpeg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华文新魏"/>
              </a:rPr>
              <a:t>关于童话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931120"/>
            <a:ext cx="86788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童话是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儿童文学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一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这种作品通过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丰富的想像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、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幻想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夸张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来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塑造形象，反映生活，对儿童进行思想教育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语言通俗、生动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故事情节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往往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离奇曲折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引人入胜。童话又往往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采用拟人的方法</a:t>
            </a:r>
            <a:r>
              <a:rPr b="0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举凡鸟兽虫鱼，花草树木，整个大自然以及家具、玩具都可赋予生命，注入思想感情，使它们人格化。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概述皇帝的特点：爱新装成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服装费用：不惜倾其所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心思兴趣：最爱炫耀新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换衣次数：每一天每点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引子：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3860640"/>
            <a:ext cx="4825800" cy="2997360"/>
          </a:xfrm>
          <a:prstGeom prst="cloudCallout">
            <a:avLst>
              <a:gd name="adj1" fmla="val -52236"/>
              <a:gd name="adj2" fmla="val -6514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用夸张的手法突出皇帝荒唐昏庸的程度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骗子投饵诱皇帝上钩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布的色彩和图案：分外美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布的特性：神奇怪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6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开端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3716280"/>
            <a:ext cx="5257800" cy="2376720"/>
          </a:xfrm>
          <a:prstGeom prst="wedgeRectCallout">
            <a:avLst>
              <a:gd name="adj1" fmla="val -96194"/>
              <a:gd name="adj2" fmla="val -8526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用想象手法写骗子如何诱皇帝上当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分别写出两大臣和皇帝看衣时的表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心理：都怕别人知道自己看不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神态：装模作样地看了又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言行：点头赞美“真是美极了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发展：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3357720"/>
            <a:ext cx="5400720" cy="3095640"/>
          </a:xfrm>
          <a:prstGeom prst="wedgeEllipseCallout">
            <a:avLst>
              <a:gd name="adj1" fmla="val -90768"/>
              <a:gd name="adj2" fmla="val -4815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表里不一、虚伪与后面小孩的天真无邪形成鲜明对比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皇帝穿新衣游行的情形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动作：扭了又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心理：让别人觉得确有新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高潮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3284640"/>
            <a:ext cx="5112000" cy="2663640"/>
          </a:xfrm>
          <a:prstGeom prst="wedgeRoundRectCallout">
            <a:avLst>
              <a:gd name="adj1" fmla="val -78231"/>
              <a:gd name="adj2" fmla="val -67879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丑态百出，自欺欺人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新衣真面目被揭穿，皇帝及其官员丑态毕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揭穿人物：小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揭穿原因：天真单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揭穿方式：私下传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皇帝表现：发抖又摆傲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结局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3933720"/>
            <a:ext cx="5580000" cy="2664000"/>
          </a:xfrm>
          <a:prstGeom prst="cloudCallout">
            <a:avLst>
              <a:gd name="adj1" fmla="val -89486"/>
              <a:gd name="adj2" fmla="val -4499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表明皇帝及大臣的昏庸、愚蠢、虚伪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华文彩云"/>
              </a:rPr>
              <a:t>皇帝的新装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35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通过对人物的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心理活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语言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动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等描写来塑造人物形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运用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想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夸张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写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童话的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特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0" y="2622600"/>
            <a:ext cx="41846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735360" y="304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皇帝的新装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38280" y="838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（丹麦）安徒生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2600" y="14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线索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34400" y="144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人物动作心理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1080" y="14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性格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1280" y="14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情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38920" y="14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特点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328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爱新装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328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做新装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3280" y="396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看新装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3280" y="4876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穿新装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3280" y="5791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说新装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7604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换衣服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26720" y="30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奇怪特性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68200" y="4876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脱转扭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52360" y="3581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睁大眼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10680" y="396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看了又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5236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仔细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79640" y="57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叫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97000" y="624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更骄傲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2580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爱虚荣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108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愚蠢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108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虚伪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1080" y="44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愚昧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2120" y="487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自欺欺人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92120" y="579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天真无邪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2120" y="6248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装模作样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128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引子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128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开端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128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发展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960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高潮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1280" y="601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结局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38920" y="3429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想像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夸张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51000" y="2666880"/>
            <a:ext cx="0" cy="457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51000" y="3505320"/>
            <a:ext cx="0" cy="457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1000" y="4419720"/>
            <a:ext cx="0" cy="457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1000" y="5334120"/>
            <a:ext cx="0" cy="457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84520" y="243828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41920" y="243828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84520" y="327672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08200" y="3885840"/>
            <a:ext cx="228600" cy="228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30160" y="4233240"/>
            <a:ext cx="234360" cy="8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09280" y="4341600"/>
            <a:ext cx="226440" cy="2307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2000" y="3654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老大臣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19240" y="4035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官员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28600" y="4416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皇帝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17880" y="3809880"/>
            <a:ext cx="990720" cy="76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070520" y="3962160"/>
            <a:ext cx="761760" cy="228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94200" y="327672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7880" y="4648320"/>
            <a:ext cx="9144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17880" y="5105520"/>
            <a:ext cx="9144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1920" y="6019920"/>
            <a:ext cx="9144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7880" y="6477120"/>
            <a:ext cx="9144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27920" y="6019920"/>
            <a:ext cx="30456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131160" y="6318360"/>
            <a:ext cx="298080" cy="1648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2590920"/>
            <a:ext cx="0" cy="5331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13720" y="3505320"/>
            <a:ext cx="0" cy="5331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4495680"/>
            <a:ext cx="0" cy="3812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3720" y="5334120"/>
            <a:ext cx="0" cy="6094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94400" y="3276720"/>
            <a:ext cx="838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18080" y="3962520"/>
            <a:ext cx="914400" cy="228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525640" y="4372200"/>
            <a:ext cx="898200" cy="3042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46680" y="2438280"/>
            <a:ext cx="6858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66764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187280" y="0"/>
            <a:ext cx="7201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9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彩云"/>
              </a:rPr>
              <a:t>卖火柴的小女孩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11280" y="981000"/>
            <a:ext cx="5560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</a:rPr>
              <a:t>皇帝的新装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1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300720" y="220500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安徒生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69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7360" y="382680"/>
            <a:ext cx="3859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安徒生出生于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丹麦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一个贫苦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的鞋匠家庭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他一生未婚，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经过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艰苦努力，一生共写了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多篇杰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出的童话作品，他的作品被译成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多种语言，成为世界著名的儿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童文学家。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新魏"/>
              </a:rPr>
              <a:t>1827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年发表第一首诗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垂死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的小孩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》，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其中《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丑小鸭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《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卖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火柴的小女孩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《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皇帝的新装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海的女儿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等是其有名的作品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　　安徒生的童话故事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想象丰富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思想深刻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充满诗意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引人入胜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体现了丹麦文学中的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民族传统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现实主义倾向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8760" y="835920"/>
            <a:ext cx="3044880" cy="5621400"/>
            <a:chOff x="158760" y="835920"/>
            <a:chExt cx="3044880" cy="56214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 flipH="1">
              <a:off x="158760" y="1585800"/>
              <a:ext cx="3044880" cy="38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86360" y="5662440"/>
              <a:ext cx="1805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华文新魏"/>
                </a:rPr>
                <a:t>　安徒生</a:t>
              </a:r>
              <a:endParaRPr b="0" lang="en-US" sz="2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（</a:t>
              </a: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1805—1875</a:t>
              </a: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0560" y="835920"/>
              <a:ext cx="29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Hans Christian Andersen </a:t>
              </a:r>
              <a:endParaRPr b="0" lang="en-US" sz="1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83664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注意下边加点字的读音和写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989000"/>
            <a:ext cx="73152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炫耀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         )      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滑稽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陛下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   </a:t>
            </a:r>
            <a:r>
              <a:rPr b="0" lang="zh-CN" sz="1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     )      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头衔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称职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         )      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自称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御聘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         )      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赏赐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057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xu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à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24600" y="206064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jī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075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b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ì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048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xi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á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n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4114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ch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è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ch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ng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105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y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Ù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p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ì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n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5029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方正舒体"/>
              </a:rPr>
              <a:t>c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ì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743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743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36576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7242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7913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58006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573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228600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4292640"/>
            <a:ext cx="1522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4724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471240" y="0"/>
            <a:ext cx="1658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484360" y="260280"/>
            <a:ext cx="446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分角色朗读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9280" y="1628640"/>
            <a:ext cx="1600200" cy="2274840"/>
            <a:chOff x="179280" y="1628640"/>
            <a:chExt cx="1600200" cy="227484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79280" y="162864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79280" y="3382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79640" y="1700280"/>
            <a:ext cx="1676160" cy="2274840"/>
            <a:chOff x="1979640" y="1700280"/>
            <a:chExt cx="1676160" cy="227484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979640" y="17002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408040" y="34545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老大臣</a:t>
              </a:r>
              <a:endParaRPr b="0" lang="en-US" sz="2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780000" y="1700280"/>
            <a:ext cx="1447560" cy="2274840"/>
            <a:chOff x="3780000" y="1700280"/>
            <a:chExt cx="1447560" cy="227484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3780000" y="1700280"/>
              <a:ext cx="14475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866760" y="3454560"/>
              <a:ext cx="12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大臣</a:t>
              </a:r>
              <a:endParaRPr b="0" lang="en-US" sz="2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003640" y="4221000"/>
            <a:ext cx="3911760" cy="2303640"/>
            <a:chOff x="5003640" y="4221000"/>
            <a:chExt cx="3911760" cy="2303640"/>
          </a:xfrm>
        </p:grpSpPr>
        <p:graphicFrame>
          <p:nvGraphicFramePr>
            <p:cNvPr id="131" name=""/>
            <p:cNvGraphicFramePr/>
            <p:nvPr/>
          </p:nvGraphicFramePr>
          <p:xfrm>
            <a:off x="5003640" y="4221000"/>
            <a:ext cx="3073680" cy="2303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03640" y="4221000"/>
                      <a:ext cx="3073680" cy="23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7760160" y="4292640"/>
              <a:ext cx="115524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Arial"/>
                </a:rPr>
                <a:t>两个骗子</a:t>
              </a:r>
              <a:endParaRPr b="0" lang="en-US" sz="3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164360" y="1700280"/>
            <a:ext cx="1676160" cy="2349360"/>
            <a:chOff x="7164360" y="1700280"/>
            <a:chExt cx="1676160" cy="2349360"/>
          </a:xfrm>
        </p:grpSpPr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7164360" y="1700280"/>
              <a:ext cx="16761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92760" y="35290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老百姓</a:t>
              </a:r>
              <a:endParaRPr b="0" lang="en-US" sz="2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292720" y="1700280"/>
            <a:ext cx="1752480" cy="2349360"/>
            <a:chOff x="5292720" y="1700280"/>
            <a:chExt cx="1752480" cy="2349360"/>
          </a:xfrm>
        </p:grpSpPr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5330880" y="170028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292720" y="35290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骑士</a:t>
              </a:r>
              <a:endParaRPr b="0" lang="en-US" sz="2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95280" y="4292640"/>
            <a:ext cx="4118040" cy="2376360"/>
            <a:chOff x="395280" y="4292640"/>
            <a:chExt cx="4118040" cy="2376360"/>
          </a:xfrm>
        </p:grpSpPr>
        <p:graphicFrame>
          <p:nvGraphicFramePr>
            <p:cNvPr id="141" name=""/>
            <p:cNvGraphicFramePr/>
            <p:nvPr/>
          </p:nvGraphicFramePr>
          <p:xfrm>
            <a:off x="395280" y="4292640"/>
            <a:ext cx="3228840" cy="2376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95280" y="4292640"/>
                      <a:ext cx="322884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3784320" y="4437000"/>
              <a:ext cx="72900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小孩子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4480" y="33300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794f"/>
                </a:solidFill>
                <a:latin typeface="Arial"/>
                <a:ea typeface="华文新魏"/>
              </a:rPr>
              <a:t>找出在故事情节发展中起着关键的作用的语句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3160" y="1628640"/>
            <a:ext cx="54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　　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任何不称职的或愚蠢得不可救药的人，都看不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这衣服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”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57720"/>
            <a:ext cx="8964720" cy="2653560"/>
          </a:xfrm>
          <a:prstGeom prst="rect">
            <a:avLst/>
          </a:prstGeom>
          <a:solidFill>
            <a:srgbClr val="edfca2">
              <a:alpha val="70000"/>
            </a:srgbClr>
          </a:solidFill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　　这句话，在故事情节发展中起着关键的推动作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用。骗子胡说那衣服具有这样一种“奇怪的特性”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不但抓住了皇帝的昏庸荒政而又想辨别出官员是否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称职、是聪明还是愚蠢，以求保住皇位的心理，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且抓住了大臣们只想保住官位的心理，因而骗术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步行通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635280" y="3068640"/>
            <a:ext cx="1905120" cy="1752480"/>
            <a:chOff x="3635280" y="3068640"/>
            <a:chExt cx="1905120" cy="1752480"/>
          </a:xfrm>
        </p:grpSpPr>
        <p:sp>
          <p:nvSpPr>
            <p:cNvPr id="148" name=""/>
            <p:cNvSpPr/>
            <p:nvPr/>
          </p:nvSpPr>
          <p:spPr>
            <a:xfrm>
              <a:off x="3746520" y="3068640"/>
              <a:ext cx="1676160" cy="175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35280" y="3119400"/>
              <a:ext cx="1905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7a77"/>
                  </a:solidFill>
                  <a:latin typeface="Times New Roman"/>
                  <a:ea typeface="仿宋_GB2312"/>
                </a:rPr>
                <a:t>骗</a:t>
              </a:r>
              <a:endParaRPr b="0" lang="en-US" sz="9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211640" y="1557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小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500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皇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59640" y="357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大臣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2276640"/>
            <a:ext cx="7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2349360"/>
            <a:ext cx="8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揭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858920" y="2133720"/>
            <a:ext cx="576360" cy="884160"/>
          </a:xfrm>
          <a:prstGeom prst="line">
            <a:avLst/>
          </a:prstGeom>
          <a:ln w="7632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40280" y="321300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助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651280" y="4003560"/>
            <a:ext cx="1081080" cy="1800"/>
          </a:xfrm>
          <a:prstGeom prst="line">
            <a:avLst/>
          </a:prstGeom>
          <a:ln w="7632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068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受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4365720"/>
            <a:ext cx="1033560" cy="1440"/>
          </a:xfrm>
          <a:prstGeom prst="line">
            <a:avLst/>
          </a:prstGeom>
          <a:ln w="7632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573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百姓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501336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传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788000" y="4868640"/>
            <a:ext cx="20520" cy="957240"/>
          </a:xfrm>
          <a:prstGeom prst="line">
            <a:avLst/>
          </a:prstGeom>
          <a:ln w="7632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404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这篇课文的情节围绕一个“骗”字展开，请同学们说说文中各种人物是怎样围绕这个“骗”字进行活动的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5:39:35Z</dcterms:created>
  <dc:creator>rocch</dc:creator>
  <dc:description/>
  <dc:language>en-US</dc:language>
  <cp:lastModifiedBy>CXPC</cp:lastModifiedBy>
  <dcterms:modified xsi:type="dcterms:W3CDTF">2013-10-29T08:00:30Z</dcterms:modified>
  <cp:revision>63</cp:revision>
  <dc:subject/>
  <dc:title>皇帝的新装</dc:title>
</cp:coreProperties>
</file>