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0B2-2F8E-4614-A68A-346045C0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96F-1FFE-4CCA-8EC4-FEBEDF0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BBE-3222-40C8-A068-3F4D7637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CCE-B073-4F13-A141-73EDAD4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2E92F-DEA3-49F1-B37C-106EDD64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7EE8-F92B-4C0E-B7E4-7345E28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75B7-F9A0-447B-BF34-0C54D7C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C35DC-B8C9-41EF-9DD0-0DA6135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60015-D270-48F6-84D7-FFFBC75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76AA-2F09-4B80-BB8C-871750C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ED536-CAE5-4EBA-9E69-D360B058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5ED-7039-4828-A7F4-3A6A9B2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391D6-CDCA-449C-A63C-6B6DEDA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B821F-6728-463C-9F83-60AB897D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74A51-852F-4DFF-8A92-0B6F96B3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212F-0F63-40CD-A225-2D21CFE4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8DEA9-5754-44C4-A405-4FDD275C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538-6F39-4566-9D01-178BEE7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845-DC1F-41FA-A55E-5A05F83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615-6C44-45E6-BC7E-5EF11D6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E07-E4E7-4F88-925A-760856F4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5EF-21E6-47AB-8626-BBF56083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8D1-DB0B-4648-B6EE-11EF79B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10A-306B-47CE-95B2-7A82578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215F-82FC-4315-80AB-F44E4DBA687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CE6-5653-49DD-9793-D9BDBEB43E5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00200" y="1143000"/>
            <a:ext cx="64008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课题学习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设计制作长方体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形状的包装纸盒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31920" y="1294560"/>
            <a:ext cx="25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评价、小结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8972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你对你的作品以及其他人的作品有何评价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在制作包装盒的过程中你有什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收获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27040" y="2285280"/>
            <a:ext cx="800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制作立体图形的主要方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先把这个立体图形转化为平面图形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平面展开图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），再转化为立体图形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折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2760" y="1143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小结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86000" y="1905120"/>
            <a:ext cx="43434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谢谢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2133720" cy="198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971800" y="3657600"/>
            <a:ext cx="2514600" cy="187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486400" y="3868560"/>
            <a:ext cx="2409840" cy="145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日常生活中，我们经常可以看到各种各样的长（正）方体形状的包装盒，如粉笔盒、文具盒、牙膏盒等（如下图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19240" y="1797840"/>
            <a:ext cx="53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活动名称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设计制作长方体形状的纸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4375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方法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观察、讨论、动手制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27840" y="914040"/>
            <a:ext cx="24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活动主要内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200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材料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厚（硬）纸板、直尺、裁纸刀、剪刀、胶  水、彩笔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495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准备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收集一些长方体形状的包装盒，如墨水瓶盒、粉笔盒、饼干盒、牛奶包装盒、牙膏盒等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52680" y="1294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分组活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418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～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人为一组，各组确定所要设计制作的包装盒的类别，明确分工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09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活动步骤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048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观察、讨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0047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观察作为参考物的包装盒，分析其各面、各棱的大小与位置关系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768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拆开盒子，把它铺平，得到表面展开图；观察它的形状，找出对应长方体各面的相应部分；度量各部分的尺寸，找出其中的相等关系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把表面展开图复原为包装盒，观察它是如何折叠并粘到一起的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876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多拆、装几个包装盒，注意它们的共同特征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821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经过讨论，确定本组的设计方案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227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先在一张软纸上画出包装盒表面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图的草图，简单设计一下，裁纸、折叠，观察效果．如果发生问题，调整原来的设计，知道达到满意的初步设计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81296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设计制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6520" y="2359440"/>
            <a:ext cx="505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在硬纸板上，按照初步设计，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包装盒的表面展开图，注意要预留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粘合处，并要减去适当的棱角．在表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展开图上进行图案与文字的美术设计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94600" y="1295280"/>
            <a:ext cx="35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裁下表面展开图、折叠并粘好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处，得到长方体包装盒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9663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各组展示本组的作品，并介绍设计思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制作过程．讨论本组的作品，重点探究以下问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制成的包装盒是否是长方体？若不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是哪个地方出项了问题？如何改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从使用性上看，包装盒形状、尺寸是否合理？用料是否节省？是否需要改进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包装盒的外观设计是否美观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对平面图形与立体图形的联系有哪些新认识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2280" y="7621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交流、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15T09:19:52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