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9D7-BAFA-426A-9987-D86F9E28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854064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2680"/>
            <a:ext cx="854064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A12-E675-49AA-8A35-B18E1DAD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F2E-F1CA-4F25-A8A8-2EE2A123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104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104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268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268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268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7DB4-AB93-478A-A0D4-48DDAD9A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FB57-03C7-4E40-824D-86B0E4E1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1040"/>
            <a:ext cx="8540640" cy="42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6E7F-9E76-44AB-ABF0-F3FC40DA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854064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B0CE-6DBD-417D-A5F7-28DBE5C0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0C6F-ABE2-4D7B-B14E-D8128EF0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C340-72B5-4898-98EE-1FB89E1A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3159-EA7F-430E-9A77-354F9D17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B8ED-02DC-44B4-BB43-292203C4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1040"/>
            <a:ext cx="8540640" cy="42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A2FA-5C68-4D19-B807-2A21607B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ED8C-CA36-46EF-955A-0D225DAB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2680"/>
            <a:ext cx="854064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968A-E6B7-477A-B443-8A4A07F9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854064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2680"/>
            <a:ext cx="854064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B686-1C3D-4BD2-A064-5565BFC3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865A-5969-444B-863F-7603FC76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104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104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268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268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268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40F3-2ED6-494A-97B2-B741BA5C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854064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FC54-8A88-40E6-B289-A0D18D62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381F-2ACF-4BF7-860C-0868725D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85C-EC53-4B63-A22F-571A2845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857-1132-4A0B-B956-ADEA83B0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C14-933C-40C4-96B8-764FFD98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7432-D05E-4EB4-ABE5-65E06E49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2680"/>
            <a:ext cx="854064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5E4-CF83-4BBE-AD5A-85AB81B1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1040"/>
            <a:ext cx="854064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3004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9F82-9E03-4515-A6F4-BEED8B48A6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B631-6CA0-4573-844F-179664DAD43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1680" y="1751040"/>
            <a:ext cx="854064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课题学习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设计制作长方体形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的包装纸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23000" y="2419200"/>
            <a:ext cx="47246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自己设计制作一个正六棱柱形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底面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条边相等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角都相等的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边形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侧面都是长方形）的包装盒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自己设计制作一个圆柱形的包装纸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3240" y="1349280"/>
            <a:ext cx="18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5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巩固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本课提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8200" y="1530360"/>
            <a:ext cx="821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节课重点是通过一个具体的数学实践活动，设计制作长方体形状的包装纸盒，进一步丰富同学们对现实空间及图形的认识，培养同学们动手实践能力，发展同学们的推理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524640"/>
            <a:ext cx="660600" cy="24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72160" y="2832840"/>
            <a:ext cx="45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活动名称：设计制作长方体形状的包装纸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379224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法：观察、讨论、动手设计制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材料：厚（硬）纸板、直尺、裁纸刀、剪刀、胶  水、彩笔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准备：收集一些长方体形状的包装盒，如墨水瓶盒、粉笔盒、饼干盒、牛奶包装盒、牙膏盒等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54920" y="144684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活动内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1169640"/>
            <a:ext cx="792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．观察、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人为一组，各组确定所要设计制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包装盒的类别，明确分工．（这里以墨水瓶盒为例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54936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活动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55200" y="1054080"/>
            <a:ext cx="4370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观察作为参考物的包装盒，分析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各面、各棱的大小与位置关系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拆开盒子，把它铺平，得到表面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开图；观察它的形状，找出对应长方体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面的相应部分；度量各部分的尺寸，找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的相等关系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把表面展开图复原为包装盒，观察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如何折叠并粘到一起的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多拆、装几个包装盒，注意它们的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同特征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经过讨论，确定本组的设计方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79160" y="475200"/>
            <a:ext cx="4569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．设计制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先在一张软纸上画出包装盒表面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开图的草图，简单设计一下，裁纸、折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效果．如果发生问题，调整原来的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，知道达到满意的初步设计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3068640"/>
            <a:ext cx="81374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在硬纸板上，按照初步设计，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好包装盒的表面展开图，注意要预留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粘合处，并要减去适当的棱角．在表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图上进行图案与文字的美术设计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75120" y="2056320"/>
            <a:ext cx="317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裁下表面展开图、折叠并粘好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合处，得到长方体包装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4572000" cy="2924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705720" y="388620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40920" y="1845720"/>
            <a:ext cx="463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各组展示本组的作品，并介绍设计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制作过程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讨论本组的作品，重点探究以下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制成的包装盒是否是长方体？若不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哪个地方出现了问题？如何改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从使用性上看，包装盒形状、尺寸是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？用料是否节省？是否需要改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包装盒的外观设计是否美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对平面图形与立体图形的联系有哪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认识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38560" y="69228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．交流、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270680" y="1798200"/>
            <a:ext cx="8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．评价、小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08800" y="2970720"/>
            <a:ext cx="572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你对你的作品以及其他人的作品有何评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在制作包装盒的过程中你有什么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5:12:11Z</dcterms:created>
  <dc:creator>贺宏伟</dc:creator>
  <dc:description/>
  <dc:language>en-US</dc:language>
  <cp:lastModifiedBy>微软用户</cp:lastModifiedBy>
  <dcterms:modified xsi:type="dcterms:W3CDTF">2012-07-16T02:04:48Z</dcterms:modified>
  <cp:revision>151</cp:revision>
  <dc:subject/>
  <dc:title>幻灯片 1</dc:title>
</cp:coreProperties>
</file>